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ftr" idx="2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 type="sldNum" idx="2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FFC00E7-CF4E-4B28-8900-11F263381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AB4ABBB-7F97-4AB3-A728-9A225212CEEE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6A313F6-964B-493A-A715-10548B74424F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9319B63-A55E-42A0-9FE2-6AD3D7E89B5C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BA432E1-1BF9-4337-A104-3367B4068995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2419A11-5E5B-4DAD-BF6D-98AA3C0E2D63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8C877BD-C98A-41DC-B1AD-0CC4DFBEF87A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50F9909-3E98-4452-8161-DBFB7B581EC4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D04A9C5-5DBA-470F-A836-B1AE16BE2E98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AC60965-3BD0-405B-A650-C1C7E1419AC0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32C2EDE-0274-444F-856A-417E78CE6E53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37490E8-1D9A-4967-B8DD-B38823E3140A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5196FF6-D741-49F4-9BDD-8CCF9971A31C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2A07906-2E80-4B4A-99CA-C5AC58A3C79D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5FE9261-076F-4B8C-8046-6D8F313D5591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B2A2572-212F-479C-9390-8DF82A2DBA96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707AD8A-7C5A-4ADF-80BE-02E3E220E993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5985C01-5CA2-4593-BFD1-2D6B467E851B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A237-7A43-4C4D-A413-4823411E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9407-A59C-4100-95FC-2B5FC7D1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B881-8637-4086-931F-5F50254C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6BEE-D838-4970-843C-60F4B688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EB10-AB33-40D7-A922-FCA3BF47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99C0-428E-43ED-AE68-3D317959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2D2D-022D-4295-BAD4-1A259EF6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EF11-C9E2-41E3-AE82-32594516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6F35-C254-4492-B857-A5E38BE5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24F3-BE23-4B0B-8785-34C5C521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1F87-0DDB-4807-ABCF-5FC30B38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46B8-70C6-4188-8A50-446AE57F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6D81-45CC-4837-A6B1-080A03E5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5B46-9356-41AF-AB6F-0012A728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34F8-A3D7-4FB4-8168-D7620D1D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98F7-6508-479E-AE85-76BD78FB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0E11-CDB6-4B0D-B220-2D634BD4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08E1F-713B-46DB-81C2-555D69D1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B3E49-1224-498F-ADFD-09660BB0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B6EED-4B2B-4E67-BED7-2C0B6AB6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CA960-0F58-4D25-A5BB-56E4B59E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FC2BF-A962-4ACB-8E18-F7D52740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55AF-A631-42DB-B8AC-DD50231A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7AB6A-B7DD-4DBE-A579-9662127D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236FE-D696-42C1-AB4D-222DF918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00B0C-520F-4CFB-90E8-4B2F207B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56002-A4F1-4DBF-8B28-7C470C2D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6F0FB-1103-4298-8DB8-5AA68A30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8D89D-DEA4-427F-863A-50CAEFD1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8D3BC-4F6E-4C93-9C8E-A0D3622D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38F88-A315-475D-BBB9-A97B284F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7EF11-30B3-4945-8E29-79BD2415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03684-1C70-408E-903E-9019219F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6B63-33FC-473A-854C-7C95DFAA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479D3-FDAC-46B5-9547-49A2FFE8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96E13-713F-41AC-81FE-B3E920A0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E3379-2EBA-4EF3-946E-276366EF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70373-A906-47C8-BE48-D00D4C09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585A4-71A4-42E7-9835-2D44342E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0195C-20E5-42A4-B5DC-1C54D250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51199-6D0A-4CC3-BA6E-F29A0844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0AB94-7BD8-44A3-ADE3-78D765D3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640FD-6CA6-4403-8B5E-CA5C88273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39AFD-3B8F-4E9E-B6EE-0535E10F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DF9D-6EFF-4B0A-A0A2-DB3C8AD8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D9B34-8DCD-4644-A4EC-3619D433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F65C3-BBF4-4F53-A948-62780DF0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CBDCE-B943-48DC-AAEA-EA388DED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1913A-7AFA-4BAF-9C66-A67BE974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68877-1BB0-435C-A708-B8A9EDB6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0E773-3249-4AAB-B644-A8A0965F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7C8EB-F403-4098-BA01-200137E4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2BFFA-9E19-4DDC-928A-998D7572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D92D4-02FE-4E94-AB59-903B586D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29375-7042-43B8-B518-E79768DF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C3E4-9555-4327-8C94-492D36BD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32077-5062-4301-B43B-76884D03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A0647-0069-4393-9E59-7B88FB51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CA701-0731-4437-8553-A31629CD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9DAFA-5619-46EE-8E2B-8175737F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1A37A-F659-4882-90A5-B330ADC3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BD837-DA97-409B-9986-253FF690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277EE-981F-461E-B0F6-DBA734A2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DD35D-3902-4F46-BDFA-FFE49F2B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3E462-F0D0-443B-8ADD-CD926A7E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F6358-BD06-4C37-84B8-D1ED9420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717D-06F8-4DCA-8130-DE477901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D4AFD-F4F3-40A6-95E8-012C2467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C52EE-9FE4-4E54-9F48-8AF228B1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DDF86-11AE-4BC4-92A7-7A87855C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2EBE-70AE-434B-B204-CCA17CEE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868F-14D2-4092-964F-BCD420A1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8B27-9D40-4CBC-B0EC-BCDEAC464B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42A3-D313-4E8D-BB50-159A8DBEEF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195D-F95B-4D3E-B1C0-6DA89D1F19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7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128" name="Picture 9" descr="IFAC_symbol_blue"/>
          <p:cNvPicPr/>
          <p:nvPr/>
        </p:nvPicPr>
        <p:blipFill>
          <a:blip r:embed="rId4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8ACA-EE23-4FF8-83AD-3C47930593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IFAC_symbol_blue"/>
          <p:cNvPicPr/>
          <p:nvPr/>
        </p:nvPicPr>
        <p:blipFill>
          <a:blip r:embed="rId4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174E-1172-4721-B4E0-2B37E8937A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9a9a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4A5B-2EC9-4090-B0BE-3BEFB88EA82B}" type="slidenum">
              <a:rPr b="0" lang="en-US" sz="1400" spc="-1" strike="noStrike">
                <a:solidFill>
                  <a:srgbClr val="a9a9a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99640" y="1758600"/>
            <a:ext cx="735660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4b"/>
                </a:solidFill>
                <a:latin typeface="Times New Roman"/>
              </a:rPr>
              <a:t>Member Body Compliance Program</a:t>
            </a:r>
            <a:endParaRPr b="0" lang="en-US" sz="3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29840" y="2975040"/>
            <a:ext cx="8247240" cy="11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ssell Guthrie, Executive Director</a:t>
            </a:r>
            <a:endParaRPr b="0" lang="en-US" sz="24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75160" y="434340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ESBA Meeting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575160" y="495144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ew York, USA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575160" y="555948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ctober 19, 2011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FAC Member sets the ethical requirements through a mandate implied by general consensu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dopted IESBA Code of Ethics in 2008 without any modifica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ssuing the current IESBA CoE with Jan 2012 effective dat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ction Plan focus on implementation suppor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Malawi – Direct Adop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E clearly used as a major point of referenc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ong awareness among PAOs</a:t>
            </a:r>
            <a:endParaRPr b="0" lang="en-US" sz="26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ion challeng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les and rules at a national level often embedded in legislation, regulation and member body governance documents</a:t>
            </a:r>
            <a:endParaRPr b="0" lang="en-US" sz="26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challeng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coming cultural barriers</a:t>
            </a:r>
            <a:endParaRPr b="0" lang="en-US" sz="26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Overarching The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king of Adoption – Challenge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ernment (MinFin, Ministry of Justice)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ors (Capital Market, Insurance, Banking)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essional accountancy organization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al differences, even different understanding of the concept of morality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lex National Environ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king of Adoption – Challenge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ors: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ig firm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s 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essional Accountants in Busines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Accounta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Finance Accountants 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ing Technicians 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Differing MB Constituencie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8800" y="722160"/>
            <a:ext cx="77803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Different than Standards that Tend to be Adopted en Block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rcRect l="2238" t="0" r="12688" b="4356"/>
          <a:stretch/>
        </p:blipFill>
        <p:spPr>
          <a:xfrm>
            <a:off x="1270080" y="1549440"/>
            <a:ext cx="6719760" cy="4721040"/>
          </a:xfrm>
          <a:prstGeom prst="rect">
            <a:avLst/>
          </a:prstGeom>
          <a:ln w="0">
            <a:noFill/>
          </a:ln>
        </p:spPr>
      </p:pic>
      <p:sp>
        <p:nvSpPr>
          <p:cNvPr id="306" name="Title 1"/>
          <p:cNvSpPr/>
          <p:nvPr/>
        </p:nvSpPr>
        <p:spPr>
          <a:xfrm>
            <a:off x="914400" y="0"/>
            <a:ext cx="76993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king of Adoption – Challeng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Other Matters of Interest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O Revis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rified no best endeavors where PAO has direct responsibility 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d “no less stringent standards” langauge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do we best track and articulate “adoption” of CoE and/or key independence provis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Moving Forward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Other Matters of Interest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is will determine whether local modifications are substantive (i.e., lead to different outcomes)?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Moving Forward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3"/>
          <p:cNvSpPr/>
          <p:nvPr/>
        </p:nvSpPr>
        <p:spPr>
          <a:xfrm>
            <a:off x="1243080" y="3597120"/>
            <a:ext cx="676116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314" name="Picture 6" descr="logo_145x135.jpg"/>
          <p:cNvPicPr/>
          <p:nvPr/>
        </p:nvPicPr>
        <p:blipFill>
          <a:blip r:embed="rId1"/>
          <a:stretch/>
        </p:blipFill>
        <p:spPr>
          <a:xfrm>
            <a:off x="2428920" y="1774800"/>
            <a:ext cx="958680" cy="895320"/>
          </a:xfrm>
          <a:prstGeom prst="rect">
            <a:avLst/>
          </a:prstGeom>
          <a:ln w="25560">
            <a:solidFill>
              <a:srgbClr val="ffffff"/>
            </a:solidFill>
            <a:round/>
          </a:ln>
        </p:spPr>
      </p:pic>
      <p:sp>
        <p:nvSpPr>
          <p:cNvPr id="315" name="Text Placeholder 7"/>
          <p:cNvSpPr/>
          <p:nvPr/>
        </p:nvSpPr>
        <p:spPr>
          <a:xfrm>
            <a:off x="3613320" y="1849320"/>
            <a:ext cx="49813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Federation</a:t>
            </a:r>
            <a:br>
              <a:rPr sz="2400"/>
            </a:b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of Accountant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6" name="Text Placeholder 7"/>
          <p:cNvSpPr/>
          <p:nvPr/>
        </p:nvSpPr>
        <p:spPr>
          <a:xfrm>
            <a:off x="380880" y="5322960"/>
            <a:ext cx="8377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ifac.org</a:t>
            </a: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7" name="Text Placeholder 7"/>
          <p:cNvSpPr/>
          <p:nvPr/>
        </p:nvSpPr>
        <p:spPr>
          <a:xfrm>
            <a:off x="2236680" y="3421080"/>
            <a:ext cx="4981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 Body Compliance Program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rogram and Compliance Advisory Panel launched in 2004 as part of IFAC Reform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stablished 7 Statements of Membership Obligations (SMOs)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A, Education, ISAs, Ethics, IPSASs, I&amp;D, IFR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IOB oversigh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A Brief History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ompliance Program Focu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ing continuous improvement of strong PAOs through SMO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uence PAOs’ agendas and ac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and knowledge shar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aboration with stakeholder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rategic Considera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ance Program Focu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art 1 – Information Gathering: Overview of regulatory and standard-setting framework in a member’s jurisdic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art 2 – Self-assessment: Benchmarking against the 7 SMO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art 3 – Own Strategy: Action Plans for development &amp; continuous improvement in addressing the SMO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ntinuous Development and Improveme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8800" y="722160"/>
            <a:ext cx="77803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Beginning of the Road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914400" y="0"/>
            <a:ext cx="76993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/ Achiev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on Plans as first step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arent plans for continuous improvement (153 out of 163 published)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nual updates by all member bodi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ing of progress by the CAP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and resources needed to achieve meaningful chang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reach activities and policy advice provided by the IFAC Staff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/ Achievement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ate – key focus on commitment to and participation in the Compliance Program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forcement Ac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 suspension warning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 suspension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expulsion warning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expulsion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Enforcement – since 2005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Working on adoption of the recent Cod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doption environment: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hics Committee of the Audit Council under Min Fin 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ndependence rules must eventually be aligned with Russian legislation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nitial proposal to start with existing Russian CoE (based of old and abbreviated version of IESBA Code) and then make necessary addition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ditors and accountants need different Code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FAC Staff providing guidance and analysis to PAOs, Large Firms, MoF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ussia –Drivers of Local Modifica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hallenges: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arriers of legal, institutional, cultural and financial nature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Lack of ongoing mechanism for adopting and implementing changes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Lack of current translation makes it difficult to discuss with regulators, analyze independence requirements and organize relevant communications and trainings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To achieve meaningful change a thorough cultural change is needed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FAC coordinates formation of a Latin America Review Committee to facilitate translation at the regional level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Latin America – Multiple Stakeholder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inistry of Justice adopts ethical requirements for CNCC:</a:t>
            </a:r>
            <a:endParaRPr b="0" lang="en-US" sz="27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equirements for CNCC endorsed by MinJus in consultation with AMF (securities market regulator), and the H3C</a:t>
            </a:r>
            <a:endParaRPr b="0" lang="en-US" sz="2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equirements are considered to be more stringent than IESBA Code</a:t>
            </a:r>
            <a:endParaRPr b="0" lang="en-US" sz="2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SOEC drafts its ethical requirements to be approved by Ministry of Economy and Finance</a:t>
            </a:r>
            <a:endParaRPr b="0" lang="en-US" sz="27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irect incorporation of IESBA code impossible due to a different structure (Ordinance of 1945, OEC bylaws, other doctrinal texts) </a:t>
            </a:r>
            <a:endParaRPr b="0" lang="en-US" sz="2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oth French Bodies are planning to promote the adoption of the recent IESBA CoE to the Government </a:t>
            </a:r>
            <a:endParaRPr b="0" lang="en-US" sz="27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France – More Stringent Requir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X100</cp:lastModifiedBy>
  <dcterms:modified xsi:type="dcterms:W3CDTF">2012-02-15T15:21:06Z</dcterms:modified>
  <cp:revision>488</cp:revision>
  <dc:subject/>
  <dc:title>Slide 1</dc:title>
</cp:coreProperties>
</file>