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ftr" idx="2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 type="sldNum" idx="2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73DE80B-D134-4D0A-82BF-D371D0203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7838BB2-E0A0-4460-B1AF-53408F265758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DABB749-C41F-4FFA-A098-774E53D47AA1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96F37B5-89C2-4F7C-9D56-1A7D14D8B11E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10642F4-37F6-41E7-95CC-14BA41589C74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165AC29-8759-4ACD-9888-B79F1F81A10E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2D46128-6533-403B-B5AD-96E8004AB7FE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BFD2BED-8216-41EE-9060-A67F467B08DC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5D86C15-A74A-4C5D-84F9-03BCDFEBB71B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98EDD42-211D-4D93-8FAE-B6BC5A9EA8F2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E02CB0F-8523-4EF2-B0E2-CB2E5D4D5D18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197D4FE-5409-4FBF-8DEC-DCE436B34A75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0010743-15F8-4606-9873-85D6495C2ED1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349B5BA-14D5-4EF3-9222-483A26B49B24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D9282F9-5827-4CAF-B679-7C3A2CB286F4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38D750E-D422-4D21-8178-5C4BC564AD28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BBDF477-8B8B-4658-9B6A-1883B4BD421E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B5E5F8C-6AD2-4A05-9B64-5AD5EAA7C6F6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5ACA-AE9B-4699-9EA1-30C7E3F0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207B-5EB0-4093-9D48-E0A855FC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3C44-6734-40E6-B0C2-9A236532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CAD3-6A42-4FB1-9CE4-1FB61443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7C63-3DC5-4641-B835-26E91FDD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9889-9AE8-4299-A234-38176EBD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0035-3EE9-4803-8383-FAB31FB3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593F-A2E3-405E-9238-63C907AF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7434-A019-468D-97EC-EF84B7D2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CB4F-C398-44CB-8C0F-BF75FC5C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0A75-BDB8-4DAF-816C-693A6483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C7F-59D0-4D9D-AD09-6E706B28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3BD4-6B4C-4DDC-856C-5F1AC93D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07DC-BF68-45A0-8755-69332E93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1291-6908-4383-AA86-A306C952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FE80-B599-4083-B5D9-89A322DCF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5B7B-7E70-43FD-A24A-DFBEA167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4732E-052A-484D-8794-27359601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39C1A-F615-4CE2-A507-F578D86E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F85F4-7289-4F6E-B44B-B67C6331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EF25C-308F-4467-99D3-DDB482C8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8DC12-F246-485B-A0F9-BB4F5E87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9948-3EDF-4823-9B93-1238DC73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4E4B0-48F7-4D3D-8793-611F787E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F030E-5323-4553-8F4A-2B439F94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D876B-579E-4843-B863-0C397F1F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46B4D-EF40-4CF9-8745-44512849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94E5B-6ADA-4231-9FA4-8FC96BFD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CEA03-9E24-46FB-9FEF-FBAA74FA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4D235-FB06-448A-9E92-D78D8757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E2606-5DB4-441E-BDB5-B7315E7C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F41A7-DF01-42EE-9C12-23E81A82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05F68-BD9D-4584-9531-269EA33E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3FDF-3588-498D-A137-23CCA7F8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D5ED1-7CC6-4A6E-8F87-C4953373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D1EFB-6E97-4B83-A2CC-333E4EAE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F182F-2388-42D3-841A-9AB78103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203EA-370B-4128-A079-3D2744F6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4B1D4-D7D1-46B0-97C6-52F99699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9C820-E62A-4C58-95F2-9F901B59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A36BD-CCCC-426E-94EE-DE327CB7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6ABD4-9486-4913-94C9-CD33C8C2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58874-0D1C-4ABD-86F8-3562B888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0000D-1548-42EE-ABF6-94A48371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4622-F40E-4A08-B567-A8D58F37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15EC6-3535-43D2-9227-A8C1B140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576A3-7498-4AE6-90FB-C9BE9A14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CF916-91B7-4F89-9A94-DFE9AE85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F9C30-A84A-4710-A234-4993EE94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44EF0-33EA-4B4B-9386-B874E98F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F25A4-90EF-42D2-9CF6-D5369C85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45C64-F7D7-45E9-987E-0EC6BAD2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95337-96A9-4B79-87E9-881B6D50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91CBE-9D3F-419B-82AF-8D17BF3B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B4F8C-B62F-4575-9518-F6B1ABC8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9D57-CAF4-47C2-99D6-AF5ED345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48958-89FD-4EE8-B6BE-D6F436C11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00ADF-1B4D-47C3-98D7-06B9AB5E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8C842-5D8B-4398-8FB7-ADFA4E4A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61DD3-49E5-4E03-846D-FF38AEB9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4A0E5-8654-4950-A676-46A37A9B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EB07C-E713-433D-8ACD-5B2E47EA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C926D-62B2-4D1A-B8FC-D289D894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D2364-6608-47AD-8D2E-1D7025BB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B79DE-BA18-4533-B031-F18D792D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5291E-4914-4B7A-A259-A012E7CB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E891-0259-4B2A-B660-1851A670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46735-88DE-4A93-B024-8C11B083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AF82A-7DDB-42E7-A540-000DC1AE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8BA5F-D88E-4C9C-85DA-8B072E23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227B-9652-4ED7-938B-ECB33A78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A9FB-2C37-4CAA-88C4-F595E2FD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0AC2-5271-4451-9A24-F95A77BD07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C1FA-8E33-4544-BDEE-2A959D96AF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DDD9-B67A-408F-9BF2-EBA83D7C6D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7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128" name="Picture 9" descr="IFAC_symbol_blue"/>
          <p:cNvPicPr/>
          <p:nvPr/>
        </p:nvPicPr>
        <p:blipFill>
          <a:blip r:embed="rId4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77D3-15CB-4D48-82EE-548410BAAD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IFAC_symbol_blue"/>
          <p:cNvPicPr/>
          <p:nvPr/>
        </p:nvPicPr>
        <p:blipFill>
          <a:blip r:embed="rId4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7B67-CE8F-426A-9793-E342B479AE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9a9a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D173-A8A7-4776-9BF8-7E511D2D24B6}" type="slidenum">
              <a:rPr b="0" lang="en-US" sz="1400" spc="-1" strike="noStrike">
                <a:solidFill>
                  <a:srgbClr val="a9a9a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99640" y="1758600"/>
            <a:ext cx="735660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4b"/>
                </a:solidFill>
                <a:latin typeface="Times New Roman"/>
              </a:rPr>
              <a:t>Member Body Compliance Program</a:t>
            </a:r>
            <a:endParaRPr b="0" lang="en-US" sz="3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29840" y="2975040"/>
            <a:ext cx="8247240" cy="11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ssell Guthrie, Executive Director</a:t>
            </a:r>
            <a:endParaRPr b="0" lang="en-US" sz="24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75160" y="434340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ESBA Meeting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575160" y="495144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ew York, USA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575160" y="555948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ctober 19, 2011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FAC Member sets the ethical requirements through a mandate implied by general consensu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dopted IESBA Code of Ethics in 2008 without any modifica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ssuing the current IESBA CoE with Jan 2012 effective dat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ction Plan focus on implementation suppor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Malawi – Direct Adop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E clearly used as a major point of referenc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ong awareness among PAOs</a:t>
            </a:r>
            <a:endParaRPr b="0" lang="en-US" sz="26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ion challeng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les and rules at a national level often embedded in legislation, regulation and member body governance documents</a:t>
            </a:r>
            <a:endParaRPr b="0" lang="en-US" sz="26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challeng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coming cultural barriers</a:t>
            </a:r>
            <a:endParaRPr b="0" lang="en-US" sz="26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Overarching The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king of Adoption – Challenge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ernment (MinFin, Ministry of Justice)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ors (Capital Market, Insurance, Banking)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essional accountancy organization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al differences, even different understanding of the concept of morality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lex National Environ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king of Adoption – Challenge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ors: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ig firm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s 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essional Accountants in Busines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Accounta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Finance Accountants 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ing Technicians 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Differing MB Constituencie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8800" y="722160"/>
            <a:ext cx="77803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Different than Standards that Tend to be Adopted en Block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rcRect l="2238" t="0" r="12688" b="4356"/>
          <a:stretch/>
        </p:blipFill>
        <p:spPr>
          <a:xfrm>
            <a:off x="1270080" y="1549440"/>
            <a:ext cx="6719760" cy="4721040"/>
          </a:xfrm>
          <a:prstGeom prst="rect">
            <a:avLst/>
          </a:prstGeom>
          <a:ln w="0">
            <a:noFill/>
          </a:ln>
        </p:spPr>
      </p:pic>
      <p:sp>
        <p:nvSpPr>
          <p:cNvPr id="306" name="Title 1"/>
          <p:cNvSpPr/>
          <p:nvPr/>
        </p:nvSpPr>
        <p:spPr>
          <a:xfrm>
            <a:off x="914400" y="0"/>
            <a:ext cx="76993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king of Adoption – Challeng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Other Matters of Interest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O Revis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rified no best endeavors where PAO has direct responsibility 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d “no less stringent standards” langauge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do we best track and articulate “adoption” of CoE and/or key independence provis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Moving Forward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Other Matters of Interest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is will determine whether local modifications are substantive (i.e., lead to different outcomes)?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Moving Forward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3"/>
          <p:cNvSpPr/>
          <p:nvPr/>
        </p:nvSpPr>
        <p:spPr>
          <a:xfrm>
            <a:off x="1243080" y="3597120"/>
            <a:ext cx="676116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314" name="Picture 6" descr="logo_145x135.jpg"/>
          <p:cNvPicPr/>
          <p:nvPr/>
        </p:nvPicPr>
        <p:blipFill>
          <a:blip r:embed="rId1"/>
          <a:stretch/>
        </p:blipFill>
        <p:spPr>
          <a:xfrm>
            <a:off x="2428920" y="1774800"/>
            <a:ext cx="958680" cy="895320"/>
          </a:xfrm>
          <a:prstGeom prst="rect">
            <a:avLst/>
          </a:prstGeom>
          <a:ln w="25560">
            <a:solidFill>
              <a:srgbClr val="ffffff"/>
            </a:solidFill>
            <a:round/>
          </a:ln>
        </p:spPr>
      </p:pic>
      <p:sp>
        <p:nvSpPr>
          <p:cNvPr id="315" name="Text Placeholder 7"/>
          <p:cNvSpPr/>
          <p:nvPr/>
        </p:nvSpPr>
        <p:spPr>
          <a:xfrm>
            <a:off x="3613320" y="1849320"/>
            <a:ext cx="49813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Federation</a:t>
            </a:r>
            <a:br>
              <a:rPr sz="2400"/>
            </a:b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of Accountant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6" name="Text Placeholder 7"/>
          <p:cNvSpPr/>
          <p:nvPr/>
        </p:nvSpPr>
        <p:spPr>
          <a:xfrm>
            <a:off x="380880" y="5322960"/>
            <a:ext cx="8377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ifac.org</a:t>
            </a: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7" name="Text Placeholder 7"/>
          <p:cNvSpPr/>
          <p:nvPr/>
        </p:nvSpPr>
        <p:spPr>
          <a:xfrm>
            <a:off x="2236680" y="3421080"/>
            <a:ext cx="4981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 Body Compliance Program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rogram and Compliance Advisory Panel launched in 2004 as part of IFAC Reform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stablished 7 Statements of Membership Obligations (SMOs)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A, Education, ISAs, Ethics, IPSASs, I&amp;D, IFR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IOB oversigh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A Brief History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ompliance Program Focu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ing continuous improvement of strong PAOs through SMO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uence PAOs’ agendas and ac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and knowledge shar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aboration with stakeholder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rategic Considera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ance Program Focu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art 1 – Information Gathering: Overview of regulatory and standard-setting framework in a member’s jurisdic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art 2 – Self-assessment: Benchmarking against the 7 SMO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art 3 – Own Strategy: Action Plans for development &amp; continuous improvement in addressing the SMO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ntinuous Development and Improveme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8800" y="722160"/>
            <a:ext cx="77803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Beginning of the Road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914400" y="0"/>
            <a:ext cx="76993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/ Achiev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on Plans as first step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arent plans for continuous improvement (153 out of 163 published)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nual updates by all member bodi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ing of progress by the CAP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and resources needed to achieve meaningful chang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reach activities and policy advice provided by the IFAC Staff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/ Achievement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ate – key focus on commitment to and participation in the Compliance Program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forcement Ac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 suspension warning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 suspension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expulsion warning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expulsion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Enforcement – since 2005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Working on adoption of the recent Cod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doption environment: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hics Committee of the Audit Council under Min Fin 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ndependence rules must eventually be aligned with Russian legislation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nitial proposal to start with existing Russian CoE (based of old and abbreviated version of IESBA Code) and then make necessary addition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ditors and accountants need different Code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FAC Staff providing guidance and analysis to PAOs, Large Firms, MoF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ussia –Drivers of Local Modifica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hallenges: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arriers of legal, institutional, cultural and financial nature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Lack of ongoing mechanism for adopting and implementing changes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Lack of current translation makes it difficult to discuss with regulators, analyze independence requirements and organize relevant communications and trainings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To achieve meaningful change a thorough cultural change is needed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FAC coordinates formation of a Latin America Review Committee to facilitate translation at the regional level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Latin America – Multiple Stakeholder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inistry of Justice adopts ethical requirements for CNCC:</a:t>
            </a:r>
            <a:endParaRPr b="0" lang="en-US" sz="27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equirements for CNCC endorsed by MinJus in consultation with AMF (securities market regulator), and the H3C</a:t>
            </a:r>
            <a:endParaRPr b="0" lang="en-US" sz="2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equirements are considered to be more stringent than IESBA Code</a:t>
            </a:r>
            <a:endParaRPr b="0" lang="en-US" sz="2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SOEC drafts its ethical requirements to be approved by Ministry of Economy and Finance</a:t>
            </a:r>
            <a:endParaRPr b="0" lang="en-US" sz="27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irect incorporation of IESBA code impossible due to a different structure (Ordinance of 1945, OEC bylaws, other doctrinal texts) </a:t>
            </a:r>
            <a:endParaRPr b="0" lang="en-US" sz="2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oth French Bodies are planning to promote the adoption of the recent IESBA CoE to the Government </a:t>
            </a:r>
            <a:endParaRPr b="0" lang="en-US" sz="27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France – More Stringent Requir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X100</cp:lastModifiedBy>
  <dcterms:modified xsi:type="dcterms:W3CDTF">2012-02-15T15:21:06Z</dcterms:modified>
  <cp:revision>488</cp:revision>
  <dc:subject/>
  <dc:title>Slide 1</dc:title>
</cp:coreProperties>
</file>