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9F6-D057-497E-A166-D7187C04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FD1-259A-4CCD-972E-91360831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9D72-6AD8-444B-9B60-F5BFB1887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982-B3C3-4321-AA8E-65F2AA4E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A7A1-A490-47BB-997F-6338F985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E5F5-A619-4CCD-8A5D-7655E9C8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3656-067D-40C6-9164-8225232B9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9EFC-FEE9-42E0-A046-FA70BCBC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D3B5-A315-452F-ABE9-BDCB00AD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32E0-2879-471E-9D12-18CA7458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2DE7-5CD4-457F-B871-BC95509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BD6-54EF-4339-A3B2-551D9D66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3508-EE1F-4202-8FB6-E06664D0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52D8-D7C1-4C2F-B7C3-7592B660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B3B8-F9EE-43B2-9041-61372C68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7C2A-2002-4315-93D1-4EC5BB4F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FD7E-D7FF-4DB4-93AD-3D4754AB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CED1-E973-4036-BBA6-D1F2CD80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11FA-2EF5-43FA-8067-6194D5A2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C76E-C417-403B-A860-6BD8A7A4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12E-5B06-4220-A626-C5B7966A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CA1D-3FA3-4AC0-A841-38D7FEAF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F15-5401-47E7-A5AE-AA0BA63F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9C2-7F56-4FE1-BD17-AFA951DD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E87C-98F6-4E7A-B198-93DF1401EC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80C8-AF63-4122-ADBC-78B972258069}" type="slidenum">
              <a:rPr b="0" lang="en-US" sz="1400" spc="-1" strike="noStrike">
                <a:solidFill>
                  <a:srgbClr val="a9a9a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ober 13, 2010 : Green Pap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62040" indent="-27720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step in the process to elaborate a law at European level : Discussion document open to public comments.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2011 : Report to the parlia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ember 13, 2011 : European Parliament Resolu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mber 2011 : Draft legis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reen paper of the European Commi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discussion on 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the auditor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 and independence of audit firm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vision of auditor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of the audit marke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of a European passpor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cations for SMEs / SMP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What were the objectives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 of auditors reviewed by a public supervisory body independent of the profe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to be conducted 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rotation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joint audi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85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emarcation between audit services and NAS provided to an audit cli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of condi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and external audit services shall not be provided simultaneousl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 of certain servic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 approval by audit committe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of a cap on N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SAPET, Mrs. Isabelle</cp:lastModifiedBy>
  <dcterms:modified xsi:type="dcterms:W3CDTF">2011-10-19T13:25:36Z</dcterms:modified>
  <cp:revision>307</cp:revision>
  <dc:subject/>
  <dc:title>Slide 1</dc:title>
</cp:coreProperties>
</file>