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2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2D17BA-360B-4BCA-B595-1AC011A21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625D65-6918-4563-8D13-72A4D7BCF3F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0A3A384-F889-4633-926B-ECF36C8DA5FF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52D061-86E4-4E00-A548-A8FE8326E49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13DD1D1-8872-43D7-A2C5-226CD7CFAF1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A8D3549-94C9-4D24-9778-D2ED9E86F25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505310A-3DF6-4895-83B2-706FE0DA055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B4E337-2F68-44C8-8DEF-F80B9AAC054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92DE59-DFDD-44F5-9F16-B8A637A6B6E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DFF7879-8BE1-44CD-A2F3-447E1F14EF6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A6C4CA6-24ED-42E4-83B3-5C7C88294AC9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E74409E-90E6-4FEF-9CD1-4045636779C6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7FEEF8F-3005-44A0-9575-CEDAA448AC3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58491D3-34AA-4D4C-BA54-11FD642DD60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E01BF4-EC5D-4B82-BD33-3607B4EB196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3DA973-6565-4150-AE99-7EC835A68C6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6BF2A17-E1CD-4E20-998E-20661876C5F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61F68C7-FFC5-484F-8DE6-C88BB51CADD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1796-353F-4E83-B061-015808EB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2B2-903D-42E7-9852-5A6341F7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8F9-0899-43FF-BE07-3A69EE41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7EF-7571-47CD-81BE-A039E7A6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023F-6369-4FCF-9912-AA391804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F233-7503-41D1-975D-69F20EE5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492E-9217-45DF-90FD-1D3E50B39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64BE-6289-4449-BCC3-B6154C80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E8E3-2E9F-4559-B63D-4D082D28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DB58-FABA-4985-A338-119DF062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327B-412E-4797-BE51-D4CD2B38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3357-6C32-454D-9578-15A09B10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EEE0-7572-4A21-9817-57A1E38B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A4C5-80CA-471F-894A-B1102BE3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A60C-DC04-46B7-8484-E03A2C9F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2E04-DFCB-4BA8-A07C-7B0FEF26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4E2A-F396-4EAB-8C2F-26D03738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854E4-F097-4DAF-91AC-7C9B2920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B6C1A-0439-4528-A35F-1CC2F73E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A3BFD-827B-4FE1-B4F1-8EF96155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D59A-6440-44B0-8EE5-64520CB9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5C343-922C-4ACD-B7C3-A2A77404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792-19F3-4EC9-890B-57D3E3A8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0E2C4-6486-44EF-B944-85C24B94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9B50F-7B71-48FD-B28E-2FCA2FAB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FC32E-27E4-45E6-BA7F-C77B082B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2B92A-DAAC-4301-98D9-324749EE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19B5-BB2F-4EDC-9377-14ACC7AD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96B96-777B-419E-8877-199F868A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B4CB6-6AE3-421D-A8AB-52E814C3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CFB29-64BE-49D1-B8E9-C2A80B94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C24AE-7DA0-4739-A640-C28FF53E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0DC4A-910E-4B35-B1BF-4C4561F9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100-7833-4C3B-B4F9-DC72BB7C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BD1AC-DD76-40F8-A0D0-C6B23031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5AC43-465E-40A7-A328-02527699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E3FAB-D429-49E6-9605-30025888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6F00C-6B6A-46A8-8A27-8632BF38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785E5-495C-44B6-B8A2-DEAB75E4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338EF-8101-4EAB-8B23-39CBF3BD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815ED-8286-4A2F-AFEF-15269398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F6517-56F6-483C-8966-4E3E3ACF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F27CE-3B01-45AD-959D-2F4B7FE1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371B8-1212-4E5F-9EF9-1D11FF49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35BC-1959-4EAA-9AB2-10AEF1AE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D253A-840C-473A-96AE-09ED5FF5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17148-55B4-40EC-A40A-39F11C70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949BE-2B2B-4D5D-9B9C-89D16070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6DB00-C185-4B21-A2AC-1D9BFADC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E9DD5-C1A2-4D5B-8C27-D023803A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316E4-4992-45A4-B378-DB603E36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312E3-A8CB-4466-AF13-662F5692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A8039-C744-4EED-9E75-622239AB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015D4-82A3-4BD7-8320-16FC1F89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BC3F3-66A4-4C68-B14D-C63A68D97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3B6B-C58F-4192-9319-6D5B31FE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C3C46-BEF2-479D-B63B-EE1AD416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B7006-3152-4698-A0AB-95BBBB04B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5D84D-51A9-4097-BC2E-8F6EE1AE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67182-FE53-486F-81A6-BECD0CCB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F2DF2-901B-40CF-A409-1A9D0F5A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61B27-AABC-4072-801D-312D46E6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4A825-D84D-4199-A61C-A0075E40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98ED9-8031-482C-BDCF-89A71019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FADB3-A11B-4405-84E2-E8D2FAA3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DA01F-E293-4ABB-A3A4-EA645E2D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4C6-C75A-4D59-A22F-79105ADD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C7F30-9B2C-4492-8192-9B8782BA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37C06-C7AB-41CE-8AAB-58313957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423EB-5B85-4C26-8DC3-EBAE01B2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CAF-21F9-48A2-A911-D5BD07ED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13C-5FBF-42A9-8B7B-2DEFF255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A874-16F6-460A-8E5D-81DD61CCB2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6758-4899-45E3-ABA0-0939513AA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B614-DBB7-4220-93C8-F50A95CC65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3DD5-65ED-4CD4-A056-2BA42E3C14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1334-C60B-44F8-B62B-2746AD610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DABE-E11C-4FD6-870F-7EA107587D58}" type="slidenum">
              <a:rPr b="0" lang="en-US" sz="1400" spc="-1" strike="noStrike">
                <a:solidFill>
                  <a:srgbClr val="a9a9a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99640" y="1758600"/>
            <a:ext cx="735660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4b"/>
                </a:solidFill>
                <a:latin typeface="Times New Roman"/>
              </a:rPr>
              <a:t>Member Body Compliance Program</a:t>
            </a:r>
            <a:endParaRPr b="0" lang="en-US" sz="3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9840" y="2975040"/>
            <a:ext cx="824724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ell Guthrie, Executive Director</a:t>
            </a:r>
            <a:endParaRPr b="0" lang="en-US" sz="24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ctober 19, 2011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Member sets the ethical requirements through a mandate implied by general consens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ed IESBA Code of Ethics in 2008 without any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ssuing the current IESBA CoE with Jan 2012 effective dat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tion Plan focus on implementation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alawi – Direct Adop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 clearly used as a major point of referenc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ong awareness among PAO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ion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les and rules at a national level often embedded in legislation, regulation and member body governance document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challeng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ing cultural barrier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verarching The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(MinFin, Ministry of Justice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ors (Capital Market, Insurance, Banking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cy organiza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differences, even different understanding of the concept of moralit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lex National Environ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ors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ig firm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s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ts in Busines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Accounta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Finance Accountant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ing Technician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ing MB Constituencie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ent than Standards that Tend to be Adopted en Block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rcRect l="2238" t="0" r="12688" b="4356"/>
          <a:stretch/>
        </p:blipFill>
        <p:spPr>
          <a:xfrm>
            <a:off x="1270080" y="1549440"/>
            <a:ext cx="6719760" cy="4721040"/>
          </a:xfrm>
          <a:prstGeom prst="rect">
            <a:avLst/>
          </a:prstGeom>
          <a:ln w="0">
            <a:noFill/>
          </a:ln>
        </p:spPr>
      </p:pic>
      <p:sp>
        <p:nvSpPr>
          <p:cNvPr id="306" name="Title 1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O Re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no best endeavors where PAO has direct responsibility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“no less stringent standards” langaug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we best track and articulate “adoption” of CoE and/or key independence pro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is will determine whether local modifications are substantive (i.e., lead to different outcomes)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314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315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6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7" name="Text Placeholder 7"/>
          <p:cNvSpPr/>
          <p:nvPr/>
        </p:nvSpPr>
        <p:spPr>
          <a:xfrm>
            <a:off x="2236680" y="3421080"/>
            <a:ext cx="498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Body Compliance Program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ogram and Compliance Advisory Panel launched in 2004 as part of IFAC Refor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stablished 7 Statements of Membership Obligations (SMOs)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A, Education, ISAs, Ethics, IPSASs, I&amp;D, IFR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IOB oversigh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A Brief Histor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ng continuous improvement of strong PAOs through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e PAOs’ agendas and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and knowledge sha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 with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ic Consider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1 – Information Gathering: Overview of regulatory and standard-setting framework in a member’s jurisdic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2 – Self-assessment: Benchmarking against the 7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3 – Own Strategy: Action Plans for development &amp; continuous improvement in addressing the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tinuous Development and Improve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Beginning of the Road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on Plans as first step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t plans for continuous improvement (153 out of 163 published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ual updates by all member bodi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ing of progress by the CAP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and resources needed to achieve meaningful chang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reach activities and policy advice provided by the IFAC Staf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ate – key focus on commitment to and participation in the Compliance Progra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ement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 suspen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suspen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expul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expul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Enforcement – since 2005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Working on adoption of the recent Cod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ion environment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hics Committee of the Audit Council under Min Fin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dependence rules must eventually be aligned with Russian legislation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itial proposal to start with existing Russian CoE (based of old and abbreviated version of IESBA Code) and then make necessary addition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ditors and accountants need different Code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Staff providing guidance and analysis to PAOs, Large Firms, MoF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ussia –Drivers of Local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hallenges: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arriers of legal, institutional, cultural and financial nature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ongoing mechanism for adopting and implementing change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current translation makes it difficult to discuss with regulators, analyze independence requirements and organize relevant communications and training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o achieve meaningful change a thorough cultural change is needed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coordinates formation of a Latin America Review Committee to facilitate translation at the regional level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Latin America – Multiple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inistry of Justice adopts ethical requirements for CNCC: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for CNCC endorsed by MinJus in consultation with AMF (securities market regulator), and the H3C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are considered to be more stringent than IESBA Code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SOEC drafts its ethical requirements to be approved by Ministry of Economy and Finance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irect incorporation of IESBA code impossible due to a different structure (Ordinance of 1945, OEC bylaws, other doctrinal texts) 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oth French Bodies are planning to promote the adoption of the recent IESBA CoE to the Government 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France – More Stringent Requir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X100</cp:lastModifiedBy>
  <dcterms:modified xsi:type="dcterms:W3CDTF">2012-02-15T15:21:06Z</dcterms:modified>
  <cp:revision>488</cp:revision>
  <dc:subject/>
  <dc:title>Slide 1</dc:title>
</cp:coreProperties>
</file>