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9FA7-D9E1-4D6D-BEF8-778F9657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840F-E5EC-4DCD-A205-61525331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89A6-6AD3-4F30-91C9-3FA1456B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00A1-051D-4C5C-8DB3-B8A9BD3D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0B53-5F04-42AF-B31F-AEF71AA1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41B0-9E53-4243-BBEE-F066BC20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A326-5EA3-4EF7-B0F8-7BA94BE6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EA39-755E-46F3-8798-CE0153D9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AC21-F928-457E-8911-0CE5DAE7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B7DB-4E3F-44B1-9318-22A64628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8A53-7AE3-4184-AF94-F6828249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1471-BDA6-43FE-A4EE-B3C76D43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7074-1FB2-4C4F-A26F-7E92C5F2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9C74-F95A-44B2-9A2E-3AC974BF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1A05-2446-43FB-938B-C4285269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B81F-B891-4FC3-BD5B-54003DE3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40DC-DD22-4946-9AC6-7E95C030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D0B5-34E4-4521-A3C7-E80CCF79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3155-E436-49E8-9DB0-CE65E3D6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2767-A594-4FAE-A113-B8AAEF1D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5F36-0070-4526-BD75-E3C7D617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89E1-7C9A-4F5D-B884-D722E7DE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DD60-81D4-484E-B6FB-AE6A5F08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1D79-2213-47DE-A35E-BFF26747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2EBD-2D59-4A37-8665-12814D0FE0E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9a9a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1FB7-70D7-4C26-9B91-66A2132F958D}" type="slidenum">
              <a:rPr b="0" lang="en-US" sz="1400" spc="-1" strike="noStrike">
                <a:solidFill>
                  <a:srgbClr val="a9a9a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tober 13, 2010 : Green Paper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62040" indent="-27720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step in the process to elaborate a law at European level : Discussion document open to public comments.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2011 : Report to the parliame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tember 13, 2011 : European Parliament Resolu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mber 2011 : Draft legisl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reen paper of the European Commiss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 discussion on 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e of the auditor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ernance and independence of audit firm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vision of auditor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 of the audit market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on of a European passport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cations for SMEs / SMP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What were the objectives?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e of auditors reviewed by a public supervisory body independent of the profess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assessment to be conducted 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rnal rotation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ry joint audi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Parliament resolution in favor of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85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 demarcation between audit services and NAS provided to an audit clie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of condition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 and external audit services shall not be provided simultaneously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 of certain servic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 approval by audit committe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assessment of a cap on NA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Parliament resolution in favor of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SAPET, Mrs. Isabelle</cp:lastModifiedBy>
  <dcterms:modified xsi:type="dcterms:W3CDTF">2011-10-19T13:25:36Z</dcterms:modified>
  <cp:revision>307</cp:revision>
  <dc:subject/>
  <dc:title>Slide 1</dc:title>
</cp:coreProperties>
</file>