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2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sldNum" idx="2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5149F3B-9DB2-4319-AAA8-B10A2268C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A760B25-D3D7-4049-958D-72D855BAE197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4135F2D-0B01-4C26-8742-AF1AF72A1EB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6DD859D-48CE-4124-84F7-605B8F1610C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5C8C810-496F-46C9-B644-535FEE3883D8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CA108D-2EDE-45C0-A4BC-FF04CAEB771F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B55C082-D03F-4785-BB2E-99605347A451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B5D5E6E-D56D-4692-B142-877814270CD3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3A428C8-2B04-4E38-8268-5592C651A7A5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BA29AD0-1386-4241-A48E-DF9674898FAD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0B71661-A5DD-49F2-97DA-E5B8C95D3A15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A966092-4293-40B4-85D7-5C4FB09ED843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1B3CE58-B3F6-41C3-BEF5-91C575693B0F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B179AAF-AF53-42FD-B3E1-5AC8EAF1526C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4F76CEC-AA7D-4BC6-B03F-3BB7AEE9643F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1F73FAF-B2E4-438A-B897-697F5BC88F9A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1520254-9228-4F19-81A8-5910403ADD9F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B68F788-0A9C-4EF6-B77A-CB251C772917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536B-907F-4F3B-BDAB-D533A6FF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31D3-826C-441F-A2B7-3C27EC8D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FC08-13A5-46C4-94D2-012702DA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A191-EC55-4825-ABB6-6D4C0976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4BFC-745B-4A5D-A2E2-ED3080F1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3F00-FFCF-41F5-AEC4-14E99BE4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55D0-1A5F-4F83-BB8C-06B25140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254F-7263-4560-9D8E-C5553D10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6751-D645-4AAF-B9CD-2A775A39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32CC-9291-41A3-9C25-F806C3B8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6433-8961-4D91-92F2-096DB90E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F9FE-F58F-4F20-9698-2D083C18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00EF-7658-4A71-BC26-B9B66A7E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F911-D024-4214-AD9E-F0879186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4333-B613-4BD6-88BF-A93121E8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7622-3778-47AF-9DB1-BAF6D96B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123C-08E9-4E85-9BFD-EDFF54FF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C0689-4847-49F8-8FBD-311A4D26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23A1D-7171-47C2-8B33-CB24AA14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11431-8C08-45C3-8ADB-291FCFB9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B810D-08E5-43CD-9C8B-C23EEE16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3EBE3-6574-4B77-A737-5189ABBD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76F6-6D9E-4530-8144-1E512632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E2654-3C52-456B-8944-C366DE7D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19E2F-32DF-4B00-94F4-E863E902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DE28B-D53C-4012-B705-61A83509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3B5F3-690F-402F-BE2C-BF5FCEAD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3FD3D-06A9-4DBF-AA6E-4FA7B735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0F6C8-B765-403D-80A4-6A560668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FE979-B32C-4B46-B8A7-6F6D4839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BFC2E-5449-4BD6-9057-B5854AF3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9F596-0AC8-4ABF-9464-D7F7A566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E770B-706D-474A-9AA1-E8701B6F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D56C-C422-4CDE-A384-BC938DDC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FD65D-3012-4D67-BF31-6994D8EB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F7FB5-74BD-472C-89F5-E95C84F6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80B5C-B0B4-4D18-8E19-1F76F734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C83C5-985C-4442-B439-D4009EA8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D3976-CDD3-483B-841B-EEF7EDBA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0E001-7608-4CAB-9096-93CBE28D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0AF3B-2AF0-4ED7-9431-E876A329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F3306-566F-49D3-A47E-AB3DFBBE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3886F-99C0-4673-9C3D-D51E431E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8CBE2-D011-4888-9C9C-EFF3A89F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C70-5EBB-4334-9517-9553EA6B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817C7-195D-4F83-99A5-B87F9722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BC21C-DDAF-4EF1-AA05-794E4D60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B64BA-FD3C-4ABC-A47A-46151AF3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C4FED-C215-4F99-9C1E-D632B49D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23005-9203-44D6-8CCC-FA63FAD9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2A89F-2F35-44FC-8E9E-66DD8CB6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679A4-3D28-4102-AC0A-90E2D662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1CC5A-B64E-4637-B8F7-BE7DEF2D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596D9-C3B7-4413-9773-EF76946C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4FBAC-A70F-4B61-8092-9D4A27F7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DF46-C127-4598-8342-6350D4D6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F48D5-F38E-4B89-B333-AE83936B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7667B-90D9-4021-95DA-BD3BD8BF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99184-5962-406D-816B-BF9CDB6F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E8AF5-FE33-46CA-9331-1C3A8A8E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06CD6-3C7E-455E-8016-4462DE3C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68E86-7D18-4382-AAFC-D0AEB37D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17799-6C3F-42AD-AFDC-49D7B2CA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BB582-0FF0-4705-9E7D-3D71F854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34CA1-388E-44EF-B0B2-9A71448E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8DFD4-792F-4465-923B-3AE798B1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0430-8CA6-4352-B739-FF55E4A8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EAC4A-B419-4FE6-9F17-ABB5C5A7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E63CF-1758-4072-AA6E-31462D3E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88192-0910-4333-B7EC-71A6684D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AC7-C27A-40E2-A926-79BADA91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9ECA-A245-43FA-929B-7DD3C82A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0A72-7043-46B3-BAF1-3742BD691E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DB12-8B10-49A9-A645-84BC1E677E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ED69-5453-4577-8552-48FC6D39D7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128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8D67-6A0F-437B-8459-9533405B81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24B5-C72A-4565-87C1-0C776B42B4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9a9a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7B91-41C4-471A-82B9-39C683D19595}" type="slidenum">
              <a:rPr b="0" lang="en-US" sz="1400" spc="-1" strike="noStrike">
                <a:solidFill>
                  <a:srgbClr val="a9a9a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99640" y="1758600"/>
            <a:ext cx="735660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4b"/>
                </a:solidFill>
                <a:latin typeface="Times New Roman"/>
              </a:rPr>
              <a:t>Member Body Compliance Program</a:t>
            </a:r>
            <a:endParaRPr b="0" lang="en-US" sz="3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9840" y="2975040"/>
            <a:ext cx="8247240" cy="11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ssell Guthrie, Executive Director</a:t>
            </a:r>
            <a:endParaRPr b="0" lang="en-US" sz="24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75160" y="434340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ESBA Meeting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ew York, USA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ctober 19, 2011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FAC Member sets the ethical requirements through a mandate implied by general consensu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dopted IESBA Code of Ethics in 2008 without any modifica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ssuing the current IESBA CoE with Jan 2012 effective dat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ction Plan focus on implementation suppor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Malawi – Direct Adop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E clearly used as a major point of referenc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ong awareness among PAOs</a:t>
            </a:r>
            <a:endParaRPr b="0" lang="en-US" sz="26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ion challeng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les and rules at a national level often embedded in legislation, regulation and member body governance documents</a:t>
            </a:r>
            <a:endParaRPr b="0" lang="en-US" sz="26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challeng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coming cultural barriers</a:t>
            </a:r>
            <a:endParaRPr b="0" lang="en-US" sz="26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Overarching The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ing of Adoption – Challenge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ment (MinFin, Ministry of Justice)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ors (Capital Market, Insurance, Banking)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sional accountancy organization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al differences, even different understanding of the concept of morality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lex National Environ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ing of Adoption – Challenge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ors: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ig firm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s 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sional Accountants in Busines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Accounta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Finance Accountants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ing Technicians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Differing MB Constituencie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8800" y="722160"/>
            <a:ext cx="77803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Different than Standards that Tend to be Adopted en Block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rcRect l="2238" t="0" r="12688" b="4356"/>
          <a:stretch/>
        </p:blipFill>
        <p:spPr>
          <a:xfrm>
            <a:off x="1270080" y="1549440"/>
            <a:ext cx="6719760" cy="4721040"/>
          </a:xfrm>
          <a:prstGeom prst="rect">
            <a:avLst/>
          </a:prstGeom>
          <a:ln w="0">
            <a:noFill/>
          </a:ln>
        </p:spPr>
      </p:pic>
      <p:sp>
        <p:nvSpPr>
          <p:cNvPr id="306" name="Title 1"/>
          <p:cNvSpPr/>
          <p:nvPr/>
        </p:nvSpPr>
        <p:spPr>
          <a:xfrm>
            <a:off x="914400" y="0"/>
            <a:ext cx="76993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ing of Adoption – Challeng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Other Matters of Interest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O Revis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rified no best endeavors where PAO has direct responsibility 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d “no less stringent standards” langauge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do we best track and articulate “adoption” of CoE and/or key independence provis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Moving Forward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Other Matters of Interest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is will determine whether local modifications are substantive (i.e., lead to different outcomes)?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Moving Forward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1243080" y="3597120"/>
            <a:ext cx="67611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314" name="Picture 6" descr="logo_145x135.jpg"/>
          <p:cNvPicPr/>
          <p:nvPr/>
        </p:nvPicPr>
        <p:blipFill>
          <a:blip r:embed="rId1"/>
          <a:stretch/>
        </p:blipFill>
        <p:spPr>
          <a:xfrm>
            <a:off x="2428920" y="1774800"/>
            <a:ext cx="958680" cy="895320"/>
          </a:xfrm>
          <a:prstGeom prst="rect">
            <a:avLst/>
          </a:prstGeom>
          <a:ln w="25560">
            <a:solidFill>
              <a:srgbClr val="ffffff"/>
            </a:solidFill>
            <a:round/>
          </a:ln>
        </p:spPr>
      </p:pic>
      <p:sp>
        <p:nvSpPr>
          <p:cNvPr id="315" name="Text Placeholder 7"/>
          <p:cNvSpPr/>
          <p:nvPr/>
        </p:nvSpPr>
        <p:spPr>
          <a:xfrm>
            <a:off x="3613320" y="1849320"/>
            <a:ext cx="49813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Federation</a:t>
            </a:r>
            <a:br>
              <a:rPr sz="2400"/>
            </a:b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of Accountant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6" name="Text Placeholder 7"/>
          <p:cNvSpPr/>
          <p:nvPr/>
        </p:nvSpPr>
        <p:spPr>
          <a:xfrm>
            <a:off x="380880" y="5322960"/>
            <a:ext cx="8377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ifac.org</a:t>
            </a: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7" name="Text Placeholder 7"/>
          <p:cNvSpPr/>
          <p:nvPr/>
        </p:nvSpPr>
        <p:spPr>
          <a:xfrm>
            <a:off x="2236680" y="3421080"/>
            <a:ext cx="4981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 Body Compliance Program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ogram and Compliance Advisory Panel launched in 2004 as part of IFAC Reform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stablished 7 Statements of Membership Obligations (SMOs)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A, Education, ISAs, Ethics, IPSASs, I&amp;D, IFR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IOB oversigh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A Brief History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ompliance Program Focu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ing continuous improvement of strong PAOs through SMO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uence PAOs’ agendas and ac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and knowledge shar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aboration with stakeholder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rategic Considera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ance Program Focu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t 1 – Information Gathering: Overview of regulatory and standard-setting framework in a member’s jurisdic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t 2 – Self-assessment: Benchmarking against the 7 SMO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t 3 – Own Strategy: Action Plans for development &amp; continuous improvement in addressing the SMO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ntinuous Development and Improveme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8800" y="722160"/>
            <a:ext cx="77803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Beginning of the Road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914400" y="0"/>
            <a:ext cx="76993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/ Achiev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on Plans as first step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t plans for continuous improvement (153 out of 163 published)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nual updates by all member bodi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ing of progress by the CAP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and resources needed to achieve meaningful chang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reach activities and policy advice provided by the IFAC Staff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/ Achievement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ate – key focus on commitment to and participation in the Compliance Program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forcement Ac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 suspension warning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 suspension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expulsion warning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expulsion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Enforcement – since 2005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Working on adoption of the recent Cod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doption environment: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hics Committee of the Audit Council under Min Fin 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ndependence rules must eventually be aligned with Russian legislation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nitial proposal to start with existing Russian CoE (based of old and abbreviated version of IESBA Code) and then make necessary addition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ditors and accountants need different Code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FAC Staff providing guidance and analysis to PAOs, Large Firms, MoF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ussia –Drivers of Local Modifica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hallenges: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arriers of legal, institutional, cultural and financial nature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Lack of ongoing mechanism for adopting and implementing changes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Lack of current translation makes it difficult to discuss with regulators, analyze independence requirements and organize relevant communications and trainings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To achieve meaningful change a thorough cultural change is needed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FAC coordinates formation of a Latin America Review Committee to facilitate translation at the regional level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Latin America – Multiple Stakeholder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inistry of Justice adopts ethical requirements for CNCC:</a:t>
            </a:r>
            <a:endParaRPr b="0" lang="en-US" sz="27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equirements for CNCC endorsed by MinJus in consultation with AMF (securities market regulator), and the H3C</a:t>
            </a:r>
            <a:endParaRPr b="0" lang="en-US" sz="2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equirements are considered to be more stringent than IESBA Code</a:t>
            </a:r>
            <a:endParaRPr b="0" lang="en-US" sz="2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SOEC drafts its ethical requirements to be approved by Ministry of Economy and Finance</a:t>
            </a:r>
            <a:endParaRPr b="0" lang="en-US" sz="27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irect incorporation of IESBA code impossible due to a different structure (Ordinance of 1945, OEC bylaws, other doctrinal texts) </a:t>
            </a:r>
            <a:endParaRPr b="0" lang="en-US" sz="2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oth French Bodies are planning to promote the adoption of the recent IESBA CoE to the Government </a:t>
            </a:r>
            <a:endParaRPr b="0" lang="en-US" sz="27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France – More Stringent Requir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X100</cp:lastModifiedBy>
  <dcterms:modified xsi:type="dcterms:W3CDTF">2012-02-15T15:21:06Z</dcterms:modified>
  <cp:revision>488</cp:revision>
  <dc:subject/>
  <dc:title>Slide 1</dc:title>
</cp:coreProperties>
</file>