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2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2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3DD6D4-C3B8-4488-8BF1-251E57836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030A1B-D33F-4CF0-BFA6-5438902B957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759154-B263-47B9-B4E6-8ED4C6954AE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18AF20-A04A-40EA-BAAF-26F3CAC42C80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D4B3F84-4A98-40E6-B88A-B8A6A2D97472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280E353-D3E4-4EC0-9545-E6AE35E1A14F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E49DD2-C88F-4DF6-B789-F2759D93488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2B7F80-C7E8-4805-9D0E-598E9409411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DEDAA43-BE7E-47D7-8441-901FEFC18B3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BAA91F-7C22-42D4-8D04-CA6ACAD2D27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92D732-506D-4D23-B3CC-CDFA3EF3B07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53721A-A977-44AE-AEBA-F6484B1CF2D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B22B34-D276-478D-B7C9-67AAC560BDD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9A72143-F8A9-4543-A7A2-8C480148FBB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8AB500-5634-4557-B1E6-49B8D455ACF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9A107B-2DA7-4206-90C4-B415CB5B464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1C91F1-F3E9-45A4-9FAC-67D486ACC8D9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6D068D1-0EA1-49C2-8698-4495F6A7563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AFF-8ED3-41CA-8EF5-3A6EB55C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4D1-3FEB-4967-A9B1-747DE4BB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7EE-A012-40BB-ADDF-762A92F4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0F3-7DBE-4134-95DA-53FB2948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9B81-C857-4961-AEE8-8F067D0E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B713-93DC-46AF-8C2D-9D46D4DC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8248-B2AA-493F-AE11-A1AA2168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54A6-83D8-4CFE-B682-DE7CDB3C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24BA-8805-424F-BF92-1A335696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6E43-85B2-46FC-9A4D-AA274FA4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26FC-4541-48E1-B61D-3C2D1FB1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5C8-A42A-478D-838F-EF279709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8EA3-7DB7-4A7D-AF54-179569A9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8D90-2D8D-446E-A685-DB2F3E02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0696-E402-4EEE-A4D1-1027AB48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84AC-CBEC-4196-AA5D-B1C1DF16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488F-39D5-408E-962E-15ABB5EC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C77D3-AABF-4839-83B7-3E7F2FD5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2F579-BA68-4F58-8896-CD2F4F96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46314-8864-4AE1-8B0C-5D1135B4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7AD8-7958-42E0-9550-4ED411B5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DA7D4-11E2-4AAB-A170-C1E75721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449-E3F2-438C-B3D8-F3CA82CA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CE5C4-4923-4989-A7A3-A13BA795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C29F-4A36-47E0-B524-89AE945B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F7BE2-3281-4E54-9554-C5739A7B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7B8D3-CCF0-438F-9B55-998DA1BD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822E2-8FFA-438C-B92A-D780F244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EB60-C662-4B0D-AA84-B32E3562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3D67-0593-42D7-9D70-4FE82C21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C9BDA-3DEF-43CE-A884-A6C13EE4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059A8-BA1B-40FF-9AF1-F084AFCB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07B9A-5A16-4263-9CF3-370DD6B3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8790-2263-4B31-861F-D78E6D56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32A4E-7D10-48C4-81F0-68B580A7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C5C4C-04E5-413F-B4EB-36F1769A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04BC6-EBAA-45FC-AFF5-544B9FCE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18124-F37C-46CF-A64C-17696BEF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6F9B4-E806-4B3C-B148-3DD4A954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2D1DE-33CA-45E6-8E52-5A281FF9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966F9-5D9B-4E85-8510-FFDA933E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AE396-1AF4-4650-AAD5-2BC086DF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7F192-8EDA-4DD6-8069-9EE0CD5F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BA9DC-E758-44B0-92D9-3C89D875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160-DA0F-4F92-A50E-21B690D3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3EB19-8F61-4FD0-B504-A9FDC271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43DB4-9672-4EF1-95C3-6F2E62D4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903D8-F4FB-4DEF-86BA-5320504E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2C57E-A5CE-4BA5-8DC1-7D4A8DF4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6B858-DEDC-40F3-BE8D-2E745128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BC37B-3363-4FB2-B30B-BC977CDC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88FB8-EBAD-4A06-B42D-0401B1A2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D2514-E298-4FCE-B0F2-CAA9B635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0E038-100F-4B92-B165-086E1A49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E77DC-3911-43F6-B361-3515109F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602A-E99A-4BAE-85DE-A9CA6D8E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125C8-1280-4EF6-BE5A-3AC650EB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C70C2-6319-454B-8188-7B0119CB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D0325-FFF6-4DD9-BFFD-D645D695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14EC6-AB29-41E0-8D1C-A64501FF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679E3-7D51-4731-85BC-258970EC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01DD7-1853-48DA-AA4F-67A62D11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1E5D8-A09E-4218-8E15-B6344428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5FCEC-BD26-4AE1-9942-BFC52FFF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7E6E4-B4A4-4918-9A78-C1B2304A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149BC-150B-4B99-A444-E47931C9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899-B037-46AE-8C3A-96966C81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D09FE-420A-466A-8EAF-EBBEB050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94171-B851-4C2D-9B8A-E6B23712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23588-B899-4B28-95FD-4D1B3FAC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903-CBBF-4D2A-A417-3B56DC8A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B54-52F5-42F2-B6EA-B58E2D2B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2F14-F6C3-4453-802E-4DF605A5A1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605C-4E6C-44BE-B25A-30C030D68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D18B-F83F-457A-946D-09B95AF816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C219-CF47-40CD-8B86-8C58D7645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4B55-E1EF-4AF1-8207-8EFDF5ADE1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E694-0C86-4604-820F-BE7B846261DB}" type="slidenum">
              <a:rPr b="0" lang="en-US" sz="1400" spc="-1" strike="noStrike">
                <a:solidFill>
                  <a:srgbClr val="a9a9a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99640" y="1758600"/>
            <a:ext cx="735660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4b"/>
                </a:solidFill>
                <a:latin typeface="Times New Roman"/>
              </a:rPr>
              <a:t>Member Body Compliance Program</a:t>
            </a:r>
            <a:endParaRPr b="0" lang="en-US" sz="3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9840" y="2975040"/>
            <a:ext cx="824724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ell Guthrie, Executive Director</a:t>
            </a:r>
            <a:endParaRPr b="0" lang="en-US" sz="24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ctober 19, 2011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Member sets the ethical requirements through a mandate implied by general consens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ed IESBA Code of Ethics in 2008 without any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ssuing the current IESBA CoE with Jan 2012 effective dat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tion Plan focus on implementation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alawi – Direct Adop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 clearly used as a major point of referenc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ong awareness among PAO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ion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les and rules at a national level often embedded in legislation, regulation and member body governance document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challeng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ing cultural barrier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verarching The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 (MinFin, Ministry of Justice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ors (Capital Market, Insurance, Banking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cy organiza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differences, even different understanding of the concept of moralit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lex National Environ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ors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ig firm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s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ts in Busines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Accounta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Finance Accountant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ing Technician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ing MB Constituencie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ent than Standards that Tend to be Adopted en Block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rcRect l="2238" t="0" r="12688" b="4356"/>
          <a:stretch/>
        </p:blipFill>
        <p:spPr>
          <a:xfrm>
            <a:off x="1270080" y="1549440"/>
            <a:ext cx="6719760" cy="4721040"/>
          </a:xfrm>
          <a:prstGeom prst="rect">
            <a:avLst/>
          </a:prstGeom>
          <a:ln w="0">
            <a:noFill/>
          </a:ln>
        </p:spPr>
      </p:pic>
      <p:sp>
        <p:nvSpPr>
          <p:cNvPr id="306" name="Title 1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O Re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no best endeavors where PAO has direct responsibility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“no less stringent standards” langaug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we best track and articulate “adoption” of CoE and/or key independence pro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is will determine whether local modifications are substantive (i.e., lead to different outcomes)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314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315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6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7" name="Text Placeholder 7"/>
          <p:cNvSpPr/>
          <p:nvPr/>
        </p:nvSpPr>
        <p:spPr>
          <a:xfrm>
            <a:off x="2236680" y="3421080"/>
            <a:ext cx="498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 Body Compliance Program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ogram and Compliance Advisory Panel launched in 2004 as part of IFAC Refor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stablished 7 Statements of Membership Obligations (SMOs)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A, Education, ISAs, Ethics, IPSASs, I&amp;D, IFR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IOB oversigh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A Brief Histor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ng continuous improvement of strong PAOs through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ce PAOs’ agendas and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and knowledge sha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 with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ic Consider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1 – Information Gathering: Overview of regulatory and standard-setting framework in a member’s jurisdic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2 – Self-assessment: Benchmarking against the 7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3 – Own Strategy: Action Plans for development &amp; continuous improvement in addressing the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tinuous Development and Improve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Beginning of the Road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on Plans as first step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t plans for continuous improvement (153 out of 163 published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ual updates by all member bodi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ing of progress by the CAP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and resources needed to achieve meaningful chang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reach activities and policy advice provided by the IFAC Staf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ate – key focus on commitment to and participation in the Compliance Progra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orcement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 suspen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suspen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expul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expul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Enforcement – since 2005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Working on adoption of the recent Cod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ion environment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hics Committee of the Audit Council under Min Fin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dependence rules must eventually be aligned with Russian legislation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itial proposal to start with existing Russian CoE (based of old and abbreviated version of IESBA Code) and then make necessary addition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ditors and accountants need different Code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Staff providing guidance and analysis to PAOs, Large Firms, MoF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ussia –Drivers of Local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hallenges: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arriers of legal, institutional, cultural and financial nature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ongoing mechanism for adopting and implementing change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current translation makes it difficult to discuss with regulators, analyze independence requirements and organize relevant communications and training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o achieve meaningful change a thorough cultural change is needed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coordinates formation of a Latin America Review Committee to facilitate translation at the regional level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Latin America – Multiple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inistry of Justice adopts ethical requirements for CNCC: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for CNCC endorsed by MinJus in consultation with AMF (securities market regulator), and the H3C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are considered to be more stringent than IESBA Code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SOEC drafts its ethical requirements to be approved by Ministry of Economy and Finance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irect incorporation of IESBA code impossible due to a different structure (Ordinance of 1945, OEC bylaws, other doctrinal texts) 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oth French Bodies are planning to promote the adoption of the recent IESBA CoE to the Government 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France – More Stringent Requir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X100</cp:lastModifiedBy>
  <dcterms:modified xsi:type="dcterms:W3CDTF">2012-02-15T15:21:06Z</dcterms:modified>
  <cp:revision>488</cp:revision>
  <dc:subject/>
  <dc:title>Slide 1</dc:title>
</cp:coreProperties>
</file>