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5000" bIns="45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ftr" idx="20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 type="sldNum" idx="21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922D313-77D2-4A57-A42B-09B9F76B6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79E6E01-0438-4CEE-81BC-446CFF3182F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BC4DA14-CE65-4CC9-B78E-0CB454037A7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92329E-08B4-4648-8DCA-72CCA176C88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17D64D-8B1F-4F07-99EA-30D8038BA78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F22A3B5-13C1-4D51-9C7E-349BD3DF570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910B1F-982E-46FF-BB89-B3361BC487A4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0A76E0-DF66-40B0-95EE-08C2CF8B318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3435DD5-2D58-4B85-8C64-532650C04A20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125DEE6-62D4-4E56-8BF8-9EB04D67836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E7D3A57-919B-423D-949F-AF082189FF1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7F0E381-2312-432D-BA9C-7BD26BD1CD0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1EB43F-E897-44E6-B875-26E6119CAB4C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FC84D3E-3DC3-48E2-8214-11BBB708BA4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07112A-EB96-4F4E-B3A5-9BD6D8071AB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FF7719-234A-48A3-AAF6-EAC20026A86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C023305-AFC6-4285-AA4A-68178DE6CFD5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7BD6C5-BB3B-4D97-B827-8AA368C135D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328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849-72EF-481B-8096-0D3CDFB7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66B1-E7F4-40A0-A2C3-40BB5A09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1F5-F507-4439-851F-6CC8F115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6E5-3E66-49B7-A652-37DFC1BC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1C3-6F51-4168-9F37-FD6B5104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41C0-6623-4222-AAF9-8175BFE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8840-77B0-4A5B-A3B4-0AE22A1D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0681-3259-49AA-95B7-6F418CA9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156B-428D-4E60-9279-6414D634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E601-0188-4C2D-94B0-57FAB6EFE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F116-68DE-45FB-8E23-A8AEE5D1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FBD-E0A6-413F-A41B-0F1CA80D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5D84-1619-4660-B8C5-4FDA517E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AB6C-0A03-4D3A-A0A6-60097AB0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1427-37DA-477B-8E2A-7C846E0A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F6C0-CB56-4157-A124-4D56CD73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88B0-BF87-4CAC-B7C7-E9651A15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2BE5-E0CB-4EBE-878A-B2F99BCD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0824-9F71-42C4-AD5D-E50082EB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13D87-F20F-47F5-828C-00D5FB29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AFF5-02AD-4848-BA51-E966EE18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A002-9827-49E3-9FD8-1C94F891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1C8-77EC-4B1F-B6CB-E39BE562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9D74-00D3-47DC-83B7-DA2E8FE4C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A205-199F-4F50-9C6F-A24FC6A4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96430-90EF-40C4-A6C4-DFD1C7DB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0FC4-68D7-41F4-8B44-68BF365F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DA1E3-B1B0-4671-9486-1AC75F02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A4106-9566-47A6-BFFB-3F4D00F6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15244-23FA-4C19-8326-91E1CF0B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2AB7-B44B-42DC-B604-50E13C09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5ABDD-F6AF-430B-B0FB-9AC8774C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07266-5596-4444-B8EC-92922EB0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A7F6-6E00-4EF0-AC24-8D38802B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2A822-CF03-4C56-B311-308DC41A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87290-7E9B-4237-99B8-2FF52E18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21A2D-F9E3-4144-849B-8B8CB0AA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F243E-DE8C-4EA2-8814-F2CCDF97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289BB-42C7-490B-A71A-88F0909D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F37AF-735E-4C28-9425-3E1B7ED3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E933D-A83A-47F2-B482-D90CEF55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5ECF0-3F78-467B-8A29-3ED0E4DC4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1D311-F077-40E0-BC9F-F44C1DBA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AEC00-17C1-4F25-9838-6CBBA3CA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4EC-7817-4E6B-958C-CEECA7FC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8506D-1D17-41A6-8B23-DF87C2BB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8162E-B334-4990-B325-4FF56FF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387A-C2E2-4C47-A2B1-555EB967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4DDC0-5E56-4466-8205-5C471C20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C263-F336-43AC-8C6E-682ED8F4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6AD4A-3489-4FD2-90B3-BEE6A96E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3AA29-3E31-4DEC-A592-EAA80E82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840FD-0770-4D1B-ABC5-DDDBCED8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5D29E-F010-4992-97CF-5166BFB8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8AB7-5C70-4A8B-92EE-4290F824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576-42D1-439C-95F1-6D5F3DF9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5C1C9-018B-4A23-A1FC-2D0B5A07D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14FD9-CBDC-47BB-A760-BBD879BF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90030-30E6-48B8-B349-8076D0B6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4C157-756C-4DAD-9872-F3A75245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AF661-B53C-4E19-A823-B2CB97E0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D685D-AA7E-43AE-8BAB-6C89D988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07E0-E875-4F9C-9A1D-128ADE82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43380-B873-40F0-88FD-132118FF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61F8E-B019-4AED-B734-5A185D57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B89E4-DF3B-4EEA-97DC-CE12A9B0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9695-07C3-4472-AD9D-733D8399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5C11B-4BAC-4B05-9E13-70C5C821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40604-65F2-437E-9C66-0C48F066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AC7DE-EA70-4C2B-9681-32AD5B0E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55D-553B-4190-928B-D86ABFFE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48B-1A44-4E86-9B4A-4634387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B944-7D56-4942-93D9-BFFB6A7336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EB85-D0EB-4197-B69F-EAA4D27D0D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D94-7CFF-428B-B71F-E051FC7AF9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64D5-AD08-4A2B-9432-0AAF0A8E9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C31F-12D5-4D0D-9934-C4D9FED1D9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0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9a9a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070F-D3D2-43BE-B94A-B454AAAB37C8}" type="slidenum">
              <a:rPr b="0" lang="en-US" sz="1400" spc="-1" strike="noStrike">
                <a:solidFill>
                  <a:srgbClr val="a9a9a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99640" y="1758600"/>
            <a:ext cx="735660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4b"/>
                </a:solidFill>
                <a:latin typeface="Times New Roman"/>
              </a:rPr>
              <a:t>Member Body Compliance Program</a:t>
            </a:r>
            <a:endParaRPr b="0" lang="en-US" sz="3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29840" y="2975040"/>
            <a:ext cx="8247240" cy="113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ell Guthrie, Executive Director</a:t>
            </a:r>
            <a:endParaRPr b="0" lang="en-US" sz="24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October 19, 2011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Member sets the ethical requirements through a mandate implied by general consens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ed IESBA Code of Ethics in 2008 without any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ssuing the current IESBA CoE with Jan 2012 effective dat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tion Plan focus on implementation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alawi – Direct Adop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E clearly used as a major point of referenc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ong awareness among PAO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option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s and rules at a national level often embedded in legislation, regulation and member body governance document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challeng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ing cultural barriers</a:t>
            </a:r>
            <a:endParaRPr b="0" lang="en-US" sz="26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verarching The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vernment (MinFin, Ministry of Justice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s (Capital Market, Insurance, Banking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cy organization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ltural differences, even different understanding of the concept of morality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lex National Environ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ors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ig firm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s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essional Accountants in Busines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ccounta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 Finance Accountant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ing Technicians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ing MB Constituencie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Different than Standards that Tend to be Adopted en Block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rcRect l="2238" t="0" r="12688" b="4356"/>
          <a:stretch/>
        </p:blipFill>
        <p:spPr>
          <a:xfrm>
            <a:off x="1270080" y="1549440"/>
            <a:ext cx="6719760" cy="4721040"/>
          </a:xfrm>
          <a:prstGeom prst="rect">
            <a:avLst/>
          </a:prstGeom>
          <a:ln w="0">
            <a:noFill/>
          </a:ln>
        </p:spPr>
      </p:pic>
      <p:sp>
        <p:nvSpPr>
          <p:cNvPr id="306" name="Title 1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king of Adoption – Challeng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O Re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no best endeavors where PAO has direct responsibility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 “no less stringent standards” langaug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we best track and articulate “adoption” of CoE and/or key independence provis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Other Matters of Interes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 is will determine whether local modifications are substantive (i.e., lead to different outcomes)?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Moving Forward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314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315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6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7" name="Text Placeholder 7"/>
          <p:cNvSpPr/>
          <p:nvPr/>
        </p:nvSpPr>
        <p:spPr>
          <a:xfrm>
            <a:off x="2236680" y="3421080"/>
            <a:ext cx="4981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Body Compliance Program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ogram and Compliance Advisory Panel launched in 2004 as part of IFAC Refor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stablished 7 Statements of Membership Obligations (SMOs)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A, Education, ISAs, Ethics, IPSASs, I&amp;D, IFR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IOB oversigh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A Brief Histor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ing continuous improvement of strong PAOs through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PAOs’ agendas and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and knowledge sha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aboration with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ic Consider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iance Program Focu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1 – Information Gathering: Overview of regulatory and standard-setting framework in a member’s jurisdic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2 – Self-assessment: Benchmarking against the 7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art 3 – Own Strategy: Action Plans for development &amp; continuous improvement in addressing the SMO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tinuous Development and Improveme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8800" y="722160"/>
            <a:ext cx="77803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Beginning of the Road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914400" y="0"/>
            <a:ext cx="7699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tion Plans as first step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plans for continuous improvement (153 out of 163 published)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nual updates by all member bodie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ing of progress by the CAP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and resources needed to achieve meaningful chang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1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reach activities and policy advice provided by the IFAC Staff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/ Achievement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ate – key focus on commitment to and participation in the Compliance Progra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forcement Ac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 suspen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 suspen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 expulsion warning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2251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 expulsion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Enforcement – since 2005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Working on adoption of the recent Cod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doption environment: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hics Committee of the Audit Council under Min Fin 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dependence rules must eventually be aligned with Russian legislation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nitial proposal to start with existing Russian CoE (based of old and abbreviated version of IESBA Code) and then make necessary addition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ditors and accountants need different Code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Staff providing guidance and analysis to PAOs, Large Firms, MoF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ussia –Drivers of Local Modification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hallenges: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arriers of legal, institutional, cultural and financial nature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ongoing mechanism for adopting and implementing change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Lack of current translation makes it difficult to discuss with regulators, analyze independence requirements and organize relevant communications and trainings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To achieve meaningful change a thorough cultural change is needed</a:t>
            </a:r>
            <a:endParaRPr b="0" lang="en-US" sz="2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FAC coordinates formation of a Latin America Review Committee to facilitate translation at the regional level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Latin America – Multiple Stakehold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take of the Code of Ethic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58800" y="11937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inistry of Justice adopts ethical requirements for CNCC: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for CNCC endorsed by MinJus in consultation with AMF (securities market regulator), and the H3C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equirements are considered to be more stringent than IESBA Code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SOEC drafts its ethical requirements to be approved by Ministry of Economy and Finance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90000"/>
              </a:lnSpc>
              <a:spcAft>
                <a:spcPts val="601"/>
              </a:spcAft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irect incorporation of IESBA code impossible due to a different structure (Ordinance of 1945, OEC bylaws, other doctrinal texts) </a:t>
            </a:r>
            <a:endParaRPr b="0" lang="en-US" sz="2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Both French Bodies are planning to promote the adoption of the recent IESBA CoE to the Government </a:t>
            </a:r>
            <a:endParaRPr b="0" lang="en-US" sz="27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3880" y="626760"/>
            <a:ext cx="793584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France – More Stringent Requir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X100</cp:lastModifiedBy>
  <dcterms:modified xsi:type="dcterms:W3CDTF">2012-02-15T15:21:06Z</dcterms:modified>
  <cp:revision>488</cp:revision>
  <dc:subject/>
  <dc:title>Slide 1</dc:title>
</cp:coreProperties>
</file>