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043-8F21-4E2F-A43C-BB96CBFB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DE8-9B99-41AA-94DE-B8DA4451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909-DDB0-4BB6-90F9-B7C71188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433-2002-41C6-BB4C-EFD09DD4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1D18-F17F-4CF0-BFEA-7BBFCC09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1F2C-E4AE-4BD5-B82C-B154DE28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64AF-25A1-4E02-B9E1-E4C1EA09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A7C0-3272-477F-815E-A1C53FE4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C4BC-E645-42F3-89D6-52FD4C0E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CD4D-2B61-4528-ACFF-D1DE79EA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083B-E45A-4E96-B203-F0C0A4B3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233-DB55-428F-9D86-0C16F3C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5B07-B6AE-4338-AD3C-EEAAE015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05B6-50B4-4B5B-9E8A-400D8CFA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E13E-CA86-43A2-98BF-1A5D6380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34AB-BB4D-444D-BEED-8C6A751D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86FC-578E-4C3D-A9BF-152C067D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48A-8DF5-43F2-BFB7-65D09F2E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32F-5D3B-4004-9D92-F6B5BBFE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488-8F92-4C13-8D76-7887D438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5F7-CC2B-43C7-9900-D29E7862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2E0-D8C7-4685-A32E-4E6DBFD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EE8-98D0-4338-BC07-CED40615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0C8-9733-486C-93F2-B6A6FD66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5534-2EE0-49AB-894E-99DDAB9DCE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B3BE-C2B0-4F65-A9B4-259DA19524B8}" type="slidenum">
              <a:rPr b="0" lang="en-US" sz="1400" spc="-1" strike="noStrike">
                <a:solidFill>
                  <a:srgbClr val="a9a9a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ober 13, 2010 : Green Pap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62040" indent="-27720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step in the process to elaborate a law at European level : Discussion document open to public comments.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2011 : Report to the parlia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ember 13, 2011 : European Parliament Resolu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mber 2011 : Draft legis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reen paper of the European Commi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discussion on 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the auditor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 and independence of audit firm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vision of auditor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of the audit marke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of a European passpor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cations for SMEs / SMP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What were the objectives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 of auditors reviewed by a public supervisory body independent of the profe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to be conducted 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rotation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joint audi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85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emarcation between audit services and NAS provided to an audit cli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of condi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and external audit services shall not be provided simultaneousl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 of certain servic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 approval by audit committe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of a cap on N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SAPET, Mrs. Isabelle</cp:lastModifiedBy>
  <dcterms:modified xsi:type="dcterms:W3CDTF">2011-10-19T13:25:36Z</dcterms:modified>
  <cp:revision>307</cp:revision>
  <dc:subject/>
  <dc:title>Slide 1</dc:title>
</cp:coreProperties>
</file>