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BBE7A-F619-4824-BEF6-253B43845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EA421-DB38-464F-BE7F-40F85BA91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0A5F5-8446-4C0F-A7AC-C6E10FFD8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99EEB-9521-4736-852C-E4E86FC3E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C80BB-F8F5-4098-A739-EAAAD03C3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B7726-C324-434B-A837-65C84E68F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2105A-BEBF-4B95-8E74-97DE05E4B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31B19-C1D7-4E75-9841-1109C9265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555FD-4A3B-4583-9319-09DC50066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07120-E3B3-4CE9-A2E0-91826BD0B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827C9-AF9C-4C79-98FA-6A4A9BF1B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29228-EAEA-4D76-98EE-ED9C2F7F8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89C9C-47D5-437F-BD7C-71684F863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AC8D7-66F2-4D00-A211-A8E1977E8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7F258-73D0-4400-BCFD-D2CC86DD8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5E8B7-6408-4D69-8C55-498510070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6DCFE-274A-469E-A003-1BA0C28AF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2ABAB-996E-4F3D-8CAD-2188CC696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6F2EB-DDEB-49E4-A81A-BD213A719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D587A-B4A1-4009-9274-95923B32A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F717D-D121-423C-8662-BDA4592AE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48131-0EA9-4A2E-9E88-1B03037FD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898AB-83CA-496D-924A-5085D8C90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4E68D-C873-495C-9F01-5A044D2DB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8" descr="IFAC_symbol_blue"/>
          <p:cNvPicPr/>
          <p:nvPr/>
        </p:nvPicPr>
        <p:blipFill>
          <a:blip r:embed="rId3"/>
          <a:stretch/>
        </p:blipFill>
        <p:spPr>
          <a:xfrm>
            <a:off x="8290080" y="6032520"/>
            <a:ext cx="561960" cy="5014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456840" y="6102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3124080" y="610200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3"/>
          </p:nvPr>
        </p:nvSpPr>
        <p:spPr>
          <a:xfrm>
            <a:off x="6552720" y="6102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87BB3-BC48-448F-B49E-A28BAE1B544C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Palatino Linotype"/>
              </a:rPr>
              <a:t>Click to edit the title text format</a:t>
            </a: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040" indent="-176040">
              <a:spcBef>
                <a:spcPts val="1800"/>
              </a:spcBef>
              <a:buClr>
                <a:srgbClr val="fa99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f47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  <a:p>
            <a:pPr lvl="1" marL="628560" indent="-231840">
              <a:spcBef>
                <a:spcPts val="1800"/>
              </a:spcBef>
              <a:buClr>
                <a:srgbClr val="fa99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f47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  <a:p>
            <a:pPr lvl="2" marL="1023840" indent="-109440">
              <a:spcBef>
                <a:spcPts val="1800"/>
              </a:spcBef>
              <a:buClr>
                <a:srgbClr val="fa99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f47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  <a:p>
            <a:pPr lvl="3" marL="1311120" indent="-110880">
              <a:spcBef>
                <a:spcPts val="1800"/>
              </a:spcBef>
              <a:buClr>
                <a:srgbClr val="fa99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f47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  <a:p>
            <a:pPr lvl="4" marL="1596960" indent="-109440">
              <a:spcBef>
                <a:spcPts val="1800"/>
              </a:spcBef>
              <a:buClr>
                <a:srgbClr val="fa99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f47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  <a:p>
            <a:pPr lvl="5" marL="1596960" indent="-109440">
              <a:spcBef>
                <a:spcPts val="1800"/>
              </a:spcBef>
              <a:buClr>
                <a:srgbClr val="f2ff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f47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  <a:p>
            <a:pPr lvl="6" marL="1596960" indent="-109440">
              <a:spcBef>
                <a:spcPts val="1800"/>
              </a:spcBef>
              <a:buClr>
                <a:srgbClr val="f2ff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f47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9a9a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4B415-983F-402F-8189-C187A2EE67F6}" type="slidenum">
              <a:rPr b="0" lang="en-US" sz="1400" spc="-1" strike="noStrike">
                <a:solidFill>
                  <a:srgbClr val="a9a9a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10" descr="IFAC_symbol_blue"/>
          <p:cNvPicPr/>
          <p:nvPr/>
        </p:nvPicPr>
        <p:blipFill>
          <a:blip r:embed="rId3"/>
          <a:stretch/>
        </p:blipFill>
        <p:spPr>
          <a:xfrm>
            <a:off x="8290080" y="6032520"/>
            <a:ext cx="561960" cy="5014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4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8f8f8"/>
                </a:solidFill>
                <a:latin typeface="Times New Roman"/>
              </a:rPr>
              <a:t>Click to edit the title text format</a:t>
            </a:r>
            <a:endParaRPr b="1" i="1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6560" indent="-286560">
              <a:spcBef>
                <a:spcPts val="24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  <a:p>
            <a:pPr lvl="1" marL="573120" indent="-239760">
              <a:spcBef>
                <a:spcPts val="24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  <a:p>
            <a:pPr lvl="2" marL="859680" indent="-91800">
              <a:spcBef>
                <a:spcPts val="24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  <a:p>
            <a:pPr lvl="3" marL="1101240" indent="-92880">
              <a:spcBef>
                <a:spcPts val="24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  <a:p>
            <a:pPr lvl="4" marL="1341360" indent="-91800">
              <a:spcBef>
                <a:spcPts val="24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  <a:p>
            <a:pPr lvl="5" marL="1341360" indent="-91800">
              <a:spcBef>
                <a:spcPts val="2401"/>
              </a:spcBef>
              <a:buClr>
                <a:srgbClr val="a9a9a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  <a:p>
            <a:pPr lvl="6" marL="1341360" indent="-91800">
              <a:spcBef>
                <a:spcPts val="2401"/>
              </a:spcBef>
              <a:buClr>
                <a:srgbClr val="a9a9a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7699320" cy="5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fr-FR" sz="2800" spc="-1" strike="noStrike">
              <a:solidFill>
                <a:srgbClr val="f8f8f8"/>
              </a:solidFill>
              <a:latin typeface="Times New Roman"/>
              <a:ea typeface="Times New Roman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658800" y="1407960"/>
            <a:ext cx="7935840" cy="497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0840" indent="-330840">
              <a:lnSpc>
                <a:spcPct val="100000"/>
              </a:lnSpc>
              <a:spcBef>
                <a:spcPts val="240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ctober 13, 2010 : Green Paper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lvl="1" marL="662040" indent="-277200">
              <a:lnSpc>
                <a:spcPct val="100000"/>
              </a:lnSpc>
              <a:spcBef>
                <a:spcPts val="2251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rst step in the process to elaborate a law at European level : Discussion document open to public comments.</a:t>
            </a:r>
            <a:endParaRPr b="0" lang="en-US" sz="3000" spc="-1" strike="noStrike">
              <a:solidFill>
                <a:srgbClr val="f2ff47"/>
              </a:solidFill>
              <a:latin typeface="Arial"/>
            </a:endParaRPr>
          </a:p>
          <a:p>
            <a:pPr marL="330840" indent="-330840">
              <a:lnSpc>
                <a:spcPct val="100000"/>
              </a:lnSpc>
              <a:spcBef>
                <a:spcPts val="240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y 2011 : Report to the parliament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30840" indent="-330840">
              <a:lnSpc>
                <a:spcPct val="100000"/>
              </a:lnSpc>
              <a:spcBef>
                <a:spcPts val="240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ptember 13, 2011 : European Parliament Resolution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30840" indent="-330840">
              <a:lnSpc>
                <a:spcPct val="100000"/>
              </a:lnSpc>
              <a:spcBef>
                <a:spcPts val="240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vember 2011 : Draft legislation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30840" indent="-330840">
              <a:lnSpc>
                <a:spcPct val="100000"/>
              </a:lnSpc>
              <a:spcBef>
                <a:spcPts val="240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58800" y="722160"/>
            <a:ext cx="7935840" cy="5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a4b"/>
                </a:solidFill>
                <a:latin typeface="Times New Roman"/>
                <a:ea typeface="Times New Roman"/>
              </a:rPr>
              <a:t>Green paper of the European Commission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7699320" cy="5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fr-FR" sz="2800" spc="-1" strike="noStrike">
              <a:solidFill>
                <a:srgbClr val="f8f8f8"/>
              </a:solidFill>
              <a:latin typeface="Times New Roman"/>
              <a:ea typeface="Times New Roman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658800" y="1407960"/>
            <a:ext cx="7935840" cy="497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240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en a discussion on :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1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le of the auditor</a:t>
            </a:r>
            <a:endParaRPr b="0" lang="en-US" sz="2800" spc="-1" strike="noStrike">
              <a:solidFill>
                <a:srgbClr val="f2ff47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1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overnance and independence of audit firms</a:t>
            </a:r>
            <a:endParaRPr b="0" lang="en-US" sz="2800" spc="-1" strike="noStrike">
              <a:solidFill>
                <a:srgbClr val="f2ff47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1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pervision of auditors</a:t>
            </a:r>
            <a:endParaRPr b="0" lang="en-US" sz="2800" spc="-1" strike="noStrike">
              <a:solidFill>
                <a:srgbClr val="f2ff47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1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figuration of the audit market</a:t>
            </a:r>
            <a:endParaRPr b="0" lang="en-US" sz="2800" spc="-1" strike="noStrike">
              <a:solidFill>
                <a:srgbClr val="f2ff47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1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ion of a European passport</a:t>
            </a:r>
            <a:endParaRPr b="0" lang="en-US" sz="2800" spc="-1" strike="noStrike">
              <a:solidFill>
                <a:srgbClr val="f2ff47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1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mplifications for SMEs / SMPs</a:t>
            </a:r>
            <a:endParaRPr b="0" lang="en-US" sz="28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58800" y="722160"/>
            <a:ext cx="7935840" cy="5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a4b"/>
                </a:solidFill>
                <a:latin typeface="Times New Roman"/>
                <a:ea typeface="Times New Roman"/>
              </a:rPr>
              <a:t>What were the objectives?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7699320" cy="5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fr-FR" sz="2800" spc="-1" strike="noStrike">
              <a:solidFill>
                <a:srgbClr val="f8f8f8"/>
              </a:solidFill>
              <a:latin typeface="Times New Roman"/>
              <a:ea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658800" y="1407960"/>
            <a:ext cx="7935840" cy="497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240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ependence of auditors reviewed by a public supervisory body independent of the profession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240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act assessment to be conducted on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1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ternal rotation</a:t>
            </a:r>
            <a:endParaRPr b="0" lang="en-US" sz="2800" spc="-1" strike="noStrike">
              <a:solidFill>
                <a:srgbClr val="f2ff47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1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untary joint audits</a:t>
            </a:r>
            <a:endParaRPr b="0" lang="en-US" sz="2800" spc="-1" strike="noStrike">
              <a:solidFill>
                <a:srgbClr val="f2ff47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1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58800" y="722160"/>
            <a:ext cx="7935840" cy="5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a4b"/>
                </a:solidFill>
                <a:latin typeface="Times New Roman"/>
                <a:ea typeface="Times New Roman"/>
              </a:rPr>
              <a:t>Parliament resolution in favor of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7699320" cy="5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fr-FR" sz="2800" spc="-1" strike="noStrike">
              <a:solidFill>
                <a:srgbClr val="f8f8f8"/>
              </a:solidFill>
              <a:latin typeface="Times New Roman"/>
              <a:ea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58800" y="1407960"/>
            <a:ext cx="7935840" cy="497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0520" indent="-285840">
              <a:lnSpc>
                <a:spcPct val="100000"/>
              </a:lnSpc>
              <a:spcBef>
                <a:spcPts val="240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ear demarcation between audit services and NAS provided to an audit client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1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st of conditions</a:t>
            </a:r>
            <a:endParaRPr b="0" lang="en-US" sz="2800" spc="-1" strike="noStrike">
              <a:solidFill>
                <a:srgbClr val="f2ff47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1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al and external audit services shall not be provided simultaneously</a:t>
            </a:r>
            <a:endParaRPr b="0" lang="en-US" sz="2800" spc="-1" strike="noStrike">
              <a:solidFill>
                <a:srgbClr val="f2ff47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1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n of certain services</a:t>
            </a:r>
            <a:endParaRPr b="0" lang="en-US" sz="2800" spc="-1" strike="noStrike">
              <a:solidFill>
                <a:srgbClr val="f2ff47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1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 approval by audit committee</a:t>
            </a:r>
            <a:endParaRPr b="0" lang="en-US" sz="2800" spc="-1" strike="noStrike">
              <a:solidFill>
                <a:srgbClr val="f2ff47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1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act assessment of a cap on NAS</a:t>
            </a:r>
            <a:endParaRPr b="0" lang="en-US" sz="2800" spc="-1" strike="noStrike">
              <a:solidFill>
                <a:srgbClr val="f2ff47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1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58800" y="722160"/>
            <a:ext cx="7935840" cy="5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a4b"/>
                </a:solidFill>
                <a:latin typeface="Times New Roman"/>
                <a:ea typeface="Times New Roman"/>
              </a:rPr>
              <a:t>Parliament resolution in favor of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5T22:30:07Z</dcterms:created>
  <dc:creator>Robin Dennis</dc:creator>
  <dc:description/>
  <dc:language>en-US</dc:language>
  <cp:lastModifiedBy>SAPET, Mrs. Isabelle</cp:lastModifiedBy>
  <dcterms:modified xsi:type="dcterms:W3CDTF">2011-10-19T13:25:36Z</dcterms:modified>
  <cp:revision>307</cp:revision>
  <dc:subject/>
  <dc:title>Slide 1</dc:title>
</cp:coreProperties>
</file>