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02C5-2727-45F6-82F3-2018AB15F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A74A-4247-4265-A5EA-A1E252A07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44BF-348D-43A5-AF3E-8E410946C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9BD4-E9ED-401E-9BDF-796B87E11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3EE41-E6B7-4F5D-94D4-805451EF8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B1E70-FF7B-40E5-B698-CBFC15D39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D0B0E-3CC8-4760-8D00-2869AA60A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A675F-3CDD-4F9D-A6F9-E24AACE62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D0878-EBDE-4807-AB19-3B051C793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6DF6B-5B70-4785-B812-C81E96C8A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B563E-8121-46CD-B17B-CFC9DBEF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9B6D-54B6-40BF-8D56-B8EC0F8B9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0CD4E-845D-46A6-AA68-AEDF10E3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1D135-5588-4CF9-B3F6-DF9F7AE5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FA2CB-DF52-4F1B-8A57-2579AB7FF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37FB4-E099-425B-A5FF-9CD3AE978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2B038-AF03-4375-A6BF-E4616D6DD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0CAB-42E5-4B91-BE21-3669F7211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8605-2259-4349-BED1-5EEA1F4A8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F5C7-23C5-40AA-8C0B-5D011E96B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3CD5-2B37-4A2F-9924-C84961ED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081E-5C6E-4DED-A33B-69716D0A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8780-8C0B-40D8-A948-77AB1FCC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33BB-6CDD-45BE-9A82-93387F62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8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102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D4B10-D8E0-48E6-BAB9-D68BDD61C1D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1" marL="628560" indent="-23184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2" marL="102384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3" marL="1311120" indent="-11088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4" marL="159696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5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6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9a9a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80125-6FC3-4997-88C8-A9AD78E38964}" type="slidenum">
              <a:rPr b="0" lang="en-US" sz="1400" spc="-1" strike="noStrike">
                <a:solidFill>
                  <a:srgbClr val="a9a9a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6560" indent="-28656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1" marL="573120" indent="-23976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2" marL="85968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3" marL="1101240" indent="-9288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4" marL="134136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5" marL="1341360" indent="-91800">
              <a:spcBef>
                <a:spcPts val="2401"/>
              </a:spcBef>
              <a:buClr>
                <a:srgbClr val="a9a9a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6" marL="1341360" indent="-91800">
              <a:spcBef>
                <a:spcPts val="2401"/>
              </a:spcBef>
              <a:buClr>
                <a:srgbClr val="a9a9a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fr-FR" sz="2800" spc="-1" strike="noStrike">
              <a:solidFill>
                <a:srgbClr val="f8f8f8"/>
              </a:solidFill>
              <a:latin typeface="Times New Roman"/>
              <a:ea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ctober 13, 2010 : Green Paper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662040" indent="-277200">
              <a:lnSpc>
                <a:spcPct val="100000"/>
              </a:lnSpc>
              <a:spcBef>
                <a:spcPts val="225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st step in the process to elaborate a law at European level : Discussion document open to public comments.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marL="330840" indent="-33084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 2011 : Report to the parliament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30840" indent="-33084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ptember 13, 2011 : European Parliament Resoluti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30840" indent="-33084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vember 2011 : Draft legislati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30840" indent="-33084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Green paper of the European Commissi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fr-FR" sz="2800" spc="-1" strike="noStrike">
              <a:solidFill>
                <a:srgbClr val="f8f8f8"/>
              </a:solidFill>
              <a:latin typeface="Times New Roman"/>
              <a:ea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a discussion on :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le of the auditor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vernance and independence of audit firm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ervision of auditor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 of the audit market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ion of a European passport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ifications for SMEs / SMP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What were the objectives?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fr-FR" sz="2800" spc="-1" strike="noStrike">
              <a:solidFill>
                <a:srgbClr val="f8f8f8"/>
              </a:solidFill>
              <a:latin typeface="Times New Roman"/>
              <a:ea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ependence of auditors reviewed by a public supervisory body independent of the professi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act assessment to be conducted 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rnal rotation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untary joint audit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Parliament resolution in favor of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fr-FR" sz="2800" spc="-1" strike="noStrike">
              <a:solidFill>
                <a:srgbClr val="f8f8f8"/>
              </a:solidFill>
              <a:latin typeface="Times New Roman"/>
              <a:ea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8584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ear demarcation between audit services and NAS provided to an audit client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st of condition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l and external audit services shall not be provided simultaneously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n of certain service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 approval by audit committee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act assessment of a cap on NA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Parliament resolution in favor of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22:30:07Z</dcterms:created>
  <dc:creator>Robin Dennis</dc:creator>
  <dc:description/>
  <dc:language>en-US</dc:language>
  <cp:lastModifiedBy>SAPET, Mrs. Isabelle</cp:lastModifiedBy>
  <dcterms:modified xsi:type="dcterms:W3CDTF">2011-10-19T13:25:36Z</dcterms:modified>
  <cp:revision>307</cp:revision>
  <dc:subject/>
  <dc:title>Slide 1</dc:title>
</cp:coreProperties>
</file>