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387009-C9CB-43DA-B43D-99B8C72D2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533431-61F3-4E3A-885D-2DAC403B018F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7E6D62-7F52-4D68-B9CD-E77FAC1BC10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947C4B-10DC-4F74-A177-3A102154C48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CBF473-2028-4EE6-B19D-DBD4B633CD7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AC6-155E-4834-B04F-15A9124E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D235-B631-4EED-A1D7-59285548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08D-D6A8-4826-B1E2-6B3F3F6F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435-D165-4070-909E-9C943377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932C-EC4F-4758-8F8D-8FF3C667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9FB6-2BFB-4126-AEFD-F6EE3D32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0937-EDA3-4E78-BAA9-20D9D3F0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EEA5-C94B-4731-BD88-AC23BA76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A8DE-353E-4FE1-90F5-92FAE4B5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050F-525C-43AD-B1CA-65AEF352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A34C-C3D0-40BA-824A-EDC949B7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0EE6-296D-465C-AE45-6CB4BDA2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D4EE-1B43-4D65-957D-BDD79DD5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D599-C871-4276-9A9F-4CF142CB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0EF3-C5A9-41A4-A6F6-770CA353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D877-A886-4324-A465-684985BE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FBC1-863F-4B9C-8DCF-E3B85516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CE850-CC0E-4553-9394-74C6F6A3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5F2F9-3163-4EFF-87FA-E0DCC95F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68586-B4C3-408E-9733-7E0CACD7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F4CB5-5F30-4BD0-9D63-E0D5D17A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FDF1B-15D1-4789-831B-0D2A8E0A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FD5-8ED8-4C62-A7CA-ABE9584E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6AF26-B1D2-4208-A26E-E6A57BAB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F2F04-9264-484E-93BE-4B539978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4439A-6A86-4B58-A4E7-39D18BEA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36C0C-FA20-41A6-AD9D-27EEDA1B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49A48-5E23-4E77-8677-C09AF388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025B7-8B2D-4967-BDB2-D0FBA0FE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F1946-71DD-447A-BAD5-64D7A394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3AC-56AA-4B57-A8C1-0F0734F5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1D65-37A1-432B-8BE5-BB55DBAB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9DA3-201F-4AA4-BD94-08A84B5B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2F0-3492-4839-89CA-1EAB342D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B025-639C-4D3A-8E6E-E5BE7650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B78-B6B2-49A6-9FA0-B2A4795D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2B7A-03C9-4258-9CA7-B21A0EC57B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368280" y="804960"/>
            <a:ext cx="838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B852-36C5-43F9-BE92-773D6A300C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2D6F-3BDB-4D8C-B9E8-9641F2814077}" type="datetime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CC1E-D295-4F85-9926-6AFDB3A7A2E0}" type="slidenum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00000" y="1758960"/>
            <a:ext cx="73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Ethics Standards Board for Accounta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9840" y="2974680"/>
            <a:ext cx="824724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 and Compilation Engageme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75160" y="434340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belle Sapet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is June 2010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it-IT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ESBA discussed at February 2010 meet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ASB discussed issues during June 2010 meeting, plans to approve exposure drafts in September 2010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8800" y="721800"/>
            <a:ext cx="7935840" cy="9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s and 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roject Statu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standards, including objectivity, professional competence and due car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 of relevant ethical standards consistent with ISA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in the report to compliance with IESBA Code of ethic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omplying with the Code threats to compliance with relevant ethical requirements are required to be identified and appropriately address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though Code does not require independence national requirements may require independence or specify disclosure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agement letter – may indicate that independence is not requir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vant ethical requirements include independence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Jan Munro</cp:lastModifiedBy>
  <dcterms:modified xsi:type="dcterms:W3CDTF">2010-06-21T20:16:38Z</dcterms:modified>
  <cp:revision>299</cp:revision>
  <dc:subject/>
  <dc:title>Slide 1</dc:title>
</cp:coreProperties>
</file>