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sldImg"/>
          </p:nvPr>
        </p:nvSpPr>
        <p:spPr>
          <a:xfrm>
            <a:off x="1106280" y="698400"/>
            <a:ext cx="4646520" cy="348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Palatino Linotype"/>
              </a:rPr>
              <a:t>Click to move the slide</a:t>
            </a: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ftr" idx="11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 type="sldNum" idx="12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E3CB727-0076-4DF4-8613-B8946ADB30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40D37B9-ECC0-4C57-9F55-A383694B1F89}" type="slidenum">
              <a:rPr b="0" lang="en-US" sz="1200" spc="-1" strike="noStrike">
                <a:solidFill>
                  <a:srgbClr val="f2ff4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5DB9432-C03E-4D4D-A6D5-A6F4A3E35E84}" type="slidenum">
              <a:rPr b="0" lang="en-US" sz="1200" spc="-1" strike="noStrike">
                <a:solidFill>
                  <a:srgbClr val="f2ff4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112F2C2-0FFA-451F-99AB-1EF0ECC92AD2}" type="slidenum">
              <a:rPr b="0" lang="en-US" sz="1200" spc="-1" strike="noStrike">
                <a:solidFill>
                  <a:srgbClr val="f2ff4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3A526F4-B756-45FD-9B87-8EC2C76ED727}" type="slidenum">
              <a:rPr b="0" lang="en-US" sz="1200" spc="-1" strike="noStrike">
                <a:solidFill>
                  <a:srgbClr val="f2ff4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B51B4-FD20-498B-A12D-B1E116E88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2D74B-F0DA-4131-8ED7-DAD6EE649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19B77-B4B8-4C72-8439-FC94FF849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6B396-B2B1-4B1B-AD45-2ED674127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42CD8-1273-47A5-8E96-B814FE9E5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03E08-3324-41D8-B3F5-B554EBB8C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D68EB-CBEA-4534-BBA1-33DA0F449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FBCED-115A-4553-A6B1-C07957C70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1428C-7573-4672-B96A-667720FCA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28019-B02B-4240-BBEF-3CB1C016A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E3828-CA3B-44BF-B2C6-EF70EA602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73EB0-E21A-4D6E-844B-7292127B7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FE78A-993E-4360-9123-864900061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6423C-2242-4165-90C0-2281B8E96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19B2E-F06A-451E-9639-93D244753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F8F0F-E779-4144-A7F9-6D498853C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1A331-02D2-4173-A248-D7A157097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59C722-B050-48FE-8AA8-7C5A64B09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6D9581-836A-479B-A887-431C1FE58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456A7F-437E-4DC0-AA60-FC637CEA2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5DB692-0BE1-4DE1-B0DE-7E9DE438C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251F5B-AEB3-4D53-A328-57ED5A98E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176E0-8374-4C8B-B550-7D28A59DC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F58EDD-35D7-4C2A-B4EF-DC3EF9465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7509DF-3194-4F9D-B040-11AB7664B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047489-A478-45CB-969D-64E8D7A87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E17A5D-6712-4C81-8B29-D9A8ED233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8966E5-470A-4374-9F62-B0710DD65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C934C0-838C-48BE-805A-12E152AAB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FA7654-3A5F-4766-AD7E-F7E3FAC8F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0A615-F708-4E75-9CED-0FAB32384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D4350-37C2-4008-91AF-BF6BC8707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DEE09-E689-42AA-8688-938806114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89CB0-FD63-498C-A75D-B043D1756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05A62-11CC-4868-8F47-504B5A3E9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C8FBA-3F9B-4B12-A7BC-3C2FFAFC0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8" descr="IFAC_symbol_blue"/>
          <p:cNvPicPr/>
          <p:nvPr/>
        </p:nvPicPr>
        <p:blipFill>
          <a:blip r:embed="rId3"/>
          <a:stretch/>
        </p:blipFill>
        <p:spPr>
          <a:xfrm>
            <a:off x="8290080" y="6032520"/>
            <a:ext cx="561960" cy="5014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456840" y="6102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3124080" y="610200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3"/>
          </p:nvPr>
        </p:nvSpPr>
        <p:spPr>
          <a:xfrm>
            <a:off x="6552720" y="6102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DC4BF-4A19-4EDD-8FC9-BE7DDAC353A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Palatino Linotype"/>
              </a:rPr>
              <a:t>Click to edit the title text format</a:t>
            </a: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040" indent="-176040">
              <a:spcBef>
                <a:spcPts val="1800"/>
              </a:spcBef>
              <a:buClr>
                <a:srgbClr val="fa99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f47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  <a:p>
            <a:pPr lvl="1" marL="628560" indent="-231840">
              <a:spcBef>
                <a:spcPts val="1800"/>
              </a:spcBef>
              <a:buClr>
                <a:srgbClr val="fa99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f47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  <a:p>
            <a:pPr lvl="2" marL="1023840" indent="-109440">
              <a:spcBef>
                <a:spcPts val="1800"/>
              </a:spcBef>
              <a:buClr>
                <a:srgbClr val="fa99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f47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  <a:p>
            <a:pPr lvl="3" marL="1311120" indent="-110880">
              <a:spcBef>
                <a:spcPts val="1800"/>
              </a:spcBef>
              <a:buClr>
                <a:srgbClr val="fa99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f47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  <a:p>
            <a:pPr lvl="4" marL="1596960" indent="-109440">
              <a:spcBef>
                <a:spcPts val="1800"/>
              </a:spcBef>
              <a:buClr>
                <a:srgbClr val="fa99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f47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  <a:p>
            <a:pPr lvl="5" marL="1596960" indent="-109440">
              <a:spcBef>
                <a:spcPts val="1800"/>
              </a:spcBef>
              <a:buClr>
                <a:srgbClr val="f2ff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f47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  <a:p>
            <a:pPr lvl="6" marL="1596960" indent="-109440">
              <a:spcBef>
                <a:spcPts val="1800"/>
              </a:spcBef>
              <a:buClr>
                <a:srgbClr val="f2ff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f47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8" descr="IFAC_symbol_blue"/>
          <p:cNvPicPr/>
          <p:nvPr/>
        </p:nvPicPr>
        <p:blipFill>
          <a:blip r:embed="rId3"/>
          <a:stretch/>
        </p:blipFill>
        <p:spPr>
          <a:xfrm>
            <a:off x="8290080" y="6032520"/>
            <a:ext cx="561960" cy="5014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9" descr="IFAC_symbol_blue"/>
          <p:cNvPicPr/>
          <p:nvPr/>
        </p:nvPicPr>
        <p:blipFill>
          <a:blip r:embed="rId4"/>
          <a:stretch/>
        </p:blipFill>
        <p:spPr>
          <a:xfrm>
            <a:off x="8290080" y="6032520"/>
            <a:ext cx="561960" cy="501480"/>
          </a:xfrm>
          <a:prstGeom prst="rect">
            <a:avLst/>
          </a:prstGeom>
          <a:ln w="0">
            <a:noFill/>
          </a:ln>
        </p:spPr>
      </p:pic>
      <p:sp>
        <p:nvSpPr>
          <p:cNvPr id="44" name="TextBox 7"/>
          <p:cNvSpPr/>
          <p:nvPr/>
        </p:nvSpPr>
        <p:spPr>
          <a:xfrm>
            <a:off x="368280" y="804960"/>
            <a:ext cx="83804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Palatino Linotype"/>
              </a:rPr>
              <a:t>Click to edit the title text format</a:t>
            </a: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040" indent="-176040">
              <a:spcBef>
                <a:spcPts val="1800"/>
              </a:spcBef>
              <a:buClr>
                <a:srgbClr val="fa99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2d1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c2d1ff"/>
              </a:solidFill>
              <a:latin typeface="Arial"/>
            </a:endParaRPr>
          </a:p>
          <a:p>
            <a:pPr lvl="1" marL="628560" indent="-231840">
              <a:spcBef>
                <a:spcPts val="1800"/>
              </a:spcBef>
              <a:buClr>
                <a:srgbClr val="fa99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2d1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c2d1ff"/>
              </a:solidFill>
              <a:latin typeface="Arial"/>
            </a:endParaRPr>
          </a:p>
          <a:p>
            <a:pPr lvl="2" marL="1023840" indent="-109440">
              <a:spcBef>
                <a:spcPts val="1800"/>
              </a:spcBef>
              <a:buClr>
                <a:srgbClr val="fa99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2d1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c2d1ff"/>
              </a:solidFill>
              <a:latin typeface="Arial"/>
            </a:endParaRPr>
          </a:p>
          <a:p>
            <a:pPr lvl="3" marL="1311120" indent="-110880">
              <a:spcBef>
                <a:spcPts val="1800"/>
              </a:spcBef>
              <a:buClr>
                <a:srgbClr val="fa99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2d1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c2d1ff"/>
              </a:solidFill>
              <a:latin typeface="Arial"/>
            </a:endParaRPr>
          </a:p>
          <a:p>
            <a:pPr lvl="4" marL="1596960" indent="-109440">
              <a:spcBef>
                <a:spcPts val="1800"/>
              </a:spcBef>
              <a:buClr>
                <a:srgbClr val="fa99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2d1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c2d1ff"/>
              </a:solidFill>
              <a:latin typeface="Arial"/>
            </a:endParaRPr>
          </a:p>
          <a:p>
            <a:pPr lvl="5" marL="1596960" indent="-109440">
              <a:spcBef>
                <a:spcPts val="1800"/>
              </a:spcBef>
              <a:buClr>
                <a:srgbClr val="c2d1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2d1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c2d1ff"/>
              </a:solidFill>
              <a:latin typeface="Arial"/>
            </a:endParaRPr>
          </a:p>
          <a:p>
            <a:pPr lvl="6" marL="1596960" indent="-109440">
              <a:spcBef>
                <a:spcPts val="1800"/>
              </a:spcBef>
              <a:buClr>
                <a:srgbClr val="c2d1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2d1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c2d1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102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10200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102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79D97-05CA-4E16-976C-F31CF5F4EA2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9" descr="IFAC_symbol_blue"/>
          <p:cNvPicPr/>
          <p:nvPr/>
        </p:nvPicPr>
        <p:blipFill>
          <a:blip r:embed="rId3"/>
          <a:stretch/>
        </p:blipFill>
        <p:spPr>
          <a:xfrm>
            <a:off x="8290080" y="6032520"/>
            <a:ext cx="561960" cy="501480"/>
          </a:xfrm>
          <a:prstGeom prst="rect">
            <a:avLst/>
          </a:prstGeom>
          <a:ln w="0">
            <a:noFill/>
          </a:ln>
        </p:spPr>
      </p:pic>
      <p:sp>
        <p:nvSpPr>
          <p:cNvPr id="87" name="TextBox 7"/>
          <p:cNvSpPr/>
          <p:nvPr/>
        </p:nvSpPr>
        <p:spPr>
          <a:xfrm>
            <a:off x="368280" y="804960"/>
            <a:ext cx="838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Palatino Linotype"/>
              </a:rPr>
              <a:t>Click to edit the title text format</a:t>
            </a: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040" indent="-176040">
              <a:spcBef>
                <a:spcPts val="1800"/>
              </a:spcBef>
              <a:buClr>
                <a:srgbClr val="fa99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2d1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c2d1ff"/>
              </a:solidFill>
              <a:latin typeface="Arial"/>
            </a:endParaRPr>
          </a:p>
          <a:p>
            <a:pPr lvl="1" marL="628560" indent="-231840">
              <a:spcBef>
                <a:spcPts val="1800"/>
              </a:spcBef>
              <a:buClr>
                <a:srgbClr val="fa99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2d1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c2d1ff"/>
              </a:solidFill>
              <a:latin typeface="Arial"/>
            </a:endParaRPr>
          </a:p>
          <a:p>
            <a:pPr lvl="2" marL="1023840" indent="-109440">
              <a:spcBef>
                <a:spcPts val="1800"/>
              </a:spcBef>
              <a:buClr>
                <a:srgbClr val="fa99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2d1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c2d1ff"/>
              </a:solidFill>
              <a:latin typeface="Arial"/>
            </a:endParaRPr>
          </a:p>
          <a:p>
            <a:pPr lvl="3" marL="1311120" indent="-110880">
              <a:spcBef>
                <a:spcPts val="1800"/>
              </a:spcBef>
              <a:buClr>
                <a:srgbClr val="fa99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2d1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c2d1ff"/>
              </a:solidFill>
              <a:latin typeface="Arial"/>
            </a:endParaRPr>
          </a:p>
          <a:p>
            <a:pPr lvl="4" marL="1596960" indent="-109440">
              <a:spcBef>
                <a:spcPts val="1800"/>
              </a:spcBef>
              <a:buClr>
                <a:srgbClr val="fa99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2d1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c2d1ff"/>
              </a:solidFill>
              <a:latin typeface="Arial"/>
            </a:endParaRPr>
          </a:p>
          <a:p>
            <a:pPr lvl="5" marL="1596960" indent="-109440">
              <a:spcBef>
                <a:spcPts val="1800"/>
              </a:spcBef>
              <a:buClr>
                <a:srgbClr val="c2d1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2d1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c2d1ff"/>
              </a:solidFill>
              <a:latin typeface="Arial"/>
            </a:endParaRPr>
          </a:p>
          <a:p>
            <a:pPr lvl="6" marL="1596960" indent="-109440">
              <a:spcBef>
                <a:spcPts val="1800"/>
              </a:spcBef>
              <a:buClr>
                <a:srgbClr val="c2d1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2d1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c2d1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102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c2d1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12EE4-8BA3-4323-A219-AA538EB28D45}" type="datetime">
              <a:rPr b="0" lang="en-US" sz="2400" spc="-1" strike="noStrike">
                <a:solidFill>
                  <a:srgbClr val="c2d1ff"/>
                </a:solidFill>
                <a:latin typeface="Times New Roman"/>
              </a:rPr>
              <a:t>07/28/26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10200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2720" y="6102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c2d1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E2AD7-D661-49D8-9619-8863FF35DD52}" type="slidenum">
              <a:rPr b="0" lang="en-US" sz="2400" spc="-1" strike="noStrike">
                <a:solidFill>
                  <a:srgbClr val="c2d1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900000" y="1758960"/>
            <a:ext cx="7329600" cy="72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a4b"/>
                </a:solidFill>
                <a:latin typeface="Times New Roman"/>
                <a:ea typeface="Times New Roman"/>
              </a:rPr>
              <a:t>International Ethics Standards Board for Accountants</a:t>
            </a:r>
            <a:endParaRPr b="0" lang="en-US" sz="3200" spc="-1" strike="noStrike">
              <a:solidFill>
                <a:srgbClr val="c2d1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29840" y="2974680"/>
            <a:ext cx="8247240" cy="69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6040" indent="0" algn="ctr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view and Compilation Engagements</a:t>
            </a:r>
            <a:endParaRPr b="0" lang="en-US" sz="3200" spc="-1" strike="noStrike">
              <a:solidFill>
                <a:srgbClr val="c2d1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575160" y="4343400"/>
            <a:ext cx="4938480" cy="54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6040" indent="0">
              <a:lnSpc>
                <a:spcPct val="100000"/>
              </a:lnSpc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abelle Sapet</a:t>
            </a:r>
            <a:endParaRPr b="0" lang="en-US" sz="2600" spc="-1" strike="noStrike">
              <a:solidFill>
                <a:srgbClr val="c2d1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3575160" y="4951440"/>
            <a:ext cx="4938480" cy="54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6040" indent="0">
              <a:lnSpc>
                <a:spcPct val="100000"/>
              </a:lnSpc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ris June 2010</a:t>
            </a:r>
            <a:endParaRPr b="0" lang="en-US" sz="2600" spc="-1" strike="noStrike">
              <a:solidFill>
                <a:srgbClr val="c2d1ff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3575160" y="5559480"/>
            <a:ext cx="49384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2600" spc="-1" strike="noStrike"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7699320" cy="5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it-IT" sz="2800" spc="-1" strike="noStrike">
              <a:solidFill>
                <a:srgbClr val="f8f8f8"/>
              </a:solidFill>
              <a:latin typeface="Times New Roman"/>
              <a:ea typeface="Times New Roman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658800" y="1407960"/>
            <a:ext cx="7935840" cy="497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240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240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ESBA discussed at February 2010 meeting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240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AASB discussed issues during June 2010 meeting, plans to approve exposure drafts in September 2010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58800" y="721800"/>
            <a:ext cx="7935840" cy="96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ea4b"/>
                </a:solidFill>
                <a:latin typeface="Times New Roman"/>
                <a:ea typeface="Times New Roman"/>
              </a:rPr>
              <a:t>Reviews and Compilation Engagements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ea4b"/>
                </a:solidFill>
                <a:latin typeface="Times New Roman"/>
                <a:ea typeface="Times New Roman"/>
              </a:rPr>
              <a:t>Project Status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7699320" cy="5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CA" sz="2800" spc="-1" strike="noStrike">
              <a:solidFill>
                <a:srgbClr val="f8f8f8"/>
              </a:solidFill>
              <a:latin typeface="Times New Roman"/>
              <a:ea typeface="Times New Roman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658800" y="1407960"/>
            <a:ext cx="7935840" cy="497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240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quirements  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1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actitioner complies with relevant ethical standards, including objectivity, professional competence and due care</a:t>
            </a:r>
            <a:endParaRPr b="0" lang="en-US" sz="2800" spc="-1" strike="noStrike">
              <a:solidFill>
                <a:srgbClr val="f2ff47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1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finition of relevant ethical standards consistent with ISAs</a:t>
            </a:r>
            <a:endParaRPr b="0" lang="en-US" sz="2800" spc="-1" strike="noStrike">
              <a:solidFill>
                <a:srgbClr val="f2ff47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1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ence in the report to compliance with IESBA Code of ethics</a:t>
            </a:r>
            <a:endParaRPr b="0" lang="en-US" sz="28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58800" y="722160"/>
            <a:ext cx="7935840" cy="5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a4b"/>
                </a:solidFill>
                <a:latin typeface="Times New Roman"/>
                <a:ea typeface="Times New Roman"/>
              </a:rPr>
              <a:t>Compilation Engagements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7699320" cy="5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CA" sz="2800" spc="-1" strike="noStrike">
              <a:solidFill>
                <a:srgbClr val="f8f8f8"/>
              </a:solidFill>
              <a:latin typeface="Times New Roman"/>
              <a:ea typeface="Times New Roman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58800" y="1407960"/>
            <a:ext cx="7935840" cy="497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159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 guidance  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4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complying with the Code threats to compliance with relevant ethical requirements are required to be identified and appropriately addressed</a:t>
            </a:r>
            <a:endParaRPr b="0" lang="en-US" sz="2800" spc="-1" strike="noStrike">
              <a:solidFill>
                <a:srgbClr val="f2ff47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4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ven though Code does not require independence national requirements may require independence or specify disclosure requirements</a:t>
            </a:r>
            <a:endParaRPr b="0" lang="en-US" sz="2800" spc="-1" strike="noStrike">
              <a:solidFill>
                <a:srgbClr val="f2ff47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4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gagement letter – may indicate that independence is not required</a:t>
            </a:r>
            <a:endParaRPr b="0" lang="en-US" sz="2800" spc="-1" strike="noStrike">
              <a:solidFill>
                <a:srgbClr val="f2ff47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21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58800" y="722160"/>
            <a:ext cx="7935840" cy="5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a4b"/>
                </a:solidFill>
                <a:latin typeface="Times New Roman"/>
                <a:ea typeface="Times New Roman"/>
              </a:rPr>
              <a:t>Compilation Engagements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7699320" cy="5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CA" sz="2800" spc="-1" strike="noStrike">
              <a:solidFill>
                <a:srgbClr val="f8f8f8"/>
              </a:solidFill>
              <a:latin typeface="Times New Roman"/>
              <a:ea typeface="Times New Roman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58800" y="1407960"/>
            <a:ext cx="7935840" cy="497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240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quirements  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1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actitioner complies with relevant ethical requirements</a:t>
            </a:r>
            <a:endParaRPr b="0" lang="en-US" sz="2800" spc="-1" strike="noStrike">
              <a:solidFill>
                <a:srgbClr val="f2ff47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240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 guidance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1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levant ethical requirements include independence </a:t>
            </a:r>
            <a:endParaRPr b="0" lang="en-US" sz="2800" spc="-1" strike="noStrike">
              <a:solidFill>
                <a:srgbClr val="f2ff47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21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58800" y="722160"/>
            <a:ext cx="7935840" cy="5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a4b"/>
                </a:solidFill>
                <a:latin typeface="Times New Roman"/>
                <a:ea typeface="Times New Roman"/>
              </a:rPr>
              <a:t>Review Engagements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5T22:30:07Z</dcterms:created>
  <dc:creator>Robin Dennis</dc:creator>
  <dc:description/>
  <dc:language>en-US</dc:language>
  <cp:lastModifiedBy>Jan Munro</cp:lastModifiedBy>
  <dcterms:modified xsi:type="dcterms:W3CDTF">2010-06-21T20:16:38Z</dcterms:modified>
  <cp:revision>299</cp:revision>
  <dc:subject/>
  <dc:title>Slide 1</dc:title>
</cp:coreProperties>
</file>