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CFEF6F-29AE-4A0F-9AE1-10021E4E9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2EEC93-5851-469C-811D-59C70BED1E29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E63618-C3BA-4F95-B44D-71AA687D563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329EF3-A8EA-4573-B7E8-2998B3F67EB8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CC301B-6ECA-4DB9-92B3-DE5053608145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A6C-C81E-4180-92D7-3FC0314E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7D3-68B3-4755-B7CA-48EC35C1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538-EF7D-4D5B-93CC-6636026B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CF62-5BA8-481D-9FFD-668978B8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135F-7FA9-46EE-BAFA-26D22D2D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18C1-2839-4821-9799-27DC009E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90FA-B49C-4C00-9E68-00FDFD5E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EE9C-6AD3-4BE8-B0A4-C50EE0FC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C70D-710A-40F6-852E-AEAA19CD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9516-0266-48A6-B1A4-2984B3C1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21E3-192C-49CC-B93E-69DD9AC1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088-E732-4885-9AE5-4A174C10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6363-1012-4B2A-8C42-F43216C2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5713-C811-4A89-B1BB-CC3F0FFD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196A-E431-45A2-ADDE-F0B560D6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5DD7-9D02-4C06-BAEB-767659EB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0E4E-B598-48B7-BAA0-D96E00B0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67A35-F660-4CA1-AB56-5D2EB061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4A613-A1AF-48C2-B7D9-B17DEB75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F2909-477D-47DF-BCC1-ED8D6654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5D979-7DB7-4784-9233-E3C72BC1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FECF3-6059-44B2-84B6-7236F630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18E8-DAC7-498C-A286-D32F3958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F6833-E58E-495F-AA76-B42F0F43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0EECB-D759-4EAD-9004-84FD473A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4FAE6-93BD-408C-A16A-6BFB65BF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D3261-F046-4A48-8199-49D3A2A9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047C1-4A38-4B73-B88B-B104DC78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573AC-99E4-4186-8816-37A20B54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26B35-A674-4EB4-8FBC-E37DFC85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22D-3815-4B99-92D9-3B7B23A2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D10-DB60-4E27-9C8A-420A376C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5419-3066-4241-AF59-8A59FA9C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F10C-4BCE-4F1A-AFE5-B6E0CAEC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FD24-4DC2-492E-8D37-9D7618F0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694-B7C7-4A14-A5C5-193F3D2A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80C7-2A3D-4F77-B0D2-16414F1E7B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368280" y="804960"/>
            <a:ext cx="838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2D79-E920-41A0-B69C-F5BC1D8970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DFA9-7921-4601-9FDD-842AD7B4A2E6}" type="datetime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6C26-F3BE-4012-BC20-76B28777CEFD}" type="slidenum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00000" y="1758960"/>
            <a:ext cx="73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Ethics Standards Board for Accounta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9840" y="2974680"/>
            <a:ext cx="824724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 and Compilation Engageme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75160" y="434340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belle Sapet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is June 2010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it-IT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ESBA discussed at February 2010 meet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ASB discussed issues during June 2010 meeting, plans to approve exposure drafts in September 2010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8800" y="721800"/>
            <a:ext cx="7935840" cy="9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s and 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roject Statu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standards, including objectivity, professional competence and due car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 of relevant ethical standards consistent with ISA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in the report to compliance with IESBA Code of ethic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omplying with the Code threats to compliance with relevant ethical requirements are required to be identified and appropriately address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though Code does not require independence national requirements may require independence or specify disclosure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agement letter – may indicate that independence is not requir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vant ethical requirements include independence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Jan Munro</cp:lastModifiedBy>
  <dcterms:modified xsi:type="dcterms:W3CDTF">2010-06-21T20:16:38Z</dcterms:modified>
  <cp:revision>299</cp:revision>
  <dc:subject/>
  <dc:title>Slide 1</dc:title>
</cp:coreProperties>
</file>