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06280" y="698400"/>
            <a:ext cx="4646520" cy="348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move the slide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51571B-08CA-4AD8-AF2D-5131C80C0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5A559F1-3E83-4528-8CEA-FB5E5DDE0E2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84A1F8F-3679-4ADC-8FF2-F84018FA8763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976A92-023B-4378-B19F-E087DDAC7C4D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06640" y="698400"/>
            <a:ext cx="4646520" cy="34848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414680"/>
            <a:ext cx="5486400" cy="418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7DC7119-4CDB-4A5A-8276-38BB34832568}" type="slidenum">
              <a:rPr b="0" lang="en-US" sz="1200" spc="-1" strike="noStrike">
                <a:solidFill>
                  <a:srgbClr val="f2ff47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AA3C-36E4-4E6A-A565-08B957CD5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54E7-433C-4F0C-B120-07833B882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A21CA-1D9C-4F00-92CA-CA916EA65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3C9B-D85C-4C4E-80AF-19C76B6FA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420EF-7430-405A-B036-AAD2EBF36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931C6-6A27-4AC8-B984-AFA56A411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E2D15-B161-4229-BE95-1267D7AC5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5D0ED-6E41-45C8-8F92-A53668FD9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0C13-63E7-4B2D-97E6-DD2B9C952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637AB-AE3F-4C15-B816-91431A41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1AA1-611A-4A43-9EFF-4CC9CDD2D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2F86-4968-4936-AFDE-58F2F4ABC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C7CA-CC74-4128-A0DB-1C5BF482F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68DFC-68F3-4334-B6DA-6EE4DF7B5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B0347-FFE5-483E-B25C-D18235F2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109F2-9004-4C0F-832D-34880D058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4920-FEF9-4DF9-85F3-BE3E25F3E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39B126-7510-4328-9EB8-32B0EA436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344F8-7847-4406-80FE-7A1794602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C633D-DFC1-4247-A20F-9B066D8B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A5D93-8129-40EA-9D3F-A494FD4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12F29F-D87D-40FE-BCB1-D4C2AB18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CE725-BF02-4B95-AD65-D680E11F4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8358A2-432E-477D-8D53-A0FE427E7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CCD78-8DE5-4CA2-AA3E-F9D64280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65BFA-1719-4EB7-A7A0-9F61C56EC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F0C33-6F7E-4FF9-AE34-FF47C7E39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EB1676-AB38-4463-A134-DC48AC281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2C9A0E-15D0-4D6E-8B87-1C42EDA9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37041-256A-42F0-88BD-B6DE6E57B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260-F6BE-431D-AD18-75E68D00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51E3-E8DE-4976-95CC-524B194BC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01D7-C14B-44B1-ADEC-194450714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4602-B54F-4E07-95C8-94B34CBBD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6BA5-48F3-4B14-8799-02D09844B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CF81-E779-465A-AD9D-5B253943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97288-3D93-4F4B-853D-9A57A523A1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f2ff4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2ff47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8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IFAC_symbol_blue"/>
          <p:cNvPicPr/>
          <p:nvPr/>
        </p:nvPicPr>
        <p:blipFill>
          <a:blip r:embed="rId4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44" name="TextBox 7"/>
          <p:cNvSpPr/>
          <p:nvPr/>
        </p:nvSpPr>
        <p:spPr>
          <a:xfrm>
            <a:off x="368280" y="804960"/>
            <a:ext cx="83804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AEA5-4750-463F-BB97-BC10D852825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9" descr="IFAC_symbol_blue"/>
          <p:cNvPicPr/>
          <p:nvPr/>
        </p:nvPicPr>
        <p:blipFill>
          <a:blip r:embed="rId3"/>
          <a:stretch/>
        </p:blipFill>
        <p:spPr>
          <a:xfrm>
            <a:off x="8290080" y="6032520"/>
            <a:ext cx="561960" cy="501480"/>
          </a:xfrm>
          <a:prstGeom prst="rect">
            <a:avLst/>
          </a:prstGeom>
          <a:ln w="0">
            <a:noFill/>
          </a:ln>
        </p:spPr>
      </p:pic>
      <p:sp>
        <p:nvSpPr>
          <p:cNvPr id="87" name="TextBox 7"/>
          <p:cNvSpPr/>
          <p:nvPr/>
        </p:nvSpPr>
        <p:spPr>
          <a:xfrm>
            <a:off x="368280" y="804960"/>
            <a:ext cx="838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Palatino Linotype"/>
              </a:rPr>
              <a:t>Click to edit the title text format</a:t>
            </a:r>
            <a:endParaRPr b="0" lang="en-US" sz="3200" spc="-1" strike="noStrike">
              <a:solidFill>
                <a:srgbClr val="f8f8f8"/>
              </a:solidFill>
              <a:latin typeface="Palatino Linotype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6040" indent="-1760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1" marL="628560" indent="-23184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2" marL="102384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3" marL="1311120" indent="-110880">
              <a:spcBef>
                <a:spcPts val="1800"/>
              </a:spcBef>
              <a:buClr>
                <a:srgbClr val="fa99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4" marL="1596960" indent="-109440">
              <a:spcBef>
                <a:spcPts val="1800"/>
              </a:spcBef>
              <a:buClr>
                <a:srgbClr val="fa99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5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  <a:p>
            <a:pPr lvl="6" marL="1596960" indent="-109440">
              <a:spcBef>
                <a:spcPts val="1800"/>
              </a:spcBef>
              <a:buClr>
                <a:srgbClr val="c2d1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2d1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FB149-9355-4E89-BA1A-F99D081A6396}" type="datetime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102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102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c2d1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2D3F-1E6D-4946-98AA-764D6FC13DB8}" type="slidenum">
              <a:rPr b="0" lang="en-US" sz="2400" spc="-1" strike="noStrike">
                <a:solidFill>
                  <a:srgbClr val="c2d1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900000" y="1758960"/>
            <a:ext cx="7329600" cy="72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International Ethics Standards Board for Accounta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29840" y="2974680"/>
            <a:ext cx="8247240" cy="69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iew and Compilation Engagements</a:t>
            </a:r>
            <a:endParaRPr b="0" lang="en-US" sz="32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575160" y="434340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abelle Sapet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3575160" y="495144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00000"/>
              </a:lnSpc>
              <a:spcBef>
                <a:spcPts val="1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ris June 2010</a:t>
            </a:r>
            <a:endParaRPr b="0" lang="en-US" sz="2600" spc="-1" strike="noStrike">
              <a:solidFill>
                <a:srgbClr val="c2d1ff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3575160" y="5559480"/>
            <a:ext cx="493848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2600" spc="-1" strike="noStrike"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it-IT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ESBA discussed at February 2010 meeting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AASB discussed issues during June 2010 meeting, plans to approve exposure drafts in September 2010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58800" y="721800"/>
            <a:ext cx="7935840" cy="96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s and 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Project Statu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standards, including objectivity, professional competence and due care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finition of relevant ethical standards consistent with ISA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ence in the report to compliance with IESBA Code of ethic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1599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complying with the Code threats to compliance with relevant ethical requirements are required to be identified and appropriately address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ven though Code does not require independence national requirements may require independence or specify disclosure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14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gagement letter – may indicate that independence is not required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Compilation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7699320" cy="5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CA" sz="2800" spc="-1" strike="noStrike">
              <a:solidFill>
                <a:srgbClr val="f8f8f8"/>
              </a:solidFill>
              <a:latin typeface="Times New Roman"/>
              <a:ea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58800" y="1407960"/>
            <a:ext cx="7935840" cy="497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quirements  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actitioner complies with relevant ethical requirements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401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lication guidance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vant ethical requirements include independence </a:t>
            </a: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100"/>
              </a:spcBef>
              <a:buClr>
                <a:srgbClr val="ffcc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2ff47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58800" y="722160"/>
            <a:ext cx="7935840" cy="5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ea4b"/>
                </a:solidFill>
                <a:latin typeface="Times New Roman"/>
                <a:ea typeface="Times New Roman"/>
              </a:rPr>
              <a:t>Review Engagements</a:t>
            </a:r>
            <a:endParaRPr b="0" lang="en-US" sz="3200" spc="-1" strike="noStrike">
              <a:solidFill>
                <a:srgbClr val="f2ff4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5T22:30:07Z</dcterms:created>
  <dc:creator>Robin Dennis</dc:creator>
  <dc:description/>
  <dc:language>en-US</dc:language>
  <cp:lastModifiedBy>Jan Munro</cp:lastModifiedBy>
  <dcterms:modified xsi:type="dcterms:W3CDTF">2010-06-21T20:16:38Z</dcterms:modified>
  <cp:revision>299</cp:revision>
  <dc:subject/>
  <dc:title>Slide 1</dc:title>
</cp:coreProperties>
</file>