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18B400-26D3-4F2A-B844-829B01B82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9D284F-95CB-4ECD-A236-ABE3B80CF5C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E33525-4A51-4952-8228-E880CA4E730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5BF08D-AD78-4AB6-841F-78A790D3249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ABCEF3-B507-4F70-96FB-45CB1FFA84A5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9BF7-F557-441E-807E-2CE0C8F9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556-DB94-43A2-889D-7ED3EF52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0DF-B6B7-4BCF-94B7-A9A4732C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F1BC-25A9-4545-8076-D895A55A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5DAF-7B02-4342-8DB5-E80F2BF1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AD09-97CF-4CAD-9AB8-993A3FCF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670A-82E6-48A3-B2E5-F687605D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10E7-1D77-4D1D-8309-E933EFC0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1DE6-24C8-4CBC-BBE7-8DDD555E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8AF9-9D0A-42E8-9BD3-3E1DC640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BE21-C6CB-431A-8A37-2C72D6FB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4B4-D627-41BE-A966-E2784EFC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9C69-6AAC-4BDB-8812-72A383F6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60C5-E5B4-44B6-A5B5-BCB0FE84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1C7F-4C43-4E04-9077-CFE38224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97C8-2350-4264-9E95-3363CD64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2E70-58FB-4D26-A59E-E4534E2A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33D84-1C92-4A66-9575-0A886C5E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88560-01F6-4D54-80CF-E5F8F0D3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601D6-A294-4552-A773-863966E0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0C431-6A34-4114-B5FE-F4EF411F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18B6-2A67-4716-993D-F26F8E80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122E-281E-40FF-9975-88DE91FB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1A385-6769-4F4B-B379-9EFCEBD9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A73A0-20A5-4A67-8EF3-E82F4F29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96ACD-97CC-4434-9C8C-C9ADFCD3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B4677-AC0D-4499-91E1-517693ED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96E7F-E65E-4CB0-B01E-03DC589A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D82A6-DBAC-4135-9772-4753A618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C7348-255E-4578-974E-D8262C17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9EF0-9A4F-47A3-803F-CFE10BD7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FF71-A8A1-46A3-AC75-0E748F51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3AE-16C4-455A-9B60-EDBA46AA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43D-D16D-4DCB-AE8A-03A77349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C30-2AD6-4A3F-9DA3-3100ECF7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A5FC-D380-472D-B4A1-768B859E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896E-2C9B-49F3-8D4B-9D76058AB0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368280" y="804960"/>
            <a:ext cx="838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D348-489B-47D8-BA77-B7A50B1A31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0D2B-F619-4C95-A4A8-7BD4911A88AA}" type="datetime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2DF6-58F9-48B4-B374-0B3D3ED0B713}" type="slidenum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00000" y="1758960"/>
            <a:ext cx="73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Ethics Standards Board for Accounta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9840" y="2974680"/>
            <a:ext cx="824724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 and Compilation Engageme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75160" y="434340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belle Sapet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is June 2010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it-IT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ESBA discussed at February 2010 meet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ASB discussed issues during June 2010 meeting, plans to approve exposure drafts in September 2010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8800" y="721800"/>
            <a:ext cx="7935840" cy="9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s and 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roject Statu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standards, including objectivity, professional competence and due car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 of relevant ethical standards consistent with ISA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in the report to compliance with IESBA Code of ethic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omplying with the Code threats to compliance with relevant ethical requirements are required to be identified and appropriately address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though Code does not require independence national requirements may require independence or specify disclosure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agement letter – may indicate that independence is not requir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vant ethical requirements include independence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Jan Munro</cp:lastModifiedBy>
  <dcterms:modified xsi:type="dcterms:W3CDTF">2010-06-21T20:16:38Z</dcterms:modified>
  <cp:revision>299</cp:revision>
  <dc:subject/>
  <dc:title>Slide 1</dc:title>
</cp:coreProperties>
</file>