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202F87A-080E-4B79-907F-E80DF0F3E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4D69F9-5261-4A14-B0EC-CDC5B240154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072DC47-225E-4D0D-AA10-D92C2CEF007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2282A41-58E8-48E8-B88A-6074B0DA6F8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72E4483-F228-405E-B72A-EEAEEDF59AE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309E2D5-842B-4D82-B469-11941D7BD9C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F769F43-AFA0-40E7-913D-226598C60A5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53AF00-41B3-4AE5-B147-700D61AECBB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8D2D9D-31F8-4636-A9FD-AF67E02656E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CF077B-BB69-4A98-86B8-4637652D3CB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31E01A-3E89-4343-9938-2295212DA4C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515B71-9C59-49FB-9A12-3AE051689C7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7030560-E086-47F8-94C0-C2FA746E4FB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B83EA4-C20C-42FC-9F7A-35AEE748494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C4059E7-574B-496C-A0D2-0194C80215E0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83FF5A8-8FE2-4D46-A1F9-2D1F9267065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DAE-470E-40DD-9568-9ACC2F5E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2F3-3014-422B-B7F4-7CD0BC12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051-03C6-4D95-9342-5BDBCFDF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C03-5A52-41A5-B106-C36A3A83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97AD-2A00-46C0-82BF-5FE9173E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F81A-23DB-4898-8DDA-DD8CE6FF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A037-5A63-4071-881E-EE8C494B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D585-13A8-4F6B-B31E-BDC0B0B2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C543-423C-41FF-9B37-C873C0C6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2076-F442-4017-901C-88F7AFB8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79C0-5AB1-4039-A450-5621391A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617-4693-4988-9B6B-C18D002C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28C0-25EE-4DAE-8D31-9001716B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DFD6-1841-4E11-910B-9E88940B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DF34-9A38-465B-9069-99A8CED4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FAA0-1E29-4CBE-912C-C65EE5B1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2D97-16F0-43DC-A9A4-046EE28C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ACC36-99A4-4682-83CF-8456C75D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534F-D9C1-47CB-B4DE-E55192EF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4E586-C909-491E-811F-86C10794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A653C-1CBE-46CF-A512-9683C1FA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5440-FBD1-430A-97AA-10D0F676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B5B-3F26-4520-BEF9-25698B78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310CD-142C-421F-8E41-D7CE0751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B396-BD1D-4627-8E56-E1CE2B94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E1ED-6D2E-4583-A4D5-95920F09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484AD-51EF-43A5-B30B-0312E707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EBD5-C021-48E2-8738-E98AC8E6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9373-7EE0-4637-98AB-EB493BD8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6A9D-3B01-4AC3-9A2F-A0DC4205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4033E-0826-4DB8-89D3-F5761318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749EE-85EB-4795-9A65-0BB1A752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E2F6B-2623-4613-8D77-1D7D677A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AF6-3CBF-4025-8CC5-9180A12E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B0245-5A47-44EE-81E6-3F8AE997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1312C-F25A-4262-916B-4B06F411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3B480-4CD9-4889-B7CD-E23A5647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2715A-87C4-47B5-AFFB-570F93E4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F261A-EFB8-4003-9295-2CA9E6CA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B60FB-6A65-4AB5-8188-FA081806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EB229-48D4-43C3-8F2C-BD29C9A6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3AABB-C368-4B99-BD97-34603C5E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D4F65-5CB4-494D-AF0F-DFA2FE3D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42A83-C601-4489-96D9-C849C476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3F8-718C-4C11-A894-9B032891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6A5B4-1DF8-4E44-8A1C-C4F5F4E8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CBAD9-BAAD-45AE-8104-37B7FAEE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5A872-DC77-48B4-8DC4-DB563569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01B5F-4D4B-4EE2-BA9B-3F5B7BC2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C53C5-189F-4620-B264-6C9FEC3B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3F3CC-9E5A-4A46-A69B-D697A8C7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68909-2C55-46BE-91D0-FFADDB3D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14D4A-91B1-478F-B285-14108E7E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25803-BDE3-42B4-A112-0A7654CB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D0B17-981C-42B1-AEDD-FA9D1EC4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00E-CE72-4F31-839C-61FE296A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5A8A8-D6FA-4467-B05F-D9E4CDF1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96B-33FB-4283-883F-8894D3F9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291-10A9-4D79-9D0C-565AAB4F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FBB-32A0-4A3E-AEA4-9E7086EE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F20A-FA70-46E9-AA2A-49D41E522C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E0C5-F539-489F-928B-FEBE2FDB3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BDC3-33AD-42E3-A443-B1360BE314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7169-954C-4E2F-9C56-D160C78EEF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F36E-831B-4574-B260-5312849911A3}" type="slidenum">
              <a:rPr b="0" lang="en-US" sz="1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fac.org/SMP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ea4b"/>
                </a:solidFill>
                <a:latin typeface="Times New Roman"/>
              </a:rPr>
              <a:t>Small and Medium Practices Committee </a:t>
            </a:r>
            <a:endParaRPr b="0" lang="en-US" sz="33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8440" y="2757600"/>
            <a:ext cx="837252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lvie Voghel, Chair, SMP Committee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75160" y="4271760"/>
            <a:ext cx="493848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ebruary 18, 2010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RS for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reaction highly positiv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SC Foundation training material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training worksho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membership on SME Implementation Group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quality and free to download guid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Using ISAs in the Audits of SME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Quality Control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Practice Management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ole of SMPs in Providing Business Support Services to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 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</a:t>
            </a:r>
            <a:r>
              <a:rPr b="0" lang="en-US" sz="3200" spc="-1" strike="noStrike" u="sng">
                <a:solidFill>
                  <a:srgbClr val="c13535"/>
                </a:solidFill>
                <a:uFillTx/>
                <a:latin typeface="Times New Roman"/>
                <a:ea typeface="Times New Roman"/>
                <a:hlinkClick r:id="rId2"/>
              </a:rPr>
              <a:t>http://www.ifac.org/SMP/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ation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net portal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eNew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to other resources (IFAC and other)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boar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nnual SMP Foru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Center for SMP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view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How can IFAC best support SMPs &amp;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raft recommendations being discussed at IFAC Chief Executives’ Strategy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presentation – in fact and appearance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MP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clusion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ore scope for us to work togeth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utual interest in promoting ethical behavior and converg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Ken will present at our meeting on March 11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</a:t>
            </a:r>
            <a:endParaRPr b="0" lang="en-US" sz="36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266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267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8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Es account for majority of private sector employment and GDP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tial for job creation, social cohesion, innovation and growth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 Global Leadership Survey 2009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ing needs of SMPs and SMEs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st important issu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over-burdensome regulation of SME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lump in deman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cess to fin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naging cos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er and more complex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-2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hallenging Ti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ly placed to help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s are small business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SMEs perform better and comply with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upport servic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role in SME financ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ole of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the capacity of SMPs to support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lping member bodies to help thei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tarted out around 5 years ago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8 memb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ormal procedures, project teams etc.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nual SMP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p to shape form and content of international standard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ractical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efficiently implement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manage bett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remain releva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9120" y="1407960"/>
            <a:ext cx="81612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’s Support for a Single Set of Auditing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&amp; implementation support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 implementation monito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nalysi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ion of review &amp; compilation standard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- IA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ed &amp; redraft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of Ethics for Professional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290 Independ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general concerns to those for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y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tee response to E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llenges to adoption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implementation and consider need to eliminate requirement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implementation support material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together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dofori</cp:lastModifiedBy>
  <dcterms:modified xsi:type="dcterms:W3CDTF">2010-02-19T15:31:05Z</dcterms:modified>
  <cp:revision>358</cp:revision>
  <dc:subject/>
  <dc:title>Slide 1</dc:title>
</cp:coreProperties>
</file>