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7077075" cy="9371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7077600" cy="9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6"/>
          </p:nvPr>
        </p:nvSpPr>
        <p:spPr>
          <a:xfrm>
            <a:off x="4008240" y="-360"/>
            <a:ext cx="30668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96640" y="703440"/>
            <a:ext cx="4684680" cy="351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move the slide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7"/>
          </p:nvPr>
        </p:nvSpPr>
        <p:spPr>
          <a:xfrm>
            <a:off x="0" y="889920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8"/>
          </p:nvPr>
        </p:nvSpPr>
        <p:spPr>
          <a:xfrm>
            <a:off x="4008240" y="8899200"/>
            <a:ext cx="30668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40B0580-8957-4F15-882F-1686B9A61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5647DC8-E2CB-421F-877E-D8F07C4BEE56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05DDCF7-79EA-4F41-BB0D-9532E7E60318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EC66FEC-E446-4E1F-AA12-53F54740B0D9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418A097-E14E-440D-9CFE-8A71198DD916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5EAFDD8-2DA1-448F-A433-E26323F34F16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EC57075-7358-4E91-B23A-79E2138F9457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8B549BD-61A1-462A-AE55-C36750A77DDE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15BCA0F-20DC-4358-B9B0-656168859ED5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F6DA1AC-B0DB-4F76-A580-4C37BD30FD55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15FFC2D-187B-4C0A-A6E9-938F42FAFDBA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FB3D905-9F26-42A0-8F22-409B16CBFE4D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AA630B9-2AF7-4CFB-85BF-5CA73C5F1196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3767706-132B-4088-85F4-4CAFAC85760A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E45D842-743C-4818-83FB-3FDE61B0C148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BBBC9E2-46EA-4808-BF39-F84CE3B0E764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1D5B-C839-460A-8B70-65782D964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BAB8-D3B4-4F14-AB83-E958A236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F240-1973-4E4C-A046-605894516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68BE-A4E6-4016-98D1-14DBB32D7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6D82-DCFE-4E8E-B07C-013666BFF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1213C-0993-4412-A107-94EACEBE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A7C7-844B-4971-8465-2983566C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768E-F335-4241-8656-4F747E42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7B1AF-ADA7-48A8-B5B6-02A2217C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0BA8-1158-4BF1-81D8-728F0392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3084-EF4F-4BD6-A31E-CA5E2827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8046-1631-473F-85EE-5F75A999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2755A-7360-4BD6-A7E7-32F4B052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2402-29BC-4461-99BB-B963FF41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451C-A90A-489F-8128-4C7568F7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A686-4368-41BA-903E-7E612A8C6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BF6C-D050-4F16-A1DE-6C6CCFEF6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79996-39C7-4701-905F-53881EF19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FA522-7524-4B2A-8A5F-6FB1BF30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68EFC-7FB7-4770-A634-9E59F060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3A641-A716-40EE-8624-50C24E07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BC58A-4589-424B-B677-EF26F8F7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EB9B-B980-472B-8084-B5CB2107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4B586-A4BA-44F3-83CB-9A11AC10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7E614-C8B4-4DCF-8771-3EC824CC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E3DE4-C91B-4F6F-AE1D-76541DDF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5732C-FEC8-4368-A298-74873E29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4CB39-25C1-4E84-8A5C-5A027053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E84AF-05E8-4755-8585-6F38A6FA0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AE947-38F3-4386-820F-7058C15FF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CDB67-646E-42F6-9056-61AB4541F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0C128-0DBA-42C5-BCD8-52ED580A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D0F7A-66EF-4589-A322-D10FF226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B844-F1E8-49E4-AAE4-8615F672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267BE-6D06-4684-9800-E5B29F8D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77BE4-CE43-45E6-97EC-380EF600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BAC0A-8F4C-4AC1-B677-BBAF82C3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3ABE3-8A92-46C0-AE95-B5C3E693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5E6DE-917F-4BB8-8368-E8693BCB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4BFAD-5648-4D24-9F83-8E13A633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53301-BF61-4874-B625-2DAE3DDB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F477A-B1C6-45ED-A581-201EB6D5E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04770-3793-488D-86A5-1EE73C0B0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588C4-B0DB-4277-AF62-7BCF46874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C771-1A29-40B3-9F12-564BBAAE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F0342-AA6A-43BA-9C5D-9CADB936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A77DA-BE28-41AF-93DB-89A406B3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104BD-800C-48AF-95C7-AFE23CA6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44FE3-AC9B-4911-9614-202FED0E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86E2F-DC82-43B8-99B4-1E705CDA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8A823-B1EA-4EDE-94F0-15C21041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964A2-F112-4BB5-AE1A-6486D94C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C5B63-B2DC-4EB8-9C03-68493F51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2AB31-21DC-48B1-A83C-02EF0E7E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898BC-DF39-4508-95D3-6C4F2B802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C9FA-08CD-4746-9961-48066744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2BEA7-05F7-4E4E-B883-AA5F0D3E2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2F01-303E-44DB-8DF7-264976DF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C1A5-9217-4C53-8EC3-D96A0698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6AE2-A479-404C-A45A-620B5E51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IFAC_symbol_blue"/>
          <p:cNvPicPr/>
          <p:nvPr/>
        </p:nvPicPr>
        <p:blipFill>
          <a:blip r:embed="rId2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1ECF-D9A6-4704-BAEA-AD3E1F47FA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E878-7AC4-47C8-AD4F-6DA568D89D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Picture 10" descr="IFAC_symbol_blue"/>
          <p:cNvPicPr/>
          <p:nvPr/>
        </p:nvPicPr>
        <p:blipFill>
          <a:blip r:embed="rId2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8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DD79-212E-4322-BBC4-CFC3824583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" descr="IFAC_symbol_blue"/>
          <p:cNvPicPr/>
          <p:nvPr/>
        </p:nvPicPr>
        <p:blipFill>
          <a:blip r:embed="rId2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7"/>
          <p:cNvSpPr/>
          <p:nvPr/>
        </p:nvSpPr>
        <p:spPr>
          <a:xfrm>
            <a:off x="368280" y="804960"/>
            <a:ext cx="83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 Federation of Accounta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pic>
        <p:nvPicPr>
          <p:cNvPr id="128" name="Picture 9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75E1-9141-49AF-B345-1AA773216C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0" descr="IFAC_symbol_blue"/>
          <p:cNvPicPr/>
          <p:nvPr/>
        </p:nvPicPr>
        <p:blipFill>
          <a:blip r:embed="rId2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72" name="TextBox 10"/>
          <p:cNvSpPr/>
          <p:nvPr/>
        </p:nvSpPr>
        <p:spPr>
          <a:xfrm>
            <a:off x="368280" y="804960"/>
            <a:ext cx="83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 Federation of Accounta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2d1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72D2-2536-48EC-82E4-047B764F4476}" type="slidenum">
              <a:rPr b="0" lang="en-US" sz="1400" spc="-1" strike="noStrike">
                <a:solidFill>
                  <a:srgbClr val="c2d1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ifac.org/SMP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900000" y="1758960"/>
            <a:ext cx="7329600" cy="7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ea4b"/>
                </a:solidFill>
                <a:latin typeface="Times New Roman"/>
              </a:rPr>
              <a:t>Small and Medium Practices Committee </a:t>
            </a:r>
            <a:endParaRPr b="0" lang="en-US" sz="33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8440" y="2757600"/>
            <a:ext cx="8372520" cy="135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lvie Voghel, Chair, SMP Committee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75160" y="4271760"/>
            <a:ext cx="4938480" cy="58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ffffff"/>
                </a:solidFill>
                <a:latin typeface="Times New Roman"/>
              </a:rPr>
              <a:t>IESBA Meeting</a:t>
            </a:r>
            <a:endParaRPr b="0" lang="en-US" sz="26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575160" y="495144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ffffff"/>
                </a:solidFill>
                <a:latin typeface="Times New Roman"/>
              </a:rPr>
              <a:t>New York, USA</a:t>
            </a:r>
            <a:endParaRPr b="0" lang="en-US" sz="26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3575160" y="555948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ebruary 18, 2010</a:t>
            </a:r>
            <a:endParaRPr b="0" lang="en-US" sz="2600" spc="-1" strike="noStrike">
              <a:solidFill>
                <a:srgbClr val="0019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Committee’s Support for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RS for SM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obal reaction highly positiv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ASC Foundation training material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onal training workshop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king membership on SME Implementation Group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Standard Setting – IASB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ractical Support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 quality and free to download guid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54756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de to Using ISAs in the Audits of SMEs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54756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de to Quality Control for SMP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54756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de to Practice Management for SMP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54756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ole of SMPs in Providing Business Support Services to SM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Guidanc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ractical Support 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58800" y="1433160"/>
            <a:ext cx="7935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</a:t>
            </a:r>
            <a:r>
              <a:rPr b="0" lang="en-US" sz="3200" spc="-1" strike="noStrike" u="sng">
                <a:solidFill>
                  <a:srgbClr val="c13535"/>
                </a:solidFill>
                <a:uFillTx/>
                <a:latin typeface="Times New Roman"/>
                <a:ea typeface="Times New Roman"/>
                <a:hlinkClick r:id="rId2"/>
              </a:rPr>
              <a:t>http://www.ifac.org/SMP/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ations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ACnet portal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P eNew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s to other resources (IFAC and other)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ussion board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nnual SMP Forum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International Center for SMPs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Review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58800" y="1433160"/>
            <a:ext cx="7935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How can IFAC best support SMPs &amp; SM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raft recommendations being discussed at IFAC Chief Executives’ Strategy Forum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representation – in fact and appearance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SMP Review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onclusion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58800" y="1433160"/>
            <a:ext cx="7935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ore scope for us to work together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utual interest in promoting ethical behavior and convergenc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Ken will present at our meeting on March 11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Conclus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1243080" y="3597120"/>
            <a:ext cx="676116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STIONS</a:t>
            </a:r>
            <a:endParaRPr b="0" lang="en-US" sz="3600" spc="-1" strike="noStrike">
              <a:solidFill>
                <a:srgbClr val="f2ff47"/>
              </a:solidFill>
              <a:latin typeface="Arial"/>
            </a:endParaRPr>
          </a:p>
        </p:txBody>
      </p:sp>
      <p:pic>
        <p:nvPicPr>
          <p:cNvPr id="266" name="Picture 6" descr="logo_145x135.jpg"/>
          <p:cNvPicPr/>
          <p:nvPr/>
        </p:nvPicPr>
        <p:blipFill>
          <a:blip r:embed="rId1"/>
          <a:stretch/>
        </p:blipFill>
        <p:spPr>
          <a:xfrm>
            <a:off x="2428920" y="1774800"/>
            <a:ext cx="958680" cy="895320"/>
          </a:xfrm>
          <a:prstGeom prst="rect">
            <a:avLst/>
          </a:prstGeom>
          <a:ln w="25560">
            <a:solidFill>
              <a:srgbClr val="ffffff"/>
            </a:solidFill>
            <a:round/>
          </a:ln>
        </p:spPr>
      </p:pic>
      <p:sp>
        <p:nvSpPr>
          <p:cNvPr id="267" name="Text Placeholder 7"/>
          <p:cNvSpPr/>
          <p:nvPr/>
        </p:nvSpPr>
        <p:spPr>
          <a:xfrm>
            <a:off x="3613320" y="1849320"/>
            <a:ext cx="498132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International Federation</a:t>
            </a:r>
            <a:br>
              <a:rPr sz="2400"/>
            </a:br>
            <a:r>
              <a:rPr b="1" lang="en-US" sz="24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of Accountants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8" name="Text Placeholder 7"/>
          <p:cNvSpPr/>
          <p:nvPr/>
        </p:nvSpPr>
        <p:spPr>
          <a:xfrm>
            <a:off x="380880" y="5322960"/>
            <a:ext cx="83772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.ifac.org</a:t>
            </a: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mportance of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Es account for majority of private sector employment and GDP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sential for job creation, social cohesion, innovation and growth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AC Global Leadership Survey 2009: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ressing needs of SMPs and SMEs 2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n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ost important issue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 over-burdensome regulation of SMEs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25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General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mportance of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lump in demand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ccess to financ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naging cos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eti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ghter and more complex regula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-20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Challenging Tim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mportance of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quely placed to help SM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Ps are small business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 SMEs perform better and comply with regula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iness support servic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al role in SME financing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Role of SMP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Committee’s Support for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ing the capacity of SMPs to support SM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Helping member bodies to help their SMP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tarted out around 5 years ago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18 member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Formal procedures, project teams etc.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nnual SMP Forum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General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Committee’s Support for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p to shape form and content of international standards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practical support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30080" indent="-365040">
              <a:lnSpc>
                <a:spcPct val="9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 to efficiently implement standard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30080" indent="-365040">
              <a:lnSpc>
                <a:spcPct val="9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 to manage better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30080" indent="-365040">
              <a:lnSpc>
                <a:spcPct val="9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 to remain relevant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Strategy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Committee’s Support for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19120" y="1407960"/>
            <a:ext cx="816120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AC’s Support for a Single Set of Auditing Standard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rified ISA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ions &amp; implementation support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A implementation monitoring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act analysi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ision of review &amp; compilation standards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Standard Setting - IAASB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Committee’s Support for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ised &amp; redrafte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e of Ethics for Professional Accounta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290 Independenc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ilar general concerns to those for ISA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Standard Setting – IESBA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Committee’s Support for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ategy review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tee response to ED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0632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llenges to adoption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70632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 implementation and consider need to eliminate requirements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70632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implementation support materials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70632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 together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70632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70632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70632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Standard Setting – IESBA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22:30:07Z</dcterms:created>
  <dc:creator>Robin Dennis</dc:creator>
  <dc:description/>
  <dc:language>en-US</dc:language>
  <cp:lastModifiedBy>dofori</cp:lastModifiedBy>
  <dcterms:modified xsi:type="dcterms:W3CDTF">2010-02-19T15:31:05Z</dcterms:modified>
  <cp:revision>358</cp:revision>
  <dc:subject/>
  <dc:title>Slide 1</dc:title>
</cp:coreProperties>
</file>