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4825" cy="9598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62440" indent="-26244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5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22440"/>
            <a:ext cx="3517920" cy="27936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09480"/>
            <a:ext cx="3505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52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9880" y="990720"/>
            <a:ext cx="1257480" cy="11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5105520"/>
            <a:ext cx="2362320" cy="1143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516564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VERS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ULTATION/AD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562720"/>
            <a:ext cx="381240" cy="0"/>
          </a:xfrm>
          <a:prstGeom prst="line">
            <a:avLst/>
          </a:prstGeom>
          <a:ln w="50760">
            <a:solidFill>
              <a:srgbClr val="f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5791320"/>
            <a:ext cx="381240" cy="0"/>
          </a:xfrm>
          <a:prstGeom prst="line">
            <a:avLst/>
          </a:prstGeom>
          <a:ln w="50760">
            <a:solidFill>
              <a:srgbClr val="00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5778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VERSIGHT &amp;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177920"/>
            <a:ext cx="8729640" cy="4189320"/>
          </a:xfrm>
          <a:prstGeom prst="rect">
            <a:avLst/>
          </a:prstGeom>
          <a:ln w="0">
            <a:noFill/>
          </a:ln>
          <a:effectLst>
            <a:outerShdw dist="20364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10-02-08T23:55:21Z</dcterms:modified>
  <cp:revision>371</cp:revision>
  <dc:subject/>
  <dc:title>INTERNATIONAL FEDERATION OF ACCOUNTANTS</dc:title>
</cp:coreProperties>
</file>