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7077075" cy="9371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077600" cy="9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6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96640" y="703440"/>
            <a:ext cx="4684680" cy="351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move the slide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7"/>
          </p:nvPr>
        </p:nvSpPr>
        <p:spPr>
          <a:xfrm>
            <a:off x="0" y="889920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8"/>
          </p:nvPr>
        </p:nvSpPr>
        <p:spPr>
          <a:xfrm>
            <a:off x="4008240" y="889920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09174A7-3820-4C80-8BB5-86F4285D6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AB697AA-52B2-4795-9104-DE07DF95681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0CA9314-E6AE-4A59-A97B-903D48B07FD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282DD6CF-F5FB-484A-9928-1A32CEA3E44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04D51F7-EBA3-49F6-A341-644F783F8067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DEAC47-D758-4A29-AC02-0B587D0DC03E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AB3EA0A-2839-4CB6-B834-EF4F5E0C46F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3D712FE-6BBB-4A07-9765-785B69518091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35668E6-1009-4487-9117-C846F23C118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C70CD3-8AA8-4BBB-8D9B-BF33DA49E429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0951577-0790-4C93-B325-AADCCE9AA97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10AC80D-BC19-41EF-B474-E7DF4E3BA7EB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99487AB-9291-48C3-A3E5-4F3AB76F8B5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9D4643D-F1E7-46EA-8ED4-25A9E7E4734A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3F6F6BA-AADF-4E30-9477-29F1216EE672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4008600" y="889956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22C86CA-DC9B-473D-8E49-5B308F246A4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97000" y="703440"/>
            <a:ext cx="4684680" cy="35128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07760" y="4449240"/>
            <a:ext cx="5661000" cy="42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CC5-9094-457B-88B4-66F02EF9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35E8-0912-4E8C-A209-F5F43FCE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8AC4-EC37-4F58-ACDC-2A135D160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A617-BB92-45B1-8396-4E34D4AE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D22B-DA02-400E-8AFA-DF987B7C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C4FD-3519-4950-B7F5-9AAEA93F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7710-927A-4685-98A7-CA2B7AD0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AE12-0276-47DB-B2DD-AA1EF2BE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1C9F-5363-4066-823B-F36BD84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19E0-478D-4D88-A3C1-D5DD4B65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A140-A1EF-493D-8FA3-7929F9B1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6CFD-A3C6-499C-A4AB-D396FB2C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6385-738C-4B57-AD51-95FD773D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0D5A-BB36-4C4E-BA05-76593816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67C6-0275-4065-BF79-69B0CF9B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F2FDC-DF3C-4BA0-AF61-19259D5A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E038-841C-4D74-85B6-FD801E9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74B58-5877-45ED-B171-2E23E098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86552-F38F-4500-BEA1-27B7C826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DDD77-2F72-4350-B4A6-586D7677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1AFC-DF50-406D-A354-595EB897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FF247-7AF1-415C-A29B-80152F86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300-55E5-4DAD-AB0F-D4C18B00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B3AE-F708-4FCC-B6A3-25309527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8EB75-1430-40EA-88F7-4A6DA796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D4CE1-6F54-48E6-905A-EF46FB8C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8C40F-90E1-41DC-909F-3C410438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0F651-F67D-4178-9528-DC512E42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0E09-A522-4A4F-84C1-1ADC2083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912CA-81FD-4883-B79F-D00B95C7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528D5-F7A5-4B15-9806-863DF465B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C04B2-3C04-4553-818E-9ADCC0C55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BB575-4A68-4B43-8E96-47441E31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FCAD-65D9-4EB1-B386-75FB064D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0A653-437F-4F10-859B-ECB753E80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0DE89-A269-4123-917D-CC23AB15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93CB-9CB0-4AC5-9513-B0B2374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7942-05B9-4B9F-9EA7-048FCC1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8E40-B3D5-4734-AB9B-2B77265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0D8F5-78D0-4037-B412-1B429964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964E-A90E-4081-B226-D598A1D77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2CBC0-51E8-4541-858C-31B49126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B1DE-7CC3-4CDA-8072-A76C856C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B760-EDA5-44BE-8C4C-6113A4B4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E92-58A9-4A9D-8AEF-C9EA99B9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FFE81-4419-445E-A952-F6EF8919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0734D-01D6-4DCE-B000-3B39A277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B9E5-A1C4-4B2A-8C3E-16BABB41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91434-84E4-48DE-B5FB-F5BAE47D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5A55F-E3C9-4EA8-984E-58DC24C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212F-2D62-4FB2-8DFD-08D78F3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90386-0B38-45AD-B08E-4026ABDC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99BE1-C8BA-499F-B4D6-8B302ED8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BD4C4-19C2-4DDE-A119-C5DB2F45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5F50F-59B4-4C4F-8540-9B8A5A0E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E41-4BF9-43B3-AFA5-2F614A4F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E7A5-51E5-4092-8AA2-B668CB7B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95D0-409E-46E1-8E18-C589334C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5C9-523D-4332-AE59-E665903A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8EF-AA92-4A93-BAF8-4AC23AF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4E7D-DB58-447E-83BD-F6AA699455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D764-4188-4AF6-8D47-EC7C7618B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a9a9a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6730-FCDA-4950-AAEA-B1A0A26BAA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128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442E-1E92-44C5-8F47-A99A81698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0" descr="IFAC_symbol_blue"/>
          <p:cNvPicPr/>
          <p:nvPr/>
        </p:nvPicPr>
        <p:blipFill>
          <a:blip r:embed="rId2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0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6560" indent="-28656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1" marL="573120" indent="-23976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2" marL="85968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3" marL="1101240" indent="-92880">
              <a:spcBef>
                <a:spcPts val="24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4" marL="1341360" indent="-91800">
              <a:spcBef>
                <a:spcPts val="24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5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  <a:p>
            <a:pPr lvl="6" marL="1341360" indent="-91800">
              <a:spcBef>
                <a:spcPts val="2401"/>
              </a:spcBef>
              <a:buClr>
                <a:srgbClr val="c2d1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9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0B545-B5AD-46F0-82FC-3EFC671BFD6C}" type="slidenum">
              <a:rPr b="0" lang="en-US" sz="1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ifac.org/SMP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ea4b"/>
                </a:solidFill>
                <a:latin typeface="Times New Roman"/>
              </a:rPr>
              <a:t>Small and Medium Practices Committee </a:t>
            </a:r>
            <a:endParaRPr b="0" lang="en-US" sz="33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8440" y="2757600"/>
            <a:ext cx="8372520" cy="135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lvie Voghel, Chair, SMP Committee</a:t>
            </a:r>
            <a:endParaRPr b="0" lang="en-US" sz="32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75160" y="4271760"/>
            <a:ext cx="493848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IESBA Meeting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600" spc="-1" strike="noStrike">
                <a:solidFill>
                  <a:srgbClr val="ffffff"/>
                </a:solidFill>
                <a:latin typeface="Times New Roman"/>
              </a:rPr>
              <a:t>New York, USA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ebruary 18, 2010</a:t>
            </a:r>
            <a:endParaRPr b="0" lang="en-US" sz="2600" spc="-1" strike="noStrike">
              <a:solidFill>
                <a:srgbClr val="0019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RS for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obal reaction highly positiv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SC Foundation training material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onal training worksho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king membership on SME Implementation Group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h quality and free to download guid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Using ISAs in the Audits of SME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Quality Control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 to Practice Management fo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54756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ole of SMPs in Providing Business Support Services to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Practical Support 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e </a:t>
            </a:r>
            <a:r>
              <a:rPr b="0" lang="en-US" sz="3200" spc="-1" strike="noStrike" u="sng">
                <a:solidFill>
                  <a:srgbClr val="c13535"/>
                </a:solidFill>
                <a:uFillTx/>
                <a:latin typeface="Times New Roman"/>
                <a:ea typeface="Times New Roman"/>
                <a:hlinkClick r:id="rId2"/>
              </a:rPr>
              <a:t>http://www.ifac.org/SMP/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cation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net portal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 eNew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ks to other resources (IFAC and other)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cussion boar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nnual SMP Forum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Center for SMP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view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How can IFAC best support SMPs &amp;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raft recommendations being discussed at IFAC Chief Executives’ Strategy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representation – in fact and appearance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MP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onclusion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58800" y="1433160"/>
            <a:ext cx="793584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ore scope for us to work togeth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utual interest in promoting ethical behavior and converg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Ken will present at our meeting on March 11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nclus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1243080" y="3597120"/>
            <a:ext cx="67611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ONS</a:t>
            </a:r>
            <a:endParaRPr b="0" lang="en-US" sz="3600" spc="-1" strike="noStrike">
              <a:solidFill>
                <a:srgbClr val="f2ff47"/>
              </a:solidFill>
              <a:latin typeface="Arial"/>
            </a:endParaRPr>
          </a:p>
        </p:txBody>
      </p:sp>
      <p:pic>
        <p:nvPicPr>
          <p:cNvPr id="266" name="Picture 6" descr="logo_145x135.jpg"/>
          <p:cNvPicPr/>
          <p:nvPr/>
        </p:nvPicPr>
        <p:blipFill>
          <a:blip r:embed="rId1"/>
          <a:stretch/>
        </p:blipFill>
        <p:spPr>
          <a:xfrm>
            <a:off x="2428920" y="1774800"/>
            <a:ext cx="958680" cy="895320"/>
          </a:xfrm>
          <a:prstGeom prst="rect">
            <a:avLst/>
          </a:prstGeom>
          <a:ln w="25560">
            <a:solidFill>
              <a:srgbClr val="ffffff"/>
            </a:solidFill>
            <a:round/>
          </a:ln>
        </p:spPr>
      </p:pic>
      <p:sp>
        <p:nvSpPr>
          <p:cNvPr id="267" name="Text Placeholder 7"/>
          <p:cNvSpPr/>
          <p:nvPr/>
        </p:nvSpPr>
        <p:spPr>
          <a:xfrm>
            <a:off x="3613320" y="1849320"/>
            <a:ext cx="4981320" cy="7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Federation</a:t>
            </a:r>
            <a:br>
              <a:rPr sz="2400"/>
            </a:br>
            <a:r>
              <a:rPr b="1" lang="en-US" sz="24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of Accountants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8" name="Text Placeholder 7"/>
          <p:cNvSpPr/>
          <p:nvPr/>
        </p:nvSpPr>
        <p:spPr>
          <a:xfrm>
            <a:off x="380880" y="5322960"/>
            <a:ext cx="83772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ww.ifac.org</a:t>
            </a: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Es account for majority of private sector employment and GDP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sential for job creation, social cohesion, innovation and growth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 Global Leadership Survey 2009: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ressing needs of SMPs and SMEs 2</a:t>
            </a:r>
            <a:r>
              <a:rPr b="0" lang="en-US" sz="30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nd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ost important issue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682560" indent="-2858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oid over-burdensome regulation of SMEs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251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lump in deman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ccess to fin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naging cos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ghter and more complex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-2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hallenging Ti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Importance of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quely placed to help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Ps are small business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SMEs perform better and comply with regul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support servic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al role in SME financ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341280" indent="-34128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ole of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ilding the capacity of SMPs to support SME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elping member bodies to help their SMP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tarted out around 5 years ago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8 member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Formal procedures, project teams etc.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Annual SMP Forum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General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p to shape form and content of international standards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365040">
              <a:lnSpc>
                <a:spcPct val="100000"/>
              </a:lnSpc>
              <a:spcBef>
                <a:spcPts val="18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practical suppor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efficiently implement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manage better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30080" indent="-365040">
              <a:lnSpc>
                <a:spcPct val="90000"/>
              </a:lnSpc>
              <a:spcBef>
                <a:spcPts val="18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 to remain relevant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rategy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19120" y="1407960"/>
            <a:ext cx="81612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AC’s Support for a Single Set of Auditing Standard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rified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 &amp; implementation support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 implementation monitor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act analysi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ion of review &amp; compilation standard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332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- IAASB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sed &amp; redrafted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de of Ethics for Professional Accounta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tion 290 Independe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ilar general concerns to those for ISA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SMP Committee’s Support for SMEs and SMPs</a:t>
            </a:r>
            <a:endParaRPr b="0" lang="en-US" sz="28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ategy review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6504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ittee response to ED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llenges to adoption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nitor implementation and consider need to eliminate requirement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itional implementation support materials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 together</a:t>
            </a: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  <a:p>
            <a:pPr lvl="1" marL="706320" indent="-272880">
              <a:lnSpc>
                <a:spcPct val="100000"/>
              </a:lnSpc>
              <a:spcBef>
                <a:spcPts val="1800"/>
              </a:spcBef>
              <a:buClr>
                <a:srgbClr val="f5d947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Standard Setting – IESBA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dofori</cp:lastModifiedBy>
  <dcterms:modified xsi:type="dcterms:W3CDTF">2010-02-19T15:31:05Z</dcterms:modified>
  <cp:revision>358</cp:revision>
  <dc:subject/>
  <dc:title>Slide 1</dc:title>
</cp:coreProperties>
</file>