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4680" cy="35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0" y="889920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8"/>
          </p:nvPr>
        </p:nvSpPr>
        <p:spPr>
          <a:xfrm>
            <a:off x="4008240" y="889920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5D94555-805A-422E-A0FB-F15E6A218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484697F-8C61-4A82-8215-704F6CB0D6DD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5AF05CC-AA38-4AAB-8B8C-A957DC056B67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3CA665A-D57F-4D4E-A497-C28F19C5D273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F44B0AD-32B2-4D83-B06D-51B7EDBF8906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185C3EF-6C69-4E89-990F-A85864D01B2A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A3E984D-C30F-4892-BCCC-7C83E49473E6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DBDCD92-4180-4E46-A59C-C025C250D70C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E9AE16D-AD35-4D36-B692-B5826CD05295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E44CC86-BA00-420D-B741-CD51B61AD7E0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EFB4938-E3FA-42B6-B28D-152546B70BD3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3BD975B-7F5C-456C-82D8-355CF8190FDC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2E110A5-07C7-4E2D-8179-29FE9129AC9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4FFF97F-104D-4261-8A05-C9FFE645CEC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DB57D80-5259-489C-8C0B-28005263A64F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04887FA-FF0B-4FE7-87EC-03C20EEC308F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503F-7DB8-4259-A53E-FA02031E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A403-FF2D-4369-ABB7-ADB6E219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8178-A4E9-4EA5-B780-94AE5E15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142-22A2-4C4C-846C-74A803FE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571A-EB94-4FD1-BAD2-5F9A3031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104C-7273-48B2-8DE4-55DBCD5C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0A20-9F50-4091-B569-CBA3505F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93EB-C5AB-459F-8BFF-F9D7908F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7A28-AF61-4B47-B4FE-C9129DB6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D863-6C2E-4FF4-A725-E20656E6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EB77-1F3D-4056-973D-57A358A6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6BE1-D95F-4454-8CBC-5C8C51D7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DC97-205A-4609-A6DA-C0038C07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8A23-A3F7-43C0-BF9E-4DA24515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D85B-540A-498D-9C37-9E35E98F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21E2-E34F-43F5-B372-DAEF0DCE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8F5D-71C6-4B1A-A490-54D6B69E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190EE-262E-4C4A-A663-B91ADECE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CFAEB-E138-413B-BD44-6518649F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EF181-4C2D-4462-8D96-DC65490A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180E0-2A60-4329-A769-1EA6A042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49317-7513-4B68-9B87-796E3145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F8FF-EAD7-45A7-9998-04BC719A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E3827-F78A-4744-B58C-50CF3FA0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96BF7-CDD1-4F43-80B8-1B88A38C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D8E56-5EE5-431B-9652-C2C51218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9BBA2-87A7-40F0-8EAC-618C0C53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D5B52-EA80-4C49-A33D-91927EB8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431C7-375A-4C0F-83C4-6323EE94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BC505-F3DB-4EC2-BB5A-1E2F0F88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1E3A7-B3A5-4C76-93A7-25513973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2B8B3-A69F-4F83-9D2E-895E6A72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4EE49-12DD-4C0F-97D4-D5EA0326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D57C-62ED-4435-B78A-88CB23E8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88683-5BAD-4A32-B677-FC4147B9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E3098-4E92-4003-8BB2-2DC37EFC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74727-7EA0-4468-B553-AA5FEC0B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D5750-EB1D-48DE-8447-AB28D871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CBF74-CAFD-4046-A7E2-BE2EC564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306CB-D3CE-4BC0-8D49-902D0FF5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B365B-3E4E-4EF8-B696-BC1C1E37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32E21-E78D-42F3-BB7F-22C6B031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34067-1E02-4AC4-9AC6-ED81A445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7C620-66E7-4074-B1C6-6ED200E2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90DA-9586-44F9-93BF-135CA254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8740A-4E7E-4B7D-B37D-8B3D19E7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84345-39D8-4C3E-A636-6F6565D0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FDEC2-6CEA-49A0-BCE5-400C65CF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68670-BDD7-4C00-96C2-C9CC4DB4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EBF21-B7B9-442D-B244-D1A6F3FC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06982-B817-4324-B512-213887CB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3FC43-2B04-427D-B112-E37EE193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C349D-4E5E-4DF2-9554-306A2C78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FC39A-CA77-4C79-BD5C-2A8ABD50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4205F-2986-4FC9-8C85-CA315DF2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2A41-E40D-4044-B79C-EA9BDA6D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38921-E5FB-4941-915A-C9993643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0F06-A460-4E84-8876-7DA05CB8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07FD-CBCF-4071-9405-04844231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48EA-BA12-4E80-B6F2-BEADFABB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F308-A4C9-4029-A50C-2D69430C67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BCC3-7FBD-4569-B61F-C32CD3BC2A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0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46AB-51D9-4435-9CC7-A38EAFE83D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128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8065-9358-45DA-9CF1-18D99FA604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772F-B16F-44B9-BFF6-C47E0F5D1330}" type="slidenum">
              <a:rPr b="0" lang="en-US" sz="1400" spc="-1" strike="noStrike">
                <a:solidFill>
                  <a:srgbClr val="c2d1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ifac.org/SMP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900000" y="1758960"/>
            <a:ext cx="73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ea4b"/>
                </a:solidFill>
                <a:latin typeface="Times New Roman"/>
              </a:rPr>
              <a:t>Small and Medium Practices Committee </a:t>
            </a:r>
            <a:endParaRPr b="0" lang="en-US" sz="33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8440" y="2757600"/>
            <a:ext cx="837252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lvie Voghel, Chair, SMP Committee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75160" y="4271760"/>
            <a:ext cx="4938480" cy="5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ffffff"/>
                </a:solidFill>
                <a:latin typeface="Times New Roman"/>
              </a:rPr>
              <a:t>IESBA Meeting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ffffff"/>
                </a:solidFill>
                <a:latin typeface="Times New Roman"/>
              </a:rPr>
              <a:t>New York, USA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ebruary 18, 2010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RS for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reaction highly positiv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SC Foundation training material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al training worksho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ing membership on SME Implementation Group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– IASB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actical Support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quality and free to download guid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Using ISAs in the Audits of SME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Quality Control for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Practice Management for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ole of SMPs in Providing Business Support Services to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uid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actical Support 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58800" y="1433160"/>
            <a:ext cx="7935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</a:t>
            </a:r>
            <a:r>
              <a:rPr b="0" lang="en-US" sz="3200" spc="-1" strike="noStrike" u="sng">
                <a:solidFill>
                  <a:srgbClr val="c13535"/>
                </a:solidFill>
                <a:uFillTx/>
                <a:latin typeface="Times New Roman"/>
                <a:ea typeface="Times New Roman"/>
                <a:hlinkClick r:id="rId2"/>
              </a:rPr>
              <a:t>http://www.ifac.org/SMP/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ation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ACnet portal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eNew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s to other resources (IFAC and other)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ussion board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nnual SMP Forum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Center for SMP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Review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58800" y="1433160"/>
            <a:ext cx="7935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How can IFAC best support SMPs &amp;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raft recommendations being discussed at IFAC Chief Executives’ Strategy Forum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representation – in fact and appearance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MP Review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onclusion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58800" y="1433160"/>
            <a:ext cx="7935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ore scope for us to work together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utual interest in promoting ethical behavior and converge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Ken will present at our meeting on March 11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nclus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1243080" y="3597120"/>
            <a:ext cx="67611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</a:t>
            </a:r>
            <a:endParaRPr b="0" lang="en-US" sz="36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266" name="Picture 6" descr="logo_145x135.jpg"/>
          <p:cNvPicPr/>
          <p:nvPr/>
        </p:nvPicPr>
        <p:blipFill>
          <a:blip r:embed="rId1"/>
          <a:stretch/>
        </p:blipFill>
        <p:spPr>
          <a:xfrm>
            <a:off x="2428920" y="1774800"/>
            <a:ext cx="958680" cy="895320"/>
          </a:xfrm>
          <a:prstGeom prst="rect">
            <a:avLst/>
          </a:prstGeom>
          <a:ln w="25560">
            <a:solidFill>
              <a:srgbClr val="ffffff"/>
            </a:solidFill>
            <a:round/>
          </a:ln>
        </p:spPr>
      </p:pic>
      <p:sp>
        <p:nvSpPr>
          <p:cNvPr id="267" name="Text Placeholder 7"/>
          <p:cNvSpPr/>
          <p:nvPr/>
        </p:nvSpPr>
        <p:spPr>
          <a:xfrm>
            <a:off x="3613320" y="1849320"/>
            <a:ext cx="49813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Federation</a:t>
            </a:r>
            <a:br>
              <a:rPr sz="2400"/>
            </a:b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of Accountant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8" name="Text Placeholder 7"/>
          <p:cNvSpPr/>
          <p:nvPr/>
        </p:nvSpPr>
        <p:spPr>
          <a:xfrm>
            <a:off x="380880" y="5322960"/>
            <a:ext cx="8377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ifac.org</a:t>
            </a: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mportance of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Es account for majority of private sector employment and GDP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sential for job creation, social cohesion, innovation and growth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AC Global Leadership Survey 2009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ing needs of SMPs and SMEs 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st important issue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over-burdensome regulation of SMEs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25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eneral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mportance of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lump in demand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ccess to fin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naging cos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eti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er and more complex regul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-20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hallenging Ti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mportance of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ly placed to help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s are small business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SMEs perform better and comply with regul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support servic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role in SME financ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ole of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 the capacity of SMPs to support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elping member bodies to help their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tarted out around 5 years ago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8 member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ormal procedures, project teams etc.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nnual SMP Forum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eneral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p to shape form and content of international standard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practical suppor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30080" indent="-36504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to efficiently implement standard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30080" indent="-36504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to manage better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30080" indent="-36504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to remain releva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rategy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19120" y="1407960"/>
            <a:ext cx="81612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AC’s Support for a Single Set of Auditing Standard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rified ISA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 &amp; implementation support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 implementation monitor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analysi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sion of review &amp; compilation standard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- IAASB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sed &amp; redraft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of Ethics for Professional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290 Independe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general concerns to those for ISA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– IESBA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tegy review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tee response to ED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llenges to adoption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implementation and consider need to eliminate requirement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implementation support material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 together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– IESBA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dofori</cp:lastModifiedBy>
  <dcterms:modified xsi:type="dcterms:W3CDTF">2010-02-19T15:31:05Z</dcterms:modified>
  <cp:revision>358</cp:revision>
  <dc:subject/>
  <dc:title>Slide 1</dc:title>
</cp:coreProperties>
</file>