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7077075" cy="9371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7077600" cy="93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67200" cy="468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6"/>
          </p:nvPr>
        </p:nvSpPr>
        <p:spPr>
          <a:xfrm>
            <a:off x="4008240" y="-360"/>
            <a:ext cx="3066840" cy="468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96640" y="703440"/>
            <a:ext cx="4684680" cy="351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8f8f8"/>
                </a:solidFill>
                <a:latin typeface="Times New Roman"/>
              </a:rPr>
              <a:t>Click to move the slide</a:t>
            </a:r>
            <a:endParaRPr b="1" i="1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707760" y="4449240"/>
            <a:ext cx="5661000" cy="42166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7"/>
          </p:nvPr>
        </p:nvSpPr>
        <p:spPr>
          <a:xfrm>
            <a:off x="0" y="8899200"/>
            <a:ext cx="3067200" cy="468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8"/>
          </p:nvPr>
        </p:nvSpPr>
        <p:spPr>
          <a:xfrm>
            <a:off x="4008240" y="8899200"/>
            <a:ext cx="3066840" cy="468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lstStyle>
            <a:lvl1pPr marL="216000" indent="0" algn="r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AF262D27-C9F9-49D2-84E6-AE9C911DBA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707760" y="4449240"/>
            <a:ext cx="5661000" cy="421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4008600" y="889956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0AFB7F25-6983-4B10-AFD5-21FAF989F42B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4008600" y="889956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3C225C6A-D2C2-4D1D-B261-7A8EC462E234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707760" y="4449240"/>
            <a:ext cx="5661000" cy="421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4008600" y="889956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805867EA-B832-480F-A874-36D684E917EB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707760" y="4449240"/>
            <a:ext cx="5661000" cy="421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4008600" y="889956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BEE9E11B-08CA-4E28-BFE7-CB8B6FEC7A9C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707760" y="4449240"/>
            <a:ext cx="5661000" cy="421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008600" y="889956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80E3F196-61B7-46F4-B9D8-B16DAC8A9A21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07760" y="4449240"/>
            <a:ext cx="5661000" cy="421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008600" y="889956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59D52EEA-B195-4FD6-B206-3BA7C40CC120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07760" y="4449240"/>
            <a:ext cx="5661000" cy="421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008600" y="889956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95125B8C-3942-4400-AC91-A3DB5F986F16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07760" y="4449240"/>
            <a:ext cx="5661000" cy="421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4008600" y="889956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8FE578EB-3F9B-4839-9FA1-65642A910A43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707760" y="4449240"/>
            <a:ext cx="5661000" cy="421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4008600" y="889956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38473217-7D43-4332-BACF-4119720A2E55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707760" y="4449240"/>
            <a:ext cx="5661000" cy="421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4008600" y="889956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C6B2C3A7-1A9A-4B89-A25E-7C97115EFE4F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707760" y="4449240"/>
            <a:ext cx="5661000" cy="421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4008600" y="889956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50097EC9-9764-44CD-859F-E730CC2E907C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707760" y="4449240"/>
            <a:ext cx="5661000" cy="421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4008600" y="889956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3CCE1E86-17D4-454B-B612-68608D5660DB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707760" y="4449240"/>
            <a:ext cx="5661000" cy="421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4008600" y="889956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E556D07A-49C9-4210-B870-290C1746CA8D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707760" y="4449240"/>
            <a:ext cx="5661000" cy="421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4008600" y="889956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2A0E5A9A-E72A-4C52-92A0-E8C1AB858987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707760" y="4449240"/>
            <a:ext cx="5661000" cy="421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4008600" y="889956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A497292B-07D4-4805-87F2-D53140A4433E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707760" y="4449240"/>
            <a:ext cx="5661000" cy="421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65C3-337E-4C6B-AB95-152060436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D1E5-C2E1-4E91-A2A0-4AF1CC30A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FB64-6E88-4216-A8B3-B8A75E8D7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F171-41F9-427D-A997-934B6AB37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1986E-9B7C-49D8-9464-86D00F8C6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65556-F817-4CC5-934D-812B57823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6BB9F-F679-42DC-9CCD-F44C1B967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7DFC2-DFFB-453A-9427-97802DE00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625E1-40A9-41F6-9E8F-95661FF6A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B6BBE-62EC-41A2-BA01-4C1749B0F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7C073-9E08-4094-8897-43F3BE7AD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AF96-0C47-44B7-A3E7-A31C31BE1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A7B98-4B50-4B76-8239-A8028C944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6A80D-274F-4252-8B4C-2FD7DFD21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AE396-87E0-428E-9DDD-FFFECF35B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9AA51-3D7D-4C2E-9318-C57C971FF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95053-7E50-4E44-9CB1-238E24AE5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9A8AE8-9902-40C3-AA15-51095AC73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A02C99-48BF-479B-8DEA-1B310F96B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CD6E47-4D84-486C-851A-2CD5C1DC7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AA35C3-F6FE-41B9-82A7-C2B4A9453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9C53F8-CBDC-48B2-B50E-2991E6D30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0BBF-F985-4185-9343-36E3D203D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2060B9-340D-4B25-8744-73F7ECD5B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25D645-8C1F-4886-A14B-20F5C0738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31AA1D-3A27-407D-A3CA-ACBA9FA4D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DBA517-39F2-4528-9C01-E14C76104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9FF78B-7529-4CDD-91F6-4CDAE2B00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E6B95C-F331-406E-B9F2-1371AAB0E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1A956A-71CF-4178-9778-83FD359F8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1EB785-687A-491F-B41A-20AEC9B4F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8F4A50-B038-4AD3-AB08-C7DFC8542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DF89DB-40A6-43E6-8493-5F3BB37C1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4108-8199-4A2E-B693-E862ACD5E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6CE0B2-66F8-4CD0-AB99-FB7702FEC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E4AC4A-FF14-4C82-A499-37DC6B58D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87429D-CDE8-4999-9ED1-1632AF73A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A6F101-DEBF-45B2-BB7C-EA1A7D0D2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E5DE11-0AEC-4ED8-B87D-DBFF01674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626FE3-F82A-4AC3-8DBD-F0DE016EE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702FE4-7A55-4493-AF6F-595126F7C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8A6703-DA20-447F-B170-6AC04318C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503302-75E7-4189-A9B6-1508FE8B1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A54661-228E-4915-95DF-8AC789A3B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AB2C-AB29-404B-B0BB-EF79B7E09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6C49ED-22E5-4DA0-88EE-A60ED7C25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EF5689-3376-4322-A510-66A8D8D16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881517-9AC2-41A0-842A-C9A131830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6F82BD-9E1B-44D8-A84E-46723205C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94FAA7-2907-4DD9-8851-5F13A7014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35B038-E679-4165-AAD7-A04FDE512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770FA1-D86D-4607-9FE5-47A910928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82CD2E-3FD1-4A35-B3AD-EA2D80F2D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615FB9-7399-47BF-86FC-AF30ECCDC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460E93-9E96-48C9-AD53-02EAB5DBD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8372-E112-4EF0-87F1-0D6E93FA4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005B17-6318-4E18-A811-989CBA065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60AA-A426-4F08-8A99-355C13216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5823-FF02-40FA-A974-DF0D804C7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562B-6D87-43E4-8DF4-43C6C7CF9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8" descr="IFAC_symbol_blue"/>
          <p:cNvPicPr/>
          <p:nvPr/>
        </p:nvPicPr>
        <p:blipFill>
          <a:blip r:embed="rId2"/>
          <a:stretch/>
        </p:blipFill>
        <p:spPr>
          <a:xfrm>
            <a:off x="8290080" y="6032520"/>
            <a:ext cx="561960" cy="501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56840" y="6102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24080" y="610200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552720" y="6102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FAF29-C398-4115-84A9-A76F7D74383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Palatino Linotype"/>
              </a:rPr>
              <a:t>Click to edit the title text format</a:t>
            </a: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040" indent="-176040">
              <a:spcBef>
                <a:spcPts val="1800"/>
              </a:spcBef>
              <a:buClr>
                <a:srgbClr val="fa99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1" marL="628560" indent="-231840">
              <a:spcBef>
                <a:spcPts val="1800"/>
              </a:spcBef>
              <a:buClr>
                <a:srgbClr val="fa99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2" marL="1023840" indent="-109440">
              <a:spcBef>
                <a:spcPts val="1800"/>
              </a:spcBef>
              <a:buClr>
                <a:srgbClr val="fa99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3" marL="1311120" indent="-110880">
              <a:spcBef>
                <a:spcPts val="1800"/>
              </a:spcBef>
              <a:buClr>
                <a:srgbClr val="fa99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4" marL="1596960" indent="-109440">
              <a:spcBef>
                <a:spcPts val="1800"/>
              </a:spcBef>
              <a:buClr>
                <a:srgbClr val="fa99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5" marL="1596960" indent="-109440">
              <a:spcBef>
                <a:spcPts val="1800"/>
              </a:spcBef>
              <a:buClr>
                <a:srgbClr val="f2ff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6" marL="1596960" indent="-109440">
              <a:spcBef>
                <a:spcPts val="1800"/>
              </a:spcBef>
              <a:buClr>
                <a:srgbClr val="f2ff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222C7-59EB-49D5-A840-5176FFB35B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" name="Picture 10" descr="IFAC_symbol_blue"/>
          <p:cNvPicPr/>
          <p:nvPr/>
        </p:nvPicPr>
        <p:blipFill>
          <a:blip r:embed="rId2"/>
          <a:stretch/>
        </p:blipFill>
        <p:spPr>
          <a:xfrm>
            <a:off x="8290080" y="6032520"/>
            <a:ext cx="561960" cy="5014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4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8f8f8"/>
                </a:solidFill>
                <a:latin typeface="Times New Roman"/>
              </a:rPr>
              <a:t>Click to edit the title text format</a:t>
            </a:r>
            <a:endParaRPr b="1" i="1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6560" indent="-286560">
              <a:spcBef>
                <a:spcPts val="24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1" marL="573120" indent="-239760">
              <a:spcBef>
                <a:spcPts val="24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2" marL="859680" indent="-91800">
              <a:spcBef>
                <a:spcPts val="24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3" marL="1101240" indent="-92880">
              <a:spcBef>
                <a:spcPts val="24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4" marL="1341360" indent="-91800">
              <a:spcBef>
                <a:spcPts val="24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5" marL="1341360" indent="-91800">
              <a:spcBef>
                <a:spcPts val="2401"/>
              </a:spcBef>
              <a:buClr>
                <a:srgbClr val="a9a9a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6" marL="1341360" indent="-91800">
              <a:spcBef>
                <a:spcPts val="2401"/>
              </a:spcBef>
              <a:buClr>
                <a:srgbClr val="a9a9a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8" descr="IFAC_symbol_blue"/>
          <p:cNvPicPr/>
          <p:nvPr/>
        </p:nvPicPr>
        <p:blipFill>
          <a:blip r:embed="rId3"/>
          <a:stretch/>
        </p:blipFill>
        <p:spPr>
          <a:xfrm>
            <a:off x="8290080" y="6032520"/>
            <a:ext cx="561960" cy="50148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Palatino Linotype"/>
              </a:rPr>
              <a:t>Click to edit the title text format</a:t>
            </a: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040" indent="-176040">
              <a:spcBef>
                <a:spcPts val="1800"/>
              </a:spcBef>
              <a:buClr>
                <a:srgbClr val="fa99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1" marL="628560" indent="-231840">
              <a:spcBef>
                <a:spcPts val="1800"/>
              </a:spcBef>
              <a:buClr>
                <a:srgbClr val="fa99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2" marL="1023840" indent="-109440">
              <a:spcBef>
                <a:spcPts val="1800"/>
              </a:spcBef>
              <a:buClr>
                <a:srgbClr val="fa99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3" marL="1311120" indent="-110880">
              <a:spcBef>
                <a:spcPts val="1800"/>
              </a:spcBef>
              <a:buClr>
                <a:srgbClr val="fa99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4" marL="1596960" indent="-109440">
              <a:spcBef>
                <a:spcPts val="1800"/>
              </a:spcBef>
              <a:buClr>
                <a:srgbClr val="fa99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5" marL="1596960" indent="-109440">
              <a:spcBef>
                <a:spcPts val="1800"/>
              </a:spcBef>
              <a:buClr>
                <a:srgbClr val="f2ff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6" marL="1596960" indent="-109440">
              <a:spcBef>
                <a:spcPts val="1800"/>
              </a:spcBef>
              <a:buClr>
                <a:srgbClr val="f2ff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102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10200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102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0E8C1-0010-4A1B-BBC6-8E1B0F6CF9A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10" descr="IFAC_symbol_blue"/>
          <p:cNvPicPr/>
          <p:nvPr/>
        </p:nvPicPr>
        <p:blipFill>
          <a:blip r:embed="rId2"/>
          <a:stretch/>
        </p:blipFill>
        <p:spPr>
          <a:xfrm>
            <a:off x="8290080" y="6032520"/>
            <a:ext cx="561960" cy="501480"/>
          </a:xfrm>
          <a:prstGeom prst="rect">
            <a:avLst/>
          </a:prstGeom>
          <a:ln w="0">
            <a:noFill/>
          </a:ln>
        </p:spPr>
      </p:pic>
      <p:sp>
        <p:nvSpPr>
          <p:cNvPr id="127" name="TextBox 7"/>
          <p:cNvSpPr/>
          <p:nvPr/>
        </p:nvSpPr>
        <p:spPr>
          <a:xfrm>
            <a:off x="368280" y="804960"/>
            <a:ext cx="838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ational Federation of Accountant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  <p:pic>
        <p:nvPicPr>
          <p:cNvPr id="128" name="Picture 9" descr="IFAC_symbol_blue"/>
          <p:cNvPicPr/>
          <p:nvPr/>
        </p:nvPicPr>
        <p:blipFill>
          <a:blip r:embed="rId3"/>
          <a:stretch/>
        </p:blipFill>
        <p:spPr>
          <a:xfrm>
            <a:off x="8290080" y="6032520"/>
            <a:ext cx="561960" cy="5014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8f8f8"/>
                </a:solidFill>
                <a:latin typeface="Times New Roman"/>
              </a:rPr>
              <a:t>Click to edit the title text format</a:t>
            </a:r>
            <a:endParaRPr b="1" i="1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6560" indent="-286560">
              <a:spcBef>
                <a:spcPts val="24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1" marL="573120" indent="-239760">
              <a:spcBef>
                <a:spcPts val="24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2" marL="859680" indent="-91800">
              <a:spcBef>
                <a:spcPts val="24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3" marL="1101240" indent="-92880">
              <a:spcBef>
                <a:spcPts val="24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4" marL="1341360" indent="-91800">
              <a:spcBef>
                <a:spcPts val="24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5" marL="1341360" indent="-91800">
              <a:spcBef>
                <a:spcPts val="2401"/>
              </a:spcBef>
              <a:buClr>
                <a:srgbClr val="c2d1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6" marL="1341360" indent="-91800">
              <a:spcBef>
                <a:spcPts val="2401"/>
              </a:spcBef>
              <a:buClr>
                <a:srgbClr val="c2d1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46766-5708-4CFB-A619-78CD6BD8EE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10" descr="IFAC_symbol_blue"/>
          <p:cNvPicPr/>
          <p:nvPr/>
        </p:nvPicPr>
        <p:blipFill>
          <a:blip r:embed="rId2"/>
          <a:stretch/>
        </p:blipFill>
        <p:spPr>
          <a:xfrm>
            <a:off x="8290080" y="6032520"/>
            <a:ext cx="561960" cy="5014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9" descr="IFAC_symbol_blue"/>
          <p:cNvPicPr/>
          <p:nvPr/>
        </p:nvPicPr>
        <p:blipFill>
          <a:blip r:embed="rId3"/>
          <a:stretch/>
        </p:blipFill>
        <p:spPr>
          <a:xfrm>
            <a:off x="8290080" y="6032520"/>
            <a:ext cx="561960" cy="501480"/>
          </a:xfrm>
          <a:prstGeom prst="rect">
            <a:avLst/>
          </a:prstGeom>
          <a:ln w="0">
            <a:noFill/>
          </a:ln>
        </p:spPr>
      </p:pic>
      <p:sp>
        <p:nvSpPr>
          <p:cNvPr id="172" name="TextBox 10"/>
          <p:cNvSpPr/>
          <p:nvPr/>
        </p:nvSpPr>
        <p:spPr>
          <a:xfrm>
            <a:off x="368280" y="804960"/>
            <a:ext cx="838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ational Federation of Accountant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8f8f8"/>
                </a:solidFill>
                <a:latin typeface="Times New Roman"/>
              </a:rPr>
              <a:t>Click to edit the title text format</a:t>
            </a:r>
            <a:endParaRPr b="1" i="1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6560" indent="-286560">
              <a:spcBef>
                <a:spcPts val="24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1" marL="573120" indent="-239760">
              <a:spcBef>
                <a:spcPts val="24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2" marL="859680" indent="-91800">
              <a:spcBef>
                <a:spcPts val="24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3" marL="1101240" indent="-92880">
              <a:spcBef>
                <a:spcPts val="24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4" marL="1341360" indent="-91800">
              <a:spcBef>
                <a:spcPts val="24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5" marL="1341360" indent="-91800">
              <a:spcBef>
                <a:spcPts val="2401"/>
              </a:spcBef>
              <a:buClr>
                <a:srgbClr val="c2d1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6" marL="1341360" indent="-91800">
              <a:spcBef>
                <a:spcPts val="2401"/>
              </a:spcBef>
              <a:buClr>
                <a:srgbClr val="c2d1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2d1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771E2-D402-4220-83C8-957B1A8CD73C}" type="slidenum">
              <a:rPr b="0" lang="en-US" sz="1400" spc="-1" strike="noStrike">
                <a:solidFill>
                  <a:srgbClr val="c2d1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ifac.org/SMP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900000" y="1758960"/>
            <a:ext cx="7329600" cy="72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ea4b"/>
                </a:solidFill>
                <a:latin typeface="Times New Roman"/>
              </a:rPr>
              <a:t>Small and Medium Practices Committee </a:t>
            </a:r>
            <a:endParaRPr b="0" lang="en-US" sz="3300" spc="-1" strike="noStrike">
              <a:solidFill>
                <a:srgbClr val="001966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88440" y="2757600"/>
            <a:ext cx="8372520" cy="135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ylvie Voghel, Chair, SMP Committee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75160" y="4271760"/>
            <a:ext cx="4938480" cy="58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600" spc="-1" strike="noStrike">
                <a:solidFill>
                  <a:srgbClr val="ffffff"/>
                </a:solidFill>
                <a:latin typeface="Times New Roman"/>
              </a:rPr>
              <a:t>IESBA Meeting</a:t>
            </a:r>
            <a:endParaRPr b="0" lang="en-US" sz="2600" spc="-1" strike="noStrike">
              <a:solidFill>
                <a:srgbClr val="001966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3575160" y="4951440"/>
            <a:ext cx="4938480" cy="5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600" spc="-1" strike="noStrike">
                <a:solidFill>
                  <a:srgbClr val="ffffff"/>
                </a:solidFill>
                <a:latin typeface="Times New Roman"/>
              </a:rPr>
              <a:t>New York, USA</a:t>
            </a:r>
            <a:endParaRPr b="0" lang="en-US" sz="2600" spc="-1" strike="noStrike">
              <a:solidFill>
                <a:srgbClr val="001966"/>
              </a:solidFill>
              <a:latin typeface="Times New Roman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3575160" y="5559480"/>
            <a:ext cx="4938480" cy="5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February 18, 2010</a:t>
            </a:r>
            <a:endParaRPr b="0" lang="en-US" sz="2600" spc="-1" strike="noStrike">
              <a:solidFill>
                <a:srgbClr val="0019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SMP Committee’s Support for SMEs and SMPs</a:t>
            </a:r>
            <a:endParaRPr b="0" lang="en-US" sz="28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658800" y="1407960"/>
            <a:ext cx="79358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728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RS for SME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65040" indent="-2728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lobal reaction highly positive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65040" indent="-2728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ASC Foundation training material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65040" indent="-2728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onal training workshop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65040" indent="-2728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eking membership on SME Implementation Group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58800" y="722160"/>
            <a:ext cx="793584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Standard Setting – IASB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Practical Support</a:t>
            </a:r>
            <a:endParaRPr b="0" lang="en-US" sz="28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658800" y="1407960"/>
            <a:ext cx="79358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332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gh quality and free to download guide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lvl="1" marL="547560" indent="-2332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uide to Using ISAs in the Audits of SMEs 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lvl="1" marL="547560" indent="-2332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uide to Quality Control for SMP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lvl="1" marL="547560" indent="-2332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uide to Practice Management for SMP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lvl="1" marL="547560" indent="-2332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Role of SMPs in Providing Business Support Services to SME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58800" y="722160"/>
            <a:ext cx="793584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Guidance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Practical Support </a:t>
            </a:r>
            <a:endParaRPr b="0" lang="en-US" sz="28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58800" y="1433160"/>
            <a:ext cx="7935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332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e </a:t>
            </a:r>
            <a:r>
              <a:rPr b="0" lang="en-US" sz="3200" spc="-1" strike="noStrike" u="sng">
                <a:solidFill>
                  <a:srgbClr val="c13535"/>
                </a:solidFill>
                <a:uFillTx/>
                <a:latin typeface="Times New Roman"/>
                <a:ea typeface="Times New Roman"/>
                <a:hlinkClick r:id="rId2"/>
              </a:rPr>
              <a:t>http://www.ifac.org/SMP/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65040" indent="-2332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blications 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65040" indent="-2332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ACnet portal 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65040" indent="-2332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P eNew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65040" indent="-2332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nks to other resources (IFAC and other) 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65040" indent="-2332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cussion board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65040" indent="-2332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nnual SMP Forum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58800" y="722160"/>
            <a:ext cx="793584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International Center for SMPs 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SMP Review</a:t>
            </a:r>
            <a:endParaRPr b="0" lang="en-US" sz="28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658800" y="1433160"/>
            <a:ext cx="7935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332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How can IFAC best support SMPs &amp; SME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65040" indent="-2332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raft recommendations being discussed at IFAC Chief Executives’ Strategy Forum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65040" indent="-2332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SMP representation – in fact and appearance 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58800" y="722160"/>
            <a:ext cx="793584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SMP Review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onclusion</a:t>
            </a:r>
            <a:endParaRPr b="0" lang="en-US" sz="28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658800" y="1433160"/>
            <a:ext cx="7935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332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ore scope for us to work together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65040" indent="-2332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utual interest in promoting ethical behavior and convergence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65040" indent="-2332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Ken will present at our meeting on March 11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58800" y="722160"/>
            <a:ext cx="793584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Conclusion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1243080" y="3597120"/>
            <a:ext cx="676116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STIONS</a:t>
            </a:r>
            <a:endParaRPr b="0" lang="en-US" sz="3600" spc="-1" strike="noStrike">
              <a:solidFill>
                <a:srgbClr val="f2ff47"/>
              </a:solidFill>
              <a:latin typeface="Arial"/>
            </a:endParaRPr>
          </a:p>
        </p:txBody>
      </p:sp>
      <p:pic>
        <p:nvPicPr>
          <p:cNvPr id="266" name="Picture 6" descr="logo_145x135.jpg"/>
          <p:cNvPicPr/>
          <p:nvPr/>
        </p:nvPicPr>
        <p:blipFill>
          <a:blip r:embed="rId1"/>
          <a:stretch/>
        </p:blipFill>
        <p:spPr>
          <a:xfrm>
            <a:off x="2428920" y="1774800"/>
            <a:ext cx="958680" cy="895320"/>
          </a:xfrm>
          <a:prstGeom prst="rect">
            <a:avLst/>
          </a:prstGeom>
          <a:ln w="25560">
            <a:solidFill>
              <a:srgbClr val="ffffff"/>
            </a:solidFill>
            <a:round/>
          </a:ln>
        </p:spPr>
      </p:pic>
      <p:sp>
        <p:nvSpPr>
          <p:cNvPr id="267" name="Text Placeholder 7"/>
          <p:cNvSpPr/>
          <p:nvPr/>
        </p:nvSpPr>
        <p:spPr>
          <a:xfrm>
            <a:off x="3613320" y="1849320"/>
            <a:ext cx="4981320" cy="7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International Federation</a:t>
            </a:r>
            <a:br>
              <a:rPr sz="2400"/>
            </a:br>
            <a:r>
              <a:rPr b="1" lang="en-US" sz="24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of Accountants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68" name="Text Placeholder 7"/>
          <p:cNvSpPr/>
          <p:nvPr/>
        </p:nvSpPr>
        <p:spPr>
          <a:xfrm>
            <a:off x="380880" y="5322960"/>
            <a:ext cx="83772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ww.ifac.org</a:t>
            </a: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Importance of SMEs and SMPs</a:t>
            </a:r>
            <a:endParaRPr b="0" lang="en-US" sz="28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58800" y="1407960"/>
            <a:ext cx="79358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18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SMEs account for majority of private sector employment and GDP 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8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sential for job creation, social cohesion, innovation and growth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8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AC Global Leadership Survey 2009: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lvl="1" marL="682560" indent="-285840">
              <a:lnSpc>
                <a:spcPct val="100000"/>
              </a:lnSpc>
              <a:spcBef>
                <a:spcPts val="1800"/>
              </a:spcBef>
              <a:buClr>
                <a:srgbClr val="ffe87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ressing needs of SMPs and SMEs 2</a:t>
            </a:r>
            <a:r>
              <a:rPr b="0" lang="en-US" sz="30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nd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most important issue</a:t>
            </a:r>
            <a:endParaRPr b="0" lang="en-US" sz="3000" spc="-1" strike="noStrike">
              <a:solidFill>
                <a:srgbClr val="f2ff47"/>
              </a:solidFill>
              <a:latin typeface="Arial"/>
            </a:endParaRPr>
          </a:p>
          <a:p>
            <a:pPr lvl="1" marL="682560" indent="-285840">
              <a:lnSpc>
                <a:spcPct val="100000"/>
              </a:lnSpc>
              <a:spcBef>
                <a:spcPts val="1800"/>
              </a:spcBef>
              <a:buClr>
                <a:srgbClr val="ffe87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void over-burdensome regulation of SMEs 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0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25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58800" y="722160"/>
            <a:ext cx="793584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General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Importance of SMEs and SMPs</a:t>
            </a:r>
            <a:endParaRPr b="0" lang="en-US" sz="28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658800" y="1407960"/>
            <a:ext cx="79358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18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Slump in demand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8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ccess to finance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8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naging cost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8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etition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8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ghter and more complex regulation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8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-20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58800" y="722160"/>
            <a:ext cx="793584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Challenging Time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Importance of SMEs and SMPs</a:t>
            </a:r>
            <a:endParaRPr b="0" lang="en-US" sz="28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658800" y="1407960"/>
            <a:ext cx="79358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1280" indent="-341280">
              <a:lnSpc>
                <a:spcPct val="100000"/>
              </a:lnSpc>
              <a:spcBef>
                <a:spcPts val="18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quely placed to help SME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lvl="1" marL="341280" indent="-341280">
              <a:lnSpc>
                <a:spcPct val="100000"/>
              </a:lnSpc>
              <a:spcBef>
                <a:spcPts val="18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Ps are small businesse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lvl="1" marL="341280" indent="-341280">
              <a:lnSpc>
                <a:spcPct val="100000"/>
              </a:lnSpc>
              <a:spcBef>
                <a:spcPts val="18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lp SMEs perform better and comply with regulation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lvl="1" marL="341280" indent="-341280">
              <a:lnSpc>
                <a:spcPct val="100000"/>
              </a:lnSpc>
              <a:spcBef>
                <a:spcPts val="18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siness support service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lvl="1" marL="341280" indent="-341280">
              <a:lnSpc>
                <a:spcPct val="100000"/>
              </a:lnSpc>
              <a:spcBef>
                <a:spcPts val="18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ecial role in SME financing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lvl="1" marL="341280" indent="-341280">
              <a:lnSpc>
                <a:spcPct val="100000"/>
              </a:lnSpc>
              <a:spcBef>
                <a:spcPts val="1800"/>
              </a:spcBef>
              <a:buClr>
                <a:srgbClr val="ffe87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58800" y="722160"/>
            <a:ext cx="793584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Role of SMP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SMP Committee’s Support for SMEs and SMPs</a:t>
            </a:r>
            <a:endParaRPr b="0" lang="en-US" sz="28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658800" y="1407960"/>
            <a:ext cx="79358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lnSpc>
                <a:spcPct val="100000"/>
              </a:lnSpc>
              <a:spcBef>
                <a:spcPts val="18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ilding the capacity of SMPs to support SME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65040" indent="-365040">
              <a:lnSpc>
                <a:spcPct val="100000"/>
              </a:lnSpc>
              <a:spcBef>
                <a:spcPts val="18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Helping member bodies to help their SMP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65040" indent="-365040">
              <a:lnSpc>
                <a:spcPct val="100000"/>
              </a:lnSpc>
              <a:spcBef>
                <a:spcPts val="18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Started out around 5 years ago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65040" indent="-365040">
              <a:lnSpc>
                <a:spcPct val="100000"/>
              </a:lnSpc>
              <a:spcBef>
                <a:spcPts val="18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18 member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65040" indent="-365040">
              <a:lnSpc>
                <a:spcPct val="100000"/>
              </a:lnSpc>
              <a:spcBef>
                <a:spcPts val="18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Formal procedures, project teams etc. 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65040" indent="-365040">
              <a:lnSpc>
                <a:spcPct val="100000"/>
              </a:lnSpc>
              <a:spcBef>
                <a:spcPts val="18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Annual SMP Forum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58800" y="722160"/>
            <a:ext cx="793584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General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SMP Committee’s Support for SMEs and SMPs</a:t>
            </a:r>
            <a:endParaRPr b="0" lang="en-US" sz="28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58800" y="1407960"/>
            <a:ext cx="79358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lnSpc>
                <a:spcPct val="100000"/>
              </a:lnSpc>
              <a:spcBef>
                <a:spcPts val="18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H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p to shape form and content of international standards 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65040" indent="-365040">
              <a:lnSpc>
                <a:spcPct val="100000"/>
              </a:lnSpc>
              <a:spcBef>
                <a:spcPts val="18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 practical support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lvl="1" marL="730080" indent="-365040">
              <a:lnSpc>
                <a:spcPct val="90000"/>
              </a:lnSpc>
              <a:spcBef>
                <a:spcPts val="18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lp to efficiently implement standard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lvl="1" marL="730080" indent="-365040">
              <a:lnSpc>
                <a:spcPct val="90000"/>
              </a:lnSpc>
              <a:spcBef>
                <a:spcPts val="18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lp to manage better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lvl="1" marL="730080" indent="-365040">
              <a:lnSpc>
                <a:spcPct val="90000"/>
              </a:lnSpc>
              <a:spcBef>
                <a:spcPts val="18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lp to remain relevant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58800" y="722160"/>
            <a:ext cx="793584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Strategy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SMP Committee’s Support for SMEs and SMPs</a:t>
            </a:r>
            <a:endParaRPr b="0" lang="en-US" sz="28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19120" y="1407960"/>
            <a:ext cx="816120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332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AC’s Support for a Single Set of Auditing Standard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65040" indent="-2332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rified ISA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65040" indent="-2332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unications &amp; implementation support 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65040" indent="-2332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A implementation monitoring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65040" indent="-2332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act analysi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65040" indent="-2332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vision of review &amp; compilation standards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65040" indent="-2332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58800" y="722160"/>
            <a:ext cx="793584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Standard Setting - IAASB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SMP Committee’s Support for SMEs and SMPs</a:t>
            </a:r>
            <a:endParaRPr b="0" lang="en-US" sz="28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658800" y="1407960"/>
            <a:ext cx="79358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728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vised &amp; redrafted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de of Ethics for Professional Accountant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65040" indent="-2728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tion 290 Independence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65040" indent="-2728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ilar general concerns to those for ISA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65040" indent="-2728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lementation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58800" y="722160"/>
            <a:ext cx="793584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Standard Setting – IESBA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SMP Committee’s Support for SMEs and SMPs</a:t>
            </a:r>
            <a:endParaRPr b="0" lang="en-US" sz="28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658800" y="1407960"/>
            <a:ext cx="79358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728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ategy review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65040" indent="-2728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ittee response to ED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lvl="1" marL="706320" indent="-2728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llenges to adoption</a:t>
            </a:r>
            <a:endParaRPr b="0" lang="en-US" sz="3000" spc="-1" strike="noStrike">
              <a:solidFill>
                <a:srgbClr val="f2ff47"/>
              </a:solidFill>
              <a:latin typeface="Arial"/>
            </a:endParaRPr>
          </a:p>
          <a:p>
            <a:pPr lvl="1" marL="706320" indent="-2728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nitor implementation and consider need to eliminate requirements</a:t>
            </a:r>
            <a:endParaRPr b="0" lang="en-US" sz="3000" spc="-1" strike="noStrike">
              <a:solidFill>
                <a:srgbClr val="f2ff47"/>
              </a:solidFill>
              <a:latin typeface="Arial"/>
            </a:endParaRPr>
          </a:p>
          <a:p>
            <a:pPr lvl="1" marL="706320" indent="-2728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itional implementation support materials</a:t>
            </a:r>
            <a:endParaRPr b="0" lang="en-US" sz="3000" spc="-1" strike="noStrike">
              <a:solidFill>
                <a:srgbClr val="f2ff47"/>
              </a:solidFill>
              <a:latin typeface="Arial"/>
            </a:endParaRPr>
          </a:p>
          <a:p>
            <a:pPr lvl="1" marL="706320" indent="-2728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k together</a:t>
            </a:r>
            <a:endParaRPr b="0" lang="en-US" sz="3000" spc="-1" strike="noStrike">
              <a:solidFill>
                <a:srgbClr val="f2ff47"/>
              </a:solidFill>
              <a:latin typeface="Arial"/>
            </a:endParaRPr>
          </a:p>
          <a:p>
            <a:pPr lvl="1" marL="706320" indent="-2728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2ff47"/>
              </a:solidFill>
              <a:latin typeface="Arial"/>
            </a:endParaRPr>
          </a:p>
          <a:p>
            <a:pPr lvl="1" marL="706320" indent="-2728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2ff47"/>
              </a:solidFill>
              <a:latin typeface="Arial"/>
            </a:endParaRPr>
          </a:p>
          <a:p>
            <a:pPr lvl="1" marL="706320" indent="-2728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58800" y="722160"/>
            <a:ext cx="793584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Standard Setting – IESBA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5T22:30:07Z</dcterms:created>
  <dc:creator>Robin Dennis</dc:creator>
  <dc:description/>
  <dc:language>en-US</dc:language>
  <cp:lastModifiedBy>dofori</cp:lastModifiedBy>
  <dcterms:modified xsi:type="dcterms:W3CDTF">2010-02-19T15:31:05Z</dcterms:modified>
  <cp:revision>358</cp:revision>
  <dc:subject/>
  <dc:title>Slide 1</dc:title>
</cp:coreProperties>
</file>