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0E777D-412F-4212-9A48-5BFF24958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D4B7D90-D931-4F94-B4DD-A4059BC5FF3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E5C8B0-7C64-4226-8B9C-935F2D87D83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749AE9-B722-4D5D-ABA5-ECEA26051D6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A3F3DF-C8C4-43F1-9B89-AB29895E687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2C8B3F-FF0B-4D1E-844D-EB98E397B75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1B9A8BB-40D2-4438-BE36-27166D58CE8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C05238-CFE2-4F8C-B4DB-9D70F872B1A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97738F5-7A12-4A58-A9A0-4E27525DAB2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C68224-56A2-4D27-A6F7-B3810F9891F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E7030D-7FE8-4ED9-B1D4-2D44864A001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AE0C1D-1699-4736-8DEB-9C21F92A990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D67E20-EE5B-4AAF-809E-B201298D0A3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236E47-C58D-41DA-B101-8E4F39578AD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AE42C3-BE1B-4C9E-901A-D7BBC806190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B4C7D2-8F53-4BEB-9FE6-DF93C4B3307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EE5-333B-4EA7-B9E8-D6F6DAE3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730-7F5A-45F3-89F3-A3B1C7B4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9E1-E344-4892-997C-D562960A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A5B-1288-424F-BF4B-D7C2810A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C70C-DC91-4408-9D79-828BF0BD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4A68-A1E1-47D8-A81C-D2630D4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37FD-5344-4343-BA7E-6BABFA99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A834-3E39-4B49-8794-A1212D7F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1CA3-B956-4895-BD77-496E3B17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60B3-C331-4556-89C4-B64B7BBC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2326-68CC-493B-ABD7-9E4B2974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6F9-A244-45AF-A124-A50FCBBB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473F-F9BA-4D60-BD8A-F8581EB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A26D-3D4F-4102-90D5-DFD5BA2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09A7-9DE8-48F9-8C24-F06437F1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5D82-F56B-4240-8AAB-F08DDC18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4CF9-39A9-449C-B4D7-FE0D5595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0D8E-18A3-4D96-890A-EB909F95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F45F-9EAA-43FB-A175-EFCFBE77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C611-F0BF-48C8-9708-982041C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C082-3848-4B0C-B825-04C654A9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5914-A589-4D8F-B6F1-88736893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7DC-610E-4F57-9A04-8FA79C5F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F675B-FB8F-4DD6-A5E8-B3C5CE55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E746D-EEBD-4FFF-AFD7-33F0F755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1C19-1721-40DF-87DB-D1FF0F7A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92F20-9E48-4FAC-A76C-AB3DC81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05FD-8877-43C8-8270-70AF18C3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28A0-0109-46EE-A86E-5B32B5E4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A537-C7C6-49AC-AEA1-06B2C05F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C994C-2CD4-4B3E-B57C-D86AC52C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60B54-1D41-48D2-BE6B-B864063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2A53-5AB6-4C0B-A6F4-374FC838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0AD-7F62-45CE-ABD5-8B52461A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CF5BE-9C7C-44C9-A144-963D7E2C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867C-8315-4417-A612-FB604AD6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FA90-BCDF-4EAF-83E2-45653563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3397-EEE8-411A-BB8E-37CF6A12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27590-6AD8-441F-9C6C-BB9C2F0D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27B15-3B9B-4584-9D51-D84B30DA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12F74-0F33-488E-90F1-282B1C3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0AF7-24F6-483B-8F26-2D916062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9A8C-9431-46A1-B672-EB9D5744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F7679-64C0-43F3-B25B-999911CE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99A-62F8-4AB9-A6F4-EB7DB3FD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1493D-6662-460F-B6E6-61B09D06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005DB-9F28-459F-BF17-44DA7941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70278-05AD-400A-9CCD-A93AF8BB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0F25-E809-44FD-B506-F1AD5AF5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599DF-369C-48C2-8161-99537870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CD42-D784-4CB9-B627-6F1D4E1D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0EFC8-CEC2-4280-8E5C-7C8A4BB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7344B-582C-4633-9B65-5D9B69D4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6FE2-D6B0-40D5-8608-C0B3F459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CA6D-8249-4425-93B7-CBE9B7B1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964-DAEC-4C52-9EF3-8E7E8AF7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43A7-5E82-4379-B9D9-D275D3A6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F23-BAF5-4FFF-805E-DC6625AD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577-27B7-4C39-B143-49DE358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031-D15F-4656-9FC9-1BAD5CB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1681-2957-4FDF-AF7B-00140DB5CA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A746-2E49-4F26-8AEE-C5AA61A1A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A34A-3535-4CBB-BB63-F79CE0E1FF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B1D7-6F1A-4554-9E0C-340CDB264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D962-01AA-46D3-9D04-29FAD9FFAD87}" type="slidenum">
              <a:rPr b="0" lang="en-US" sz="1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fac.org/SMP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a4b"/>
                </a:solidFill>
                <a:latin typeface="Times New Roman"/>
              </a:rPr>
              <a:t>Small and Medium Practices Committee </a:t>
            </a:r>
            <a:endParaRPr b="0" lang="en-US" sz="33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8440" y="2757600"/>
            <a:ext cx="837252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vie Voghel, Chair, SMP Committee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75160" y="4271760"/>
            <a:ext cx="49384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ebruary 18, 2010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RS for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reaction highly positiv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SC Foundation training material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training worksho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membership on SME Implementation Group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quality and free to download guid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Using ISAs in the Audits of SME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Quality Control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Practice Management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ole of SMPs in Providing Business Support Services to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 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</a:t>
            </a:r>
            <a:r>
              <a:rPr b="0" lang="en-US" sz="3200" spc="-1" strike="noStrike" u="sng">
                <a:solidFill>
                  <a:srgbClr val="c13535"/>
                </a:solidFill>
                <a:uFillTx/>
                <a:latin typeface="Times New Roman"/>
                <a:ea typeface="Times New Roman"/>
                <a:hlinkClick r:id="rId2"/>
              </a:rPr>
              <a:t>http://www.ifac.org/SMP/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net portal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eNew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to other resources (IFAC and other)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boar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nnual SMP Foru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Center for SMP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view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How can IFAC best support SMPs &amp;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raft recommendations being discussed at IFAC Chief Executives’ Strategy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presentation – in fact and appearance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MP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ore scope for us to work togeth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utual interest in promoting ethical behavior and converg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Ken will present at our meeting on March 11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6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266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267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8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Es account for majority of private sector employment and GDP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for job creation, social cohesion, innovation and growth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 Global Leadership Survey 2009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ing needs of SMPs and SMEs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st important issu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over-burdensome regulation of SM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lump in deman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cess to fin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naging cos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er and more complex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2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hallenging Ti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ly placed to help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s are small business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SMEs perform better and comply with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upport servic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role in SME financ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ole of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the capacity of SMPs to support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lping member bodies to help thei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tarted out around 5 years ago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8 memb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al procedures, project teams etc.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nual SMP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p to shape form and content of international standard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ractical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efficiently implement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manage bett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remain releva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9120" y="1407960"/>
            <a:ext cx="81612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’s Support for a Single Set of Auditing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&amp; implementation support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 implementation monito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nalysi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ion of review &amp; compilation standard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- IA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ed &amp; redraf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of Ethics for Professional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290 Independ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general concerns to those for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y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tee response to E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llenges to adoption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mplementation and consider need to eliminate requirement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mplementation support material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together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dofori</cp:lastModifiedBy>
  <dcterms:modified xsi:type="dcterms:W3CDTF">2010-02-19T15:31:05Z</dcterms:modified>
  <cp:revision>358</cp:revision>
  <dc:subject/>
  <dc:title>Slide 1</dc:title>
</cp:coreProperties>
</file>