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5486B-36FF-4B75-84BC-9764A33EC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BBB82-096D-42B9-9CF5-56428E56A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63064-D0CD-4EBE-9058-89DD2E249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21E13-6974-46D0-A2CB-067BA39BE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57516-8B91-4817-AB84-C03CA928F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0734E-DD0F-4B3A-A680-547370D14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F05B8-9BAD-49F6-A6DB-B9C5DE25D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27106-AD63-424D-BA15-D1D8A6E9A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4691B-01BF-457E-A6ED-3B58B7593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DCC67-D310-4C5A-AF71-CBE1ACF24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C22B1-27B7-4716-B52F-4F7898672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86A0B-EFC8-46BB-858B-D4EFCAB9B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684A7-706A-47AD-B3EA-458A6526685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8877240" cy="177840"/>
          </a:xfrm>
          <a:prstGeom prst="rect">
            <a:avLst/>
          </a:prstGeom>
          <a:gradFill rotWithShape="0">
            <a:gsLst>
              <a:gs pos="0">
                <a:srgbClr val="00859a"/>
              </a:gs>
              <a:gs pos="100000">
                <a:srgbClr val="00272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6388200"/>
            <a:ext cx="8877240" cy="457200"/>
          </a:xfrm>
          <a:prstGeom prst="rect">
            <a:avLst/>
          </a:prstGeom>
          <a:gradFill rotWithShape="0">
            <a:gsLst>
              <a:gs pos="0">
                <a:srgbClr val="00859a"/>
              </a:gs>
              <a:gs pos="100000">
                <a:srgbClr val="00272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288720" indent="-288720">
              <a:spcBef>
                <a:spcPts val="79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8737560" y="0"/>
            <a:ext cx="393840" cy="6845400"/>
            <a:chOff x="8737560" y="0"/>
            <a:chExt cx="393840" cy="6845400"/>
          </a:xfrm>
        </p:grpSpPr>
        <p:sp>
          <p:nvSpPr>
            <p:cNvPr id="8" name=""/>
            <p:cNvSpPr/>
            <p:nvPr/>
          </p:nvSpPr>
          <p:spPr>
            <a:xfrm>
              <a:off x="8737560" y="0"/>
              <a:ext cx="166680" cy="6845400"/>
            </a:xfrm>
            <a:prstGeom prst="rect">
              <a:avLst/>
            </a:prstGeom>
            <a:gradFill rotWithShape="0">
              <a:gsLst>
                <a:gs pos="0">
                  <a:srgbClr val="b1a14d"/>
                </a:gs>
                <a:gs pos="50000">
                  <a:srgbClr val="ffe870"/>
                </a:gs>
                <a:gs pos="100000">
                  <a:srgbClr val="b1a14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964720" y="0"/>
              <a:ext cx="166680" cy="6845400"/>
            </a:xfrm>
            <a:prstGeom prst="rect">
              <a:avLst/>
            </a:prstGeom>
            <a:gradFill rotWithShape="0">
              <a:gsLst>
                <a:gs pos="0">
                  <a:srgbClr val="009b8c"/>
                </a:gs>
                <a:gs pos="50000">
                  <a:srgbClr val="00dfca"/>
                </a:gs>
                <a:gs pos="100000">
                  <a:srgbClr val="009b8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" name=""/>
          <p:cNvSpPr/>
          <p:nvPr/>
        </p:nvSpPr>
        <p:spPr>
          <a:xfrm>
            <a:off x="125280" y="0"/>
            <a:ext cx="217800" cy="2781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125280" y="0"/>
            <a:ext cx="90720" cy="2781360"/>
          </a:xfrm>
          <a:prstGeom prst="rect">
            <a:avLst/>
          </a:prstGeom>
          <a:gradFill rotWithShape="0">
            <a:gsLst>
              <a:gs pos="0">
                <a:srgbClr val="b1a14d"/>
              </a:gs>
              <a:gs pos="50000">
                <a:srgbClr val="ffe870"/>
              </a:gs>
              <a:gs pos="100000">
                <a:srgbClr val="b1a14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252360" y="0"/>
            <a:ext cx="90720" cy="2781360"/>
          </a:xfrm>
          <a:prstGeom prst="rect">
            <a:avLst/>
          </a:prstGeom>
          <a:gradFill rotWithShape="0">
            <a:gsLst>
              <a:gs pos="0">
                <a:srgbClr val="009b8c"/>
              </a:gs>
              <a:gs pos="50000">
                <a:srgbClr val="00dfca"/>
              </a:gs>
              <a:gs pos="100000">
                <a:srgbClr val="009b8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Drafting Conventions</a:t>
            </a: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en Dakddu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ask Force Chai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0DBE9-ABD8-4EC5-9238-EACB3436A1E8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Clearly Insignificant</a:t>
            </a: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spcBef>
                <a:spcPts val="79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Code (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¶100.2)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quir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dentification of threats to compliance with the fundamental principles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valuation of the significance of the threats; an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f threats are not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clearly insignificant,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pplication of safeguards to eliminate them or reduce them to an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acceptable leve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390D3-BD72-4D4E-96FA-C1F0D2396E1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Clearly Insignificant</a:t>
            </a: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lnSpc>
                <a:spcPct val="90000"/>
              </a:lnSpc>
              <a:spcBef>
                <a:spcPts val="7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Clearly insignifican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s lower than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acceptabl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early insignificant means trivial and inconsequent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definition of “acceptable level” in the Co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gree it is slightly higher than clearly insignifica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90000"/>
              </a:lnSpc>
              <a:spcBef>
                <a:spcPts val="7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n threat is already at an acceptable level (before safeguards applied), no safeguards requir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90000"/>
              </a:lnSpc>
              <a:spcBef>
                <a:spcPts val="7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ocumentation for independence purposes required only when safeguards are needed to reduce threats to an acceptabl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41DC4-66D0-467B-868B-D3A71FF1C89A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Task Force Proposal – Eliminate Use of “Clearly Insignificant”</a:t>
            </a: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spcBef>
                <a:spcPts val="79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fessional accountants shall apply this conceptual framework to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dentify threats to compliance with the fundamental principles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valuate the significance of the threats, an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pply safeguards, when necessary, to eliminate threats or reduce them to an acceptabl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9ED8F-E31F-4798-8319-B314730B286E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Task Force Proposal – Define “Acceptable Level”</a:t>
            </a: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level at which a reasonable and informed third party would be likely to conclude, weighing all the specific facts and circumstances, that compliance with the fundamental principles is not compromise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17438-2603-44E2-9BA0-38CED5248D71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Clearly Insignificant – Other Interactions</a:t>
            </a: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spcBef>
                <a:spcPts val="79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lete “clearly insignificant” throughout Co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spcBef>
                <a:spcPts val="79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ifts and hospitality – refer to “trivial and inconsequential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spcBef>
                <a:spcPts val="79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ose business relationships – may use “insignificant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780B6-BB91-4B47-9E1E-C3F0B8772D4C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Task Force Proposal – Documentation Conforming Change (290.29)</a:t>
            </a: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lnSpc>
                <a:spcPct val="80000"/>
              </a:lnSpc>
              <a:spcBef>
                <a:spcPts val="64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Documentation is not by itself a determinant of whether a firm is independent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80000"/>
              </a:lnSpc>
              <a:spcBef>
                <a:spcPts val="64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International auditing standards require documentation of: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conclusions regarding compliance with independence requirements, and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any relevant discussions that support those conclusions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80000"/>
              </a:lnSpc>
              <a:spcBef>
                <a:spcPts val="64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When threats require the application of safeguards, that documentation shall </a:t>
            </a:r>
            <a:r>
              <a:rPr b="0" lang="en-US" sz="2600" spc="-1" strike="noStrike" u="sng">
                <a:solidFill>
                  <a:srgbClr val="ffffff"/>
                </a:solidFill>
                <a:uFillTx/>
                <a:latin typeface="Times New Roman"/>
              </a:rPr>
              <a:t>also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 describ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the nature of those threats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the safeguards applied to eliminate them or reduce them to an acceptable level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0660D-B749-411D-8553-F987CAF7099B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Consider v. evaluate v. determine</a:t>
            </a: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spcBef>
                <a:spcPts val="79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ider” used frequently in the Co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uld be interpreted as less robust than intend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spcBef>
                <a:spcPts val="79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ask Force proposal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sider = thinking about several matt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valuate = assessing and weigh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termine = concluding and making a decis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E75E0-47AC-473A-B707-7622E4F937C9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Consider v. evaluate v. determine</a:t>
            </a: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lnSpc>
                <a:spcPct val="80000"/>
              </a:lnSpc>
              <a:spcBef>
                <a:spcPts val="601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¶100.17 -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en initiating . . . a . . . conflict resolution process, a professional accountant shall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consider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the following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nsider” is used consistent with our drafting convention; no chang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80000"/>
              </a:lnSpc>
              <a:spcBef>
                <a:spcPts val="601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¶290.11 –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 considering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evaluating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the significance of any particular matter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hanged “considering” to “evaluating”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80000"/>
              </a:lnSpc>
              <a:spcBef>
                <a:spcPts val="601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¶290.157 -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efore a firm accepts an engagement . . . consideration should be given to  it shall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etermin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whether providing such a service would create a thre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hanged “consideration should be given to” to “determine”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743200" y="3657600"/>
            <a:ext cx="1295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1066680" y="4876560"/>
            <a:ext cx="4038840" cy="759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33D4A-0B1D-4F07-87E4-A3B6DC162577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Examples/Illustrate</a:t>
            </a: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spcBef>
                <a:spcPts val="79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e of “examples/illustrates” might convey that guidance is not mandato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¶200.1 – This Part of the Cod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illustrate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how the CF . . .  is to be appli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anged “illustrates” to “demonstrates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44F80-3C0A-489B-8C41-CE1B652E572B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Threats</a:t>
            </a: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spcBef>
                <a:spcPts val="79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s” or “may create” a thre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spcBef>
                <a:spcPts val="79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de does not define “threats”; for exampl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¶200.4  Examples of circumstances that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may creat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self-interest threats…include…undue dependence on total fees from a cli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¶290.129 Threats to independenc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may be create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when a close family member…is a director…of the client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60583-2D8B-4EE9-B89D-ADE8225F9A58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Overview</a:t>
            </a: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spcBef>
                <a:spcPts val="79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mplications of IAASB Clarity projec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spcBef>
                <a:spcPts val="79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early insignificant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spcBef>
                <a:spcPts val="79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ider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spcBef>
                <a:spcPts val="79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s” or “illustrates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spcBef>
                <a:spcPts val="79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reates a threat” or “may create a threat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spcBef>
                <a:spcPts val="79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reat defini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27994-052A-432C-9434-E5D803CE16F9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Description of Five Categories of Threats</a:t>
            </a: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spcBef>
                <a:spcPts val="79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ceptual framework approach first set out in independence section of Cod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spcBef>
                <a:spcPts val="79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ramework later expanded to cover entire Co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scriptions of threat categories (self review, self interest, advocacy, intimidation, familiarity) were made more generi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EA4AF-393C-47DE-80DC-63FB658C1CE8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Task Force Proposal – Threats</a:t>
            </a: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spcBef>
                <a:spcPts val="79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clarify when a threat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is create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or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may be create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clude general definition of a “threat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sure requirement to exercise professional judgment is retain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spcBef>
                <a:spcPts val="79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commend defining individual threat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lf review, self interest, advocacy, intimidation, and familiar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E2358-85D7-42CD-B12C-7EBE91635938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Threats – Proposed Definition</a:t>
            </a: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lnSpc>
                <a:spcPct val="90000"/>
              </a:lnSpc>
              <a:spcBef>
                <a:spcPts val="7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reats are created by relationships or other circumstances that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coul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compromise a professional accountant’s ability to comply with the fundamental princip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.e., the circumstance provides an incentive for the accountant to not comply with the fundamental princip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90000"/>
              </a:lnSpc>
              <a:spcBef>
                <a:spcPts val="7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undamental principles = integrity, objectivity, professional competence &amp; due care, confidentiality, and professional behavi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00AA6-2F5F-428D-8AC0-188403C39003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Threats – Proposed Definition</a:t>
            </a: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spcBef>
                <a:spcPts val="601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reats are created by relationships or other circumstances that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could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compromise a professional accountant’s ability to comply with the fundamental princip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spcBef>
                <a:spcPts val="601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uld compromise” means a threat requires evaluation of the relationship or circumstance to determine whether it would compromise complia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xplicit prohibition against the relationship or circumstance makes evaluation unnecess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46E84-F73B-43F2-887F-E5F96A53422D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Threats – Proposed Definition</a:t>
            </a: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spcBef>
                <a:spcPts val="7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reats are created by relationships or other circumstances that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coul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compromise a professional accountant’s ability to comply with the fundamental princip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spcBef>
                <a:spcPts val="7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ny relationships and circumstances described in the Code would “create” a thre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ill require changing “may create a threat” to “creates a threat” in many parts of the Co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5D1DA-D9DC-4095-A4A8-65412432C7EB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Threats – Proposed Definition</a:t>
            </a: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lnSpc>
                <a:spcPct val="90000"/>
              </a:lnSpc>
              <a:spcBef>
                <a:spcPts val="7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reats are created by relationships or other circumstances that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coul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compromise a professional accountant’s ability to comply with the fundamental principles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lnSpc>
                <a:spcPct val="90000"/>
              </a:lnSpc>
              <a:spcBef>
                <a:spcPts val="7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ints for discuss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ether to focus on incentives not to comply; e.g.,  “relationships . . . that could provide an incentive for an accountant to not comply with the fundamental principles”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D3B3B-D71F-491E-AE6B-BCBDD67756E7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Threats – Proposed Definition</a:t>
            </a: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spcBef>
                <a:spcPts val="7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reats are created by relationships or other circumstances that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coul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compromise a professional accountant’s ability to comply with the fundamental princip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spcBef>
                <a:spcPts val="7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ints for discuss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ether the definition should cover perceptions; e.g., “. . . that could compromise, or could be perceived to compromise . . .”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1CD45-70F5-4916-9D8E-BC52D92596DB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Threats – Proposed Definition</a:t>
            </a: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lnSpc>
                <a:spcPct val="80000"/>
              </a:lnSpc>
              <a:spcBef>
                <a:spcPts val="601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reats are created by relationships or other circumstances that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could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compromise a professional accountant’s ability to comply with the fundamental princip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spcBef>
                <a:spcPts val="601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oints for discuss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Whether to describe the action required after the definition of “threats” e.g., “Unless the relationship . . . is prohibited by this Code, a threat requires evaluation of the relationship . . . to determine whether it would compromise compliance . . . and, if so, application of safeguards . . .”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31077-FCBE-40B3-AD86-DE3B9076DF09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Self-Interest Threat</a:t>
            </a: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lnSpc>
                <a:spcPct val="80000"/>
              </a:lnSpc>
              <a:spcBef>
                <a:spcPts val="601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threat that a professional accountant will act in his or her own best interest, or in the best interest of a member of his or her immediate or close family member because of a potential benefit from a financial interest in or other relationship with a client of the employer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80000"/>
              </a:lnSpc>
              <a:spcBef>
                <a:spcPts val="601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oints for discuss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Whether “best interest” should be “interest”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Whether “a member of his or her immediate or close family member” should be “his or her firm, employer, or other persons”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Whether “a potential benefit” is necessary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A2E31-A1F9-4FF7-9F9A-E5732B67C542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Circumstances That Create Self-Interest Threats </a:t>
            </a:r>
            <a:r>
              <a:rPr b="0" lang="en-US" sz="2800" spc="-1" strike="noStrike">
                <a:solidFill>
                  <a:srgbClr val="ffe870"/>
                </a:solidFill>
                <a:latin typeface="Times New Roman"/>
                <a:ea typeface="Times New Roman"/>
              </a:rPr>
              <a:t>¶200.4 </a:t>
            </a:r>
            <a:endParaRPr b="0" lang="en-US" sz="28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lnSpc>
                <a:spcPct val="90000"/>
              </a:lnSpc>
              <a:spcBef>
                <a:spcPts val="601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member of the audit team having a direct financial interest in an audit clien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90000"/>
              </a:lnSpc>
              <a:spcBef>
                <a:spcPts val="601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ndue dependence on total fees from a clien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90000"/>
              </a:lnSpc>
              <a:spcBef>
                <a:spcPts val="601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aving a significant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usiness relationship with a cli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90000"/>
              </a:lnSpc>
              <a:spcBef>
                <a:spcPts val="601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cern about the possibility of losing a clien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90000"/>
              </a:lnSpc>
              <a:spcBef>
                <a:spcPts val="601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otential employment with a cli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90000"/>
              </a:lnSpc>
              <a:spcBef>
                <a:spcPts val="601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tingent fees relating to an assurance engage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90000"/>
              </a:lnSpc>
              <a:spcBef>
                <a:spcPts val="601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discovery of a significant error in the performance of a re-evaluation of a professional services engagemen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9F958-CAC4-4EEE-9A84-5B3FA79D466B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IAASB Clarity Conventions</a:t>
            </a: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lnSpc>
                <a:spcPct val="90000"/>
              </a:lnSpc>
              <a:spcBef>
                <a:spcPts val="174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ate objective to be achieved in relation to each IS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90000"/>
              </a:lnSpc>
              <a:spcBef>
                <a:spcPts val="174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quirements designed to achieve stated objective will be identified by use of the word “shall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90000"/>
              </a:lnSpc>
              <a:spcBef>
                <a:spcPts val="174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 use of present ten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90000"/>
              </a:lnSpc>
              <a:spcBef>
                <a:spcPts val="174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ach ISA to contain application material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vides further explanation and guidance supporting proper application of the standar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C13B7-5E71-4482-AD5A-504F29A7942B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Self-Review Threat</a:t>
            </a: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lnSpc>
                <a:spcPct val="90000"/>
              </a:lnSpc>
              <a:spcBef>
                <a:spcPts val="7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threat that a professional accountant will not appropriately re-evaluate the results of a previous service that he or she will rely upon in forming a judgment as part of providing a current service or because he or she, or others within his or her firm or organization, performed the previous service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90000"/>
              </a:lnSpc>
              <a:spcBef>
                <a:spcPts val="7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ints for discuss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ether “a current service” should be “another service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38289-F857-434A-B728-529ED45FF4A2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Circumstances That Create Self-Review Threats </a:t>
            </a:r>
            <a:r>
              <a:rPr b="0" lang="en-US" sz="2800" spc="-1" strike="noStrike">
                <a:solidFill>
                  <a:srgbClr val="ffe870"/>
                </a:solidFill>
                <a:latin typeface="Times New Roman"/>
                <a:ea typeface="Times New Roman"/>
              </a:rPr>
              <a:t>¶200.5</a:t>
            </a:r>
            <a:endParaRPr b="0" lang="en-US" sz="28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lnSpc>
                <a:spcPct val="80000"/>
              </a:lnSpc>
              <a:spcBef>
                <a:spcPts val="601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porting on the operation of financial systems after being involved with their design or implementatio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80000"/>
              </a:lnSpc>
              <a:spcBef>
                <a:spcPts val="601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aving prepared the original data used to generate records that are the subject matter of the engagemen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80000"/>
              </a:lnSpc>
              <a:spcBef>
                <a:spcPts val="601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member of the assurance team being, or having recently been, a director or officer of that clien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80000"/>
              </a:lnSpc>
              <a:spcBef>
                <a:spcPts val="601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member of the assurance team being, or having recently been, employed by the client in a position to exert significant influence over the subject matter of the engagemen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80000"/>
              </a:lnSpc>
              <a:spcBef>
                <a:spcPts val="601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erforming a service for a client that directly affects the subject matter of the assurance engagemen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64733-BB97-4555-A225-DD77A4C526CA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Advocacy Threat</a:t>
            </a: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spcBef>
                <a:spcPts val="79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threat that  a professional accountant who promotes a client’s or employer’s position may do so to the point that his or her objectivity is compromised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35651-8733-438E-BBFD-7B26AD570F73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Circumstances That Create Advocacy Threats </a:t>
            </a:r>
            <a:r>
              <a:rPr b="0" lang="en-US" sz="2800" spc="-1" strike="noStrike">
                <a:solidFill>
                  <a:srgbClr val="ffe870"/>
                </a:solidFill>
                <a:latin typeface="Times New Roman"/>
                <a:ea typeface="Times New Roman"/>
              </a:rPr>
              <a:t>¶200.6</a:t>
            </a:r>
            <a:endParaRPr b="0" lang="en-US" sz="28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spcBef>
                <a:spcPts val="79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moting shares in a listed entity when that entity is a financial statement audit client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spcBef>
                <a:spcPts val="79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cting as an advocate on behalf of an assurance client in litigation or disputes with third parti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60AAC-8D68-4DFD-9074-56CC8DA12CD4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Familiarity Threat</a:t>
            </a: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lnSpc>
                <a:spcPct val="80000"/>
              </a:lnSpc>
              <a:spcBef>
                <a:spcPts val="601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threat that a professional accountant will become too sympathetic to the interests of a client or employer or will not appropriately evaluate the worked performed by the client or employer because the work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(i) involves issues that are familiar to the professional accountant, or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(ii) was performed by an individual familiar to the professional accountant</a:t>
            </a:r>
            <a:br>
              <a:rPr sz="2200"/>
            </a:b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80000"/>
              </a:lnSpc>
              <a:spcBef>
                <a:spcPts val="601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oints for discuss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Whether (i) should read “involves matters that the professional accountant has been closely associated with”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Whether (ii) should read “was performed by an individual with whom the professional accountant has a close relationship”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89AF7-2F41-4D78-B4A5-93BC85DAC442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Circumstances That Create Familiarity Threats </a:t>
            </a:r>
            <a:r>
              <a:rPr b="0" lang="en-US" sz="2800" spc="-1" strike="noStrike">
                <a:solidFill>
                  <a:srgbClr val="ffe870"/>
                </a:solidFill>
                <a:latin typeface="Times New Roman"/>
                <a:ea typeface="Times New Roman"/>
              </a:rPr>
              <a:t>¶200.7</a:t>
            </a:r>
            <a:endParaRPr b="0" lang="en-US" sz="28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268560" indent="-268560">
              <a:lnSpc>
                <a:spcPct val="80000"/>
              </a:lnSpc>
              <a:spcBef>
                <a:spcPts val="601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member of the engagement team having a close or immediate family relationship with a director or officer of the clien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8560" indent="-268560">
              <a:lnSpc>
                <a:spcPct val="80000"/>
              </a:lnSpc>
              <a:spcBef>
                <a:spcPts val="601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member of the engagement team having a close or immediate family relationship with an employee of the client who is in a position to exert direct and significant influence over the subject matter of the engagemen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8560" indent="-268560">
              <a:lnSpc>
                <a:spcPct val="80000"/>
              </a:lnSpc>
              <a:spcBef>
                <a:spcPts val="601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 director or officer of the client or an employee in a position to exert direct and significant influence over the subject matter of the engagement was recently a partner of the fir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8560" indent="-268560">
              <a:lnSpc>
                <a:spcPct val="80000"/>
              </a:lnSpc>
              <a:spcBef>
                <a:spcPts val="601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ccepting gifts or preferential treatment from a client, unless the value is trivial or inconsequential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8560" indent="-268560">
              <a:lnSpc>
                <a:spcPct val="80000"/>
              </a:lnSpc>
              <a:spcBef>
                <a:spcPts val="601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ng association of senior personnel with the assurance clien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B5F8F-C2F9-4E23-962F-F5FBFE95EFC5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Intimidation Threat</a:t>
            </a: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lnSpc>
                <a:spcPct val="80000"/>
              </a:lnSpc>
              <a:spcBef>
                <a:spcPts val="601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threat that a professional accountant will subordinate his or her judgment to that of [an individual associated with] a client or employer because of thei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(i) reputation, or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(ii) because of their attempts to exercise excessive influence over him or her </a:t>
            </a:r>
            <a:br>
              <a:rPr sz="2200"/>
            </a:b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80000"/>
              </a:lnSpc>
              <a:spcBef>
                <a:spcPts val="601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oints for discuss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Whether (i) should read “[the individual’s] reputation or expertise”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Whether (ii) should read “will be deterred from acting objectively because the [individual associated with the] client or employer is aggressive or dominant or attempts to exercise excessive influence over him or her”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8424C-8E5C-4E0A-9C2C-CEE3E2F12F39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Circumstances That Create Intimidation Threats </a:t>
            </a:r>
            <a:r>
              <a:rPr b="0" lang="en-US" sz="2800" spc="-1" strike="noStrike">
                <a:solidFill>
                  <a:srgbClr val="ffe870"/>
                </a:solidFill>
                <a:latin typeface="Times New Roman"/>
                <a:ea typeface="Times New Roman"/>
              </a:rPr>
              <a:t>¶200.8</a:t>
            </a:r>
            <a:endParaRPr b="0" lang="en-US" sz="28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spcBef>
                <a:spcPts val="7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ing threatened with dismissal or replacement in relation to a client engage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spcBef>
                <a:spcPts val="7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ing threatened with litigation by the client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spcBef>
                <a:spcPts val="7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ing pressured to reduce inappropriately the extent of work performed in order to reduce fe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spcBef>
                <a:spcPts val="7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client hires as part of its management team an expert on determining fair values of assets in the client’s indust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9C1E4-B40E-4742-AB89-15AEA448E145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e870"/>
                </a:solidFill>
                <a:latin typeface="Times New Roman"/>
              </a:rPr>
              <a:t>Discussion</a:t>
            </a:r>
            <a:endParaRPr b="0" lang="en-US" sz="44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E8A35-4F52-46A1-A324-A9B72C855271}" type="slidenum">
              <a:t>38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IAASB Clarity Conventions</a:t>
            </a: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lnSpc>
                <a:spcPct val="90000"/>
              </a:lnSpc>
              <a:spcBef>
                <a:spcPts val="79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de based on a conceptual framewor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bjective:  comply with fundamental princip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90000"/>
              </a:lnSpc>
              <a:spcBef>
                <a:spcPts val="79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parately stating objectives and converting text into application guidanc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uld lengthen the Code; might weaken i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clusion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ould not work well in the Co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ether other approaches would work requires a longer-term effo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505B7-3315-428C-9277-E0895458020A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Requirements</a:t>
            </a: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spcBef>
                <a:spcPts val="7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ccountant should not do something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¶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10.2 “accountant should not be associated with . . . information . . . that [is] . . . false or misleading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spcBef>
                <a:spcPts val="7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ccountant should consider something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¶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40.8 “accountants should consider the following points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spcBef>
                <a:spcPts val="7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ccountant is required to do something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¶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90.3 “it is . . . required by this Code . . . that members . . . be independent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FDC8B-0DE8-4830-9240-048CE711311B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Requirements</a:t>
            </a: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spcBef>
                <a:spcPts val="79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ccountant is obliged to do someth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¶100.6 “accountant has an obligation to evaluate any threats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spcBef>
                <a:spcPts val="79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ccountant can do something if necessary steps are taken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¶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90.132 “the following safeguards are necessary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ED6BB-DF1A-4980-8993-3050E353BAB8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Not a Requirement</a:t>
            </a: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spcBef>
                <a:spcPts val="79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atement of expect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¶300.5 “accountant . . . is expected . . . to . . encourage an ethics-based culture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5A3CE-9627-4F06-A03E-F1A5AB7143BF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Principle</a:t>
            </a: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spcBef>
                <a:spcPts val="79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Shall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– to be used to denot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requirement to comply with specific guidance (e.g., a fundamental principl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room for judgment; cannot “opt out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clear prohibitio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¶110.2 “accountant should not be associated with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04F49-5764-422D-A002-14ADEB54BBD2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Effect of Approach</a:t>
            </a: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lnSpc>
                <a:spcPct val="90000"/>
              </a:lnSpc>
              <a:spcBef>
                <a:spcPts val="79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ill result in “shall” being used more often throughout the entire Co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90000"/>
              </a:lnSpc>
              <a:spcBef>
                <a:spcPts val="79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spondents to December 2006 ED perceive Code is moving closer to “rules-based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se of “shall” could exacerbate this percep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ules can be based on principle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urrent wording retained if requirement is clear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9A8BC-C601-4F62-BED9-9F36B26B5759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3-20T22:18:34Z</dcterms:created>
  <dc:creator>Steven H. Goldthwaite</dc:creator>
  <dc:description/>
  <cp:keywords/>
  <dc:language>en-US</dc:language>
  <cp:lastModifiedBy>Jan Munro</cp:lastModifiedBy>
  <cp:lastPrinted>1997-03-19T15:56:24Z</cp:lastPrinted>
  <dcterms:modified xsi:type="dcterms:W3CDTF">2008-01-25T14:42:35Z</dcterms:modified>
  <cp:revision>632</cp:revision>
  <dc:subject/>
  <dc:title>INTERNATIONAL FEDERATION OF ACCOUNTANTS</dc:title>
</cp:coreProperties>
</file>