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521-5614-418B-9AF1-F41F548F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7FF-B15F-45A9-8FFD-AA07D3F8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CDB-9A60-44AC-A539-857FE479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1BB-97D5-4C5D-8741-F1F84C93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C6F-A475-404A-AF9E-B2ED3211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143-BF06-4245-A14B-B5D91CD8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D19-6271-4C91-B1F6-BDF9BACE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233-C67D-482B-89D8-EBD1F63B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CB8-FD08-4D2E-8025-5B5EDD18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0F9-28FF-4EA0-8EC7-B604B0D7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139-8EBE-443E-8FF0-0A7C5685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D4F-A234-4313-A9EB-74CBBBB2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812E-6961-4657-9811-CD0221562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rafting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n Dakddu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75F-C48D-4CCA-8868-F2ACE00A2E2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de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reats to compliance with the fundamental princip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significance of the threats;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reats are no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safeguards to eliminate them or reduce them to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F88-8DAF-4C62-B073-E2C2D1BC9E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low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 insignificant means trivial and incon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finition of “acceptable level”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ree it is slightly higher than clearly insignific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reat is already at an acceptable level (before safeguards applied), no safeguard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ation for independence purposes required only when safeguards are needed to reduce threats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6A1-7AFB-4321-932E-FCE66BBBEA2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Eliminate Use of “Clearly Insignificant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accountants shall apply this conceptual framework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reats to compliance with the fundamental principl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significance of the threat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safeguards, when necessary, to eliminate threats or reduce them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BC2-EC16-443A-81C9-2939263D295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efine “Acceptable Level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vel at which a reasonable and informed third party would be likely to conclude, weighing all the specific facts and circumstances, that compliance with the fundamental principles is not compromi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669-7F3C-42CE-8B14-5F9BC5309E0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 – Other Interac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“clearly insignificant” throughou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fts and hospitality – refer to “trivial and inconsequenti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business relationships – may use “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819-367D-4D56-85A0-10693CD6CD6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ocumentation Conforming Change (290.29)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cumentation is not by itself a determinant of whether a firm is independen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rnational auditing standards require documentation of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clusions regarding compliance with independence requirements, a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y relevant discussions that support those conclus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threats require the application of safeguards, that documentation sha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scri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nature of those threa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safeguards applied to eliminate them or reduce them to an acceptabl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255-1F6C-4CC9-A565-6A1209C47A7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 used frequently in th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e interpreted as less robust than in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Force propos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= thinking about several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= assessing and weig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= concluding and making a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DCB-4918-4920-8849-01A2A5C66BE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1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nitiating . . . a . . . conflict resolution process, a professional accountan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follow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” is used consistent with our drafting convention; no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1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sid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ignificance of any particular mat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ing” to “evaluat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5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a firm accepts an engagement . . . consideration should be given to  i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hether providing such a service would create a th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ation should be given to” to “determine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6576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66680" y="4876560"/>
            <a:ext cx="40388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D44-8798-480C-9AE4-1E6BFF587C5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xamples/Illustrat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“examples/illustrates” might convey that guidance is not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1 – This Part of the Co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llustr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w the CF . . .  is to b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d “illustrates” to “demonstra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940-B829-495E-9C00-854ED3B4C16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” or “may create” a th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does not define “threats”;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4  Examples of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cr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lf-interest threats…include…undue dependence on total fees from a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29 Threats to independen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 cre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a close family member…is a director…of the clien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936-5A62-4430-8F33-454EFE7CBCE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of IAASB Clarity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 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” or “illustra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threat” or “may create a threa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t 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153-9EF0-4CBF-96B0-4FCB5EBF5A1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escription of Five Categories of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framework approach first set out in independence section of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later expanded to cover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s of threat categories (self review, self interest, advocacy, intimidation, familiarity) were made more gen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DCD-C4D6-4A52-A318-CB9336F0858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larify when a thre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s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y be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general definition of a “threa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requirement to exercise professional judgment is re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defining individual thre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review, self interest, advocacy, intimidation, and famili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D10-5E7A-4CE8-9234-F6AAA476882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e., the circumstance provides an incentive for the accountant to not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principles = integrity, objectivity, professional competence &amp; due care, confidentiality, and profession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153-B6E3-42D4-8C78-8951D8AE611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compromise” means a threat requires evaluation of the relationship or circumstance to determine whether it would compromise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licit prohibition against the relationship or circumstance makes evaluation un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CD7-6421-4371-A39A-3C03E37422C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ationships and circumstances described in the Code would “create” a 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require changing “may create a threat” to “creates a threat” in many parts of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8CB-F84A-41D0-96F5-CCADAB013F0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o focus on incentives not to comply; e.g.,  “relationships . . . that could provide an incentive for an accountant to not comply with the fundamental principle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333-F7E3-4D57-A9BD-D33CEC5AC44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he definition should cover perceptions; e.g., “. . . that could compromise, or could be perceived to compromise . . 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550-9EE3-4BDB-A7E2-D61998ADF41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to describe the action required after the definition of “threats” e.g., “Unless the relationship . . . is prohibited by this Code, a threat requires evaluation of the relationship . . . to determine whether it would compromise compliance . . . and, if so, application of safeguards . . 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689-C04F-49C4-8056-91A85C888B6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Interest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act in his or her own best interest, or in the best interest of a member of his or her immediate or close family member because of a potential benefit from a financial interest in or other relationship with a client of the employ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best interest” should be “interest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member of his or her immediate or close family member” should be “his or her firm, employer, or other person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potential benefit” is necess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D11-D117-4548-AA8F-9DCC7CC89A1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Interest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4 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udit team having a direct financial interest in an audi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ue dependence on total fees from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a significa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relationship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about the possibility of losing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mployment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t fees relating to an assurance 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covery of a significant error in the performance of a re-evaluation of a professional services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6DA-6283-4B5B-AB4D-C4E00939B53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bjective to be achieved in relation to each I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designed to achieve stated objective will be identified by use of the word “sh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se of present t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A to contain application mate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further explanation and guidance supporting proper application of th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016-0456-4194-841C-13DDEA9BD22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Review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not appropriately re-evaluate the results of a previous service that he or she will rely upon in forming a judgment as part of providing a current service or because he or she, or others within his or her firm or organization, performed the previous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“a current service” should be “another serv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942-E7DE-481C-B37F-9BE7D243D08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Review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5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ing on the operation of financial systems after being involved with their design or imple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prepared the original data used to generate records that are the subject matter of th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a director or officer of tha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employed by the client in a position to exert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ing a service for a client that directly affects the subject matter of the assuranc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50A-8BF9-48A8-AFF2-85EEC515ED7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Advocac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reat that  a professional accountant who promotes a client’s or employer’s position may do so to the point that his or her objectivity is compromi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AF4-15AA-494C-884E-C391E8F9152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Advocac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6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ing shares in a listed entity when that entity is a financial statement audit cli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ng as an advocate on behalf of an assurance client in litigation or disputes with third par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B42-E512-4D93-80F5-2DF7842D736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amiliarit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become too sympathetic to the interests of a client or employer or will not appropriately evaluate the worked performed by the client or employer because the 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involves issues that are familiar to the professional accountant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was performed by an individual familiar to the professional accountan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involves matters that the professional accountant has been closely associated wi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as performed by an individual with whom the professional accountant has a close relationship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36B-763F-47F0-9AAC-B97EF243024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Familiarit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7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 director or officer of th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n employee of the client who is in a position to exert direct and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director or officer of the client or an employee in a position to exert direct and significant influence over the subject matter of the engagement was recently a partner of the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ing gifts or preferential treatment from a client, unless the value is trivial or inconsequenti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association of senior personnel with the assuranc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D28-9FB8-4583-864F-1D3B4F7DA71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imidation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subordinate his or her judgment to that of [an individual associated with] a client or employer because of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reputation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because of their attempts to exercise excessive influence over him o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[the individual’s] reputation or expertis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ill be deterred from acting objectively because the [individual associated with the] client or employer is aggressive or dominant or attempts to exercise excessive influence over him or h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8EA-A071-469C-AF46-61DE2B675E0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Intimidation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8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dismissal or replacement in relation to a client 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litigation by the cl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ressured to reduce inappropriately the extent of work performed in order to reduce f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ient hires as part of its management team an expert on determining fair values of assets in the client’s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DC6-4FD9-42B2-81E5-A0537B27428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3A8-8F1F-410F-8B65-D1D2E822693F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based on a conceptual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 comply with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ly stating objectives and converting text into application guid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lengthen the Code; might weaken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not work well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ther approaches would work requires a longer-term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502-8B06-4412-9560-568592594DD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not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0.2 “accountant should not be associated with . . . information . . . that [is] . . . false or mislead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consider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0.8 “accountants should consider the following poi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is required to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0.3 “it is . . . required by this Code . . . that members . . . be independ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2D4-9D2E-4C45-995C-8D2872ACAE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is obliged to do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6 “accountant has an obligation to evaluate any thre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can do something if necessary steps are tak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90.132 “the following safeguards are necess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BEB-ADAA-423F-A956-67FA758C7E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t a Requireme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expec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300.5 “accountant . . . is expected . . . to . . encourage an ethics-based cultu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853-96B7-4841-BEB8-8FA342DC21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rincipl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to be used to de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quirement to comply with specific guidance (e.g., a fundamental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room for judgment; cannot “opt o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ear prohib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10.2 “accountant should not be associated wi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555-37C4-425A-8FCA-CC3E0C87F7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ffect of Approach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result in “shall” being used more often throughout the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to December 2006 ED perceive Code is moving closer to “rules-bas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“shall” could exacerbate this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can be based on princip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wording retained if requirement is cl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C1C-4F1E-4ACF-8860-2C01AC0FAAF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1-25T14:42:35Z</dcterms:modified>
  <cp:revision>632</cp:revision>
  <dc:subject/>
  <dc:title>INTERNATIONAL FEDERATION OF ACCOUNTANTS</dc:title>
</cp:coreProperties>
</file>