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E3D73-A486-4AD3-B0EC-76FA655D5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807EB-C0CD-4230-B687-7865CC8DF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184CB-9CD8-44FE-9AB2-813E92404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6EC5D-0B45-4790-B430-6024FAF07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F1F9E-20CA-4E60-91FD-0195A2A61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2C91E-F555-47D0-89E5-BFE935E1E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0489F-700F-459A-AD52-1BFD6370C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E97F3-339E-4218-AAAD-B3FE6B151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2CADC-8EA2-4D5C-9F98-FB2E1DDE8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9E08C-A985-468B-863D-557976790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ADC58-9EB9-4C29-BFC2-2DC40B114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BFEB2-08F1-4B19-BBE4-D3B284A33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F109-2844-4E3B-A678-67AA094219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8877240" cy="17784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6388200"/>
            <a:ext cx="8877240" cy="45720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
          <p:cNvGrpSpPr/>
          <p:nvPr/>
        </p:nvGrpSpPr>
        <p:grpSpPr>
          <a:xfrm>
            <a:off x="8737560" y="0"/>
            <a:ext cx="393840" cy="6845400"/>
            <a:chOff x="8737560" y="0"/>
            <a:chExt cx="393840" cy="6845400"/>
          </a:xfrm>
        </p:grpSpPr>
        <p:sp>
          <p:nvSpPr>
            <p:cNvPr id="8" name=""/>
            <p:cNvSpPr/>
            <p:nvPr/>
          </p:nvSpPr>
          <p:spPr>
            <a:xfrm>
              <a:off x="8737560" y="0"/>
              <a:ext cx="166680" cy="684540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8964720" y="0"/>
              <a:ext cx="166680" cy="684540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 name=""/>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25280" y="0"/>
            <a:ext cx="90720" cy="278136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252360" y="0"/>
            <a:ext cx="90720" cy="278136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II</a:t>
            </a:r>
            <a:endParaRPr b="0" lang="en-US" sz="3200" spc="-1" strike="noStrike">
              <a:solidFill>
                <a:srgbClr val="ffe87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ve Winetroub</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6E146A4D-5F4D-46D8-B508-2A840B62E2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paragraph to address self interest threat created if procedures performed to evaluate the work identifies a deficiency</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at is similar to threat that may be created when deficiency in an external audit procedure is identified as a result of performance of a subsequent external audit procedure</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assigned to evaluate adequacy of firm’s internal audit services should have appropriate level of expertise and stature within the fir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C949CA3-8A13-420D-B24E-349A145C05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Proposal</a:t>
            </a:r>
            <a:endParaRPr b="0" lang="en-US" sz="3200" spc="-1" strike="noStrike">
              <a:solidFill>
                <a:srgbClr val="ffe87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otal fees &gt;15% for two years disclose to those charged with governance and eith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 issuance review by accountant who is not a member of the firm; 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issuance review by accountant who is not a member of the firm</a:t>
            </a:r>
            <a:endParaRPr b="0" lang="en-US" sz="24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subsequent years in determining which of these safeguards should be applied consideration to be given to relative size of fee. At a minimum a post issuance review once every three year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343955E-D04D-4D88-A68E-5769121672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xed as to whether a bright-line test is appropriate</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Favor (elev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ble threshol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cessary for clarity and consistent application</a:t>
            </a:r>
            <a:endParaRPr b="0" lang="en-US" sz="24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ainst (fourte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consistent with a conceptual framework approach</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ght have a disproportionate impact on smaller firms and on firm concentrat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57640C7-207A-4090-9625-51DE42BE26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losure to those charged with governance – general support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 and post issuance review – general support though some expressed the view that only a pre-issuance review was strong enough - some stated review could be performed by a regulatory bod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50595B6-4038-444F-AA30-A2AD871391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TF Proposals</a:t>
            </a:r>
            <a:endParaRPr b="0" lang="en-US" sz="3200" spc="-1" strike="noStrike">
              <a:solidFill>
                <a:srgbClr val="ffe87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the application of safeguards to the second year’s audit opinion</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cate review could be performed by a professional regulatory body</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firm to discuss with those charged with governance the safeguard that will be applie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fees significantly exceed 15% firm should determine whether pre-issuance review is the necessary safeguard (not-post issuanc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3DA4043-76B0-4CF1-803C-C610A9857B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Position</a:t>
            </a:r>
            <a:endParaRPr b="0" lang="en-US" sz="3200" spc="-1" strike="noStrike">
              <a:solidFill>
                <a:srgbClr val="ffe87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n assurance service for a contingent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 non-assurance service for an audit client if:</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ount of fee is material to the firm; o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 is dependent upon the outcome of a future or contemporary audit judgment related to a material amount in the financial statement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AC7E8AB-AAC1-48B7-8A07-E854074851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Responses</a:t>
            </a:r>
            <a:endParaRPr b="0" lang="en-US" sz="3200" spc="-1" strike="noStrike">
              <a:solidFill>
                <a:srgbClr val="ffe87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supportive</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 respondents of view should not charge any contingent fee to an audit clien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there should be specific guidance on tax</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guidance should include prohibition on contingent fee arrangements between a firm and a third party</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respondent of view should address contingent fees charged by a network firm</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al noted Section 291 not aligned to 290</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22AF201-AD0F-4364-A0A2-B64858CEC7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TF Proposals</a:t>
            </a:r>
            <a:endParaRPr b="0" lang="en-US" sz="3200" spc="-1" strike="noStrike">
              <a:solidFill>
                <a:srgbClr val="ffe87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and guidance to include a prohibition on network firms charging contingent fees that would be material to the audit firm, if the audit firm charged the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ign guidance in Section 291 with 290 on providing an assurance service for a contingent fee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3431B65-0927-4A22-9B89-63158DE861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870"/>
                </a:solidFill>
                <a:latin typeface="Times New Roman"/>
              </a:rPr>
              <a:t>Discussion</a:t>
            </a:r>
            <a:endParaRPr b="0" lang="en-US" sz="4400" spc="-1" strike="noStrike">
              <a:solidFill>
                <a:srgbClr val="ffe87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1DDE17D-4032-41E6-93F4-327707A04243}"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ent period ended October 15, 2007</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sk Force met early December and held two conference calls in January</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4 responses received</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l audi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s relative siz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gent fee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E02E964-588C-4EA1-91E1-F3014D595FF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review threat may be created when a firm provides internal audit services to an audit clien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management function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2341407-3A2B-4C1B-B8B8-9F717CA6CC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 only provide assistance to an audit client’s internal audit function if:</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responsible activities and acknowledges responsibility for establishing, maintaining and monitoring internal control</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designates competent employee to be responsible for activitie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or those charged with governance, approve scope, risk and frequency of work</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evaluates adequacy of procedures and finding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dings and recommendations are reported appropriately to those charged with governanc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A452CC9-7941-4555-A3F1-F15C133747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 </a:t>
            </a:r>
            <a:endParaRPr b="0" lang="en-US" sz="3200" spc="-1" strike="noStrike">
              <a:solidFill>
                <a:srgbClr val="ffe87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of respondents supported approach</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ight respondents not supportiv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ny audit client (2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 PIE audit client (3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if going to place significant reliance in external audi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guards not sufficiently robus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posals not sufficiently restrictive (1 response)</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C2E99F6-544B-4392-A2CB-389302E254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a:t>
            </a:r>
            <a:endParaRPr b="0" lang="en-US" sz="3200" spc="-1" strike="noStrike">
              <a:solidFill>
                <a:srgbClr val="ffe87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clarity needed on definition/description of internal audit servic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CC8C920-8616-4CA6-B967-3FE5D5D15E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paragraph describing internal audit activities – consistent with ISA 610 Auditor’s Consideration of the Internal Audit Func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guidance on types of internal audit services that involve assuming a management responsibility</a:t>
            </a:r>
            <a:endParaRPr b="0" lang="en-US" sz="3200" spc="-1" strike="noStrike">
              <a:solidFill>
                <a:srgbClr val="ffffff"/>
              </a:solidFill>
              <a:latin typeface="Times New Roman"/>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08C132A-7841-4808-BEBF-9C08788C62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uditor uses internal audit work in external audit self-review threat created because of risk that results will be used without an appropriate evalua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uditor uses work of internal audit function, auditing standards require performance of procedures to evaluate the adequacy of that work</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D7CA9A2-D598-4A89-A761-3439EA73E3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uditor intends to use results of internal audit services the firm provided - the procedures performed to evaluate the adequacy of the work should be no less rigorous than if service performed by an individual who is not a member of the firm</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who provided internal audit services should not be given external audit responsibility  for any internal audit function or activity with which they were involved as part of performing internal audit servic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20A7BE0-7AA4-43BC-9528-D4A82B891A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cp:keywords/>
  <dc:language>en-US</dc:language>
  <cp:lastModifiedBy>Jan Munro</cp:lastModifiedBy>
  <cp:lastPrinted>1997-03-19T15:56:24Z</cp:lastPrinted>
  <dcterms:modified xsi:type="dcterms:W3CDTF">2008-01-16T22:32:15Z</dcterms:modified>
  <cp:revision>619</cp:revision>
  <dc:subject/>
  <dc:title>INTERNATIONAL FEDERATION OF ACCOUNTANTS</dc:title>
</cp:coreProperties>
</file>