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1BD5C-B657-42CD-B00E-DBBDB486F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FCAC7-241D-4D44-A4CE-1014ADB9A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74BA8-2817-4EEB-9798-E17C27D36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045F2-04A3-4C39-A8CC-923632DB6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BA76D-281B-49D2-B757-E2344C45F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0FA3A-FBB4-43BD-AD53-FFD778FC5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BACF5-3C1E-47DA-AF89-6FBC383C9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08950-25C2-48CA-A214-1D1E3C76B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F0D3A-6B31-452C-BC6F-B57A70D7E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7134-59E9-4EBB-AFF8-2C3386306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5E17D-6E3A-44AF-91AC-5C8B13D2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2A420-31F8-458F-9A7F-092742726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19D5-8067-41D2-8CEA-5A678A0C22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1</a:t>
            </a:r>
            <a:endParaRPr b="0" lang="en-US" sz="3200" spc="-1" strike="noStrike">
              <a:solidFill>
                <a:srgbClr val="ffe87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Rothbarth</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Comments from CAG members</a:t>
            </a:r>
            <a:endParaRPr b="0" lang="en-US" sz="3200" spc="-1" strike="noStrike">
              <a:solidFill>
                <a:srgbClr val="ffe87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l Committee on Banking Supervision of view definition should include regulated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s to whether the proposal was to address all regulator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 might not be specific with respect to independence standard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TF Proposal</a:t>
            </a:r>
            <a:endParaRPr b="0" lang="en-US" sz="3200" spc="-1" strike="noStrike">
              <a:solidFill>
                <a:srgbClr val="ffe87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defined by a regulator or by legislation as a public interest entity; an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for which a regulator or legislation requires the audit to be conducted in accordance with all, or substantially all, of any specific audit  auditing standards that are applicable to listed entities or the firm to comply with all, or substantially all, of any specific independence requirements that are applicable to listed entities</a:t>
            </a:r>
            <a:endParaRPr b="0" lang="en-US" sz="2800" spc="-1" strike="noStrike">
              <a:solidFill>
                <a:srgbClr val="ffffff"/>
              </a:solidFill>
              <a:latin typeface="Times New Roman"/>
            </a:endParaRPr>
          </a:p>
          <a:p>
            <a:pPr marL="29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et of auditing standards, with no additional requirements for listed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uditing standards for listed entities and the banking regulator requires audits of banks to be conducted in accordance with those requirement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regulator has adopted Section 290 as the relevant independence requirements for banks and specifies the listed provisions apply to bank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king regulator has adopted Section 290 as the relevant independence requirements for banks and but does not specify whether the listed provisions apply to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Code has been adopted into legislation but there are no specific requirements for categories of entities such as bank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Non-assurance services provided before client becomes audit client</a:t>
            </a:r>
            <a:endParaRPr b="0" lang="en-US" sz="3200" spc="-1" strike="noStrike">
              <a:solidFill>
                <a:srgbClr val="ffe87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services would not be permitted during period of audit engagement, consider any threats and if not clearly insignificant only accept audit engagement if safeguards are applied to address the threa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n-assurance service has not been completed, and it is not practical to complete or terminate the service, before starting audit services discuss with those charged with governance and only accept engagement if:</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assurance service will be completed within a short period of time; 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 has arrangements in place to transition the service to another provider within a short period of tim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Approach</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re partner rotation except when firm has few people with necessary knowledge and experience to serve as key audit partner and the independent regulator in the jurisdiction has provided an exemption in such circumstances and has specified alternative safeguard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Time Out</a:t>
            </a:r>
            <a:endParaRPr b="0" lang="en-US" sz="3200" spc="-1" strike="noStrike">
              <a:solidFill>
                <a:srgbClr val="ffe87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	</a:t>
            </a:r>
            <a:r>
              <a:rPr b="0" lang="en-CA" sz="2800" spc="-1" strike="noStrike">
                <a:solidFill>
                  <a:srgbClr val="ffffff"/>
                </a:solidFill>
                <a:latin typeface="Times New Roman"/>
              </a:rPr>
              <a:t>Individual should not participate in the audit of the entity, provide quality control for the engagement, consult with the engagement team or the client regarding technical or industry-specific issues, transaction or events or otherwise directly influence the outcome of the engagement</a:t>
            </a:r>
            <a:r>
              <a:rPr b="0" lang="en-CA"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Key Audit Partner – Definition</a:t>
            </a:r>
            <a:endParaRPr b="0" lang="en-US" sz="3200" spc="-1" strike="noStrike">
              <a:solidFill>
                <a:srgbClr val="ffe870"/>
              </a:solidFill>
              <a:latin typeface="Times New Roman"/>
            </a:endParaRPr>
          </a:p>
        </p:txBody>
      </p:sp>
      <p:sp>
        <p:nvSpPr>
          <p:cNvPr id="8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GB" sz="2400" spc="-1" strike="noStrike">
                <a:solidFill>
                  <a:srgbClr val="ffffff"/>
                </a:solidFill>
                <a:latin typeface="Times New Roman"/>
              </a:rPr>
              <a:t>The engagement partner, the individual responsible for the engagement quality control review, and other audit partners, if any, on the engagement team who make key decisions or judgments on significant matters with respect to the audit of the financial statements on which the firm will express an opinion.  Depending on the circumstances and the role of the individuals on the audit, other “audit partners” may include, for example, audit partners responsible for significant subsidiaries or division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gagement Team – Definition</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l partners and staff performing the engagement, and any individuals engaged by the firm or a network firm who perform assurance procedures on the engagement. This excludes external experts engaged by the firm or a network firm.</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Valuation Services </a:t>
            </a:r>
            <a:endParaRPr b="0" lang="en-US" sz="3200" spc="-1" strike="noStrike">
              <a:solidFill>
                <a:srgbClr val="ffe87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guidance on meaning of significant subjectivity</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aterial valuations for public interest entitie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nt activ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significant changes </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 to approve docume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s for conclusions still under construction</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eparation of Tax Calculations</a:t>
            </a:r>
            <a:endParaRPr b="0" lang="en-US" sz="3200" spc="-1" strike="noStrike">
              <a:solidFill>
                <a:srgbClr val="ffe870"/>
              </a:solidFill>
              <a:latin typeface="Times New Roman"/>
            </a:endParaRPr>
          </a:p>
        </p:txBody>
      </p:sp>
      <p:sp>
        <p:nvSpPr>
          <p:cNvPr id="88" name="PlaceHolder 2"/>
          <p:cNvSpPr>
            <a:spLocks noGrp="1"/>
          </p:cNvSpPr>
          <p:nvPr>
            <p:ph/>
          </p:nvPr>
        </p:nvSpPr>
        <p:spPr>
          <a:xfrm>
            <a:off x="685440" y="1599840"/>
            <a:ext cx="8001000" cy="4724280"/>
          </a:xfrm>
          <a:prstGeom prst="rect">
            <a:avLst/>
          </a:prstGeom>
          <a:noFill/>
          <a:ln w="0">
            <a:noFill/>
          </a:ln>
        </p:spPr>
        <p:txBody>
          <a:bodyPr lIns="92160" rIns="92160" tIns="46080" bIns="46080" anchor="t">
            <a:normAutofit/>
          </a:bodyPr>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ing tax calculations for the purpose of preparing accounting entries may create a threat </a:t>
            </a:r>
            <a:endParaRPr b="0" lang="en-US" sz="28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reat not clearly insignificant apply safeguards such 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erformed by accountant not a member of the audit team</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ions reviewed by individual not on audit team </a:t>
            </a:r>
            <a:endParaRPr b="0" lang="en-US" sz="24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s– should not perform calculations for the purpose of preparing accounting entries that are material to the financial statements</a:t>
            </a: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Planning and Other Advisory Services</a:t>
            </a:r>
            <a:endParaRPr b="0" lang="en-US" sz="3200" spc="-1" strike="noStrike">
              <a:solidFill>
                <a:srgbClr val="ffe87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elf-review threat may be created when advice will affect matters to be reflected in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provide advice if effectiveness of advice depends on particular accounting treatment and reasonable doubt as to appropriateness of treatment and outcome will be material to the financial statements</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Valuations</a:t>
            </a:r>
            <a:endParaRPr b="0" lang="en-US" sz="3200" spc="-1" strike="noStrike">
              <a:solidFill>
                <a:srgbClr val="ffe87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does not threaten independence if results of valuation are not directly reflected in the financial statements and effect is immaterial or valuation subject to external review by a tax authority or similar regulatory authority</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subject to external review and is material significance of threat should be evaluated and safeguards applied </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results directly reflected in financial statements, guidance in valuation paragraphs applies</a:t>
            </a:r>
            <a:endParaRPr b="0" lang="en-US" sz="2400" spc="-1" strike="noStrike">
              <a:solidFill>
                <a:srgbClr val="ffffff"/>
              </a:solidFill>
              <a:latin typeface="Times New Roman"/>
            </a:endParaRPr>
          </a:p>
          <a:p>
            <a:pPr marL="288720" indent="-288720">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ssistance in Tax Disputes</a:t>
            </a:r>
            <a:endParaRPr b="0" lang="en-US" sz="3200" spc="-1" strike="noStrike">
              <a:solidFill>
                <a:srgbClr val="ffe87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hreat may be created when firm represents an audit client in resolution of tax dispute when tax authorities have notified client that they rejected argument and it is being referred to tax authority</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act as an advocate for an audit client before a public tribunal or court in a resolution where amounts are material</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T Systems</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ublic interest entity–  no design </a:t>
            </a:r>
            <a:r>
              <a:rPr b="0" i="1" lang="en-US" sz="2800" spc="-1" strike="noStrike">
                <a:solidFill>
                  <a:srgbClr val="ffffff"/>
                </a:solidFill>
                <a:latin typeface="Times New Roman"/>
              </a:rPr>
              <a:t>and</a:t>
            </a:r>
            <a:r>
              <a:rPr b="0" lang="en-US" sz="2800" spc="-1" strike="noStrike">
                <a:solidFill>
                  <a:srgbClr val="ffffff"/>
                </a:solidFill>
                <a:latin typeface="Times New Roman"/>
              </a:rPr>
              <a:t> implementation</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terest entity – no design </a:t>
            </a:r>
            <a:r>
              <a:rPr b="0" i="1" lang="en-US" sz="2800" spc="-1" strike="noStrike">
                <a:solidFill>
                  <a:srgbClr val="ffffff"/>
                </a:solidFill>
                <a:latin typeface="Times New Roman"/>
              </a:rPr>
              <a:t>or </a:t>
            </a:r>
            <a:r>
              <a:rPr b="0" lang="en-US" sz="2800" spc="-1" strike="noStrike">
                <a:solidFill>
                  <a:srgbClr val="ffffff"/>
                </a:solidFill>
                <a:latin typeface="Times New Roman"/>
              </a:rPr>
              <a:t>implementation</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oling-off Period </a:t>
            </a:r>
            <a:endParaRPr b="0" lang="en-US" sz="3200" spc="-1" strike="noStrike">
              <a:solidFill>
                <a:srgbClr val="ffe87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ling off period if key audit partner or firm CEO joins client as a director or officer or in position to exert significant influence over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udit partner – f/s of not less than 12 months and partner not a member of the audit team</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 – twelve month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year after final standard will be issued (assume issuance December 31, 2008, effective December 31, 2009)</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itional provisions:</a:t>
            </a:r>
            <a:endParaRPr b="0" lang="en-US" sz="28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n-assurance services – a six month period after he effective date to complete any activities in process (June 30, 2010)</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ner rotation  and PIEs – one additional year before the new requirements come into place (December 31, 2010)</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Recent activitie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tober IESBA consideration of comments received and first read of re-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November addressed IESBA com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G December reviewed revised 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met immediately after CAG meeting to address comments and held conference call in January to finalize</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Proposal</a:t>
            </a:r>
            <a:endParaRPr b="0" lang="en-US" sz="3200" spc="-1" strike="noStrike">
              <a:solidFill>
                <a:srgbClr val="ffe87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y provisions should apply to significant public interest entities (SPIE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are listed entities and certain other entities that have a large number and wide range of stakeholder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facts and circumstances:</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rmally </a:t>
            </a:r>
            <a:r>
              <a:rPr b="0" lang="en-US" sz="2400" spc="-1" strike="noStrike">
                <a:solidFill>
                  <a:srgbClr val="ffffff"/>
                </a:solidFill>
                <a:latin typeface="Times New Roman"/>
              </a:rPr>
              <a:t>includes regulated financial institutions</a:t>
            </a:r>
            <a:endParaRPr b="0" lang="en-US" sz="24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y</a:t>
            </a:r>
            <a:r>
              <a:rPr b="0" lang="en-US" sz="2400" spc="-1" strike="noStrike">
                <a:solidFill>
                  <a:srgbClr val="ffffff"/>
                </a:solidFill>
                <a:latin typeface="Times New Roman"/>
              </a:rPr>
              <a:t> include pension funds, government-agencies, government-controlled entities and not-for-profits</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Support </a:t>
            </a:r>
            <a:endParaRPr b="0" lang="en-US" sz="3200" spc="-1" strike="noStrike">
              <a:solidFill>
                <a:srgbClr val="ffe870"/>
              </a:solidFill>
              <a:latin typeface="Times New Roman"/>
            </a:endParaRPr>
          </a:p>
        </p:txBody>
      </p:sp>
      <p:sp>
        <p:nvSpPr>
          <p:cNvPr id="5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agreed with proposal</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have a wider range of financial stakeholders, therefore, safeguards including restrictions to address perception issues are more importa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good explanation for maintaining different independence requirements for listed and non-listed SPI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Concerns</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spondent suggested adopting EU definition</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felt ED proposal would lead to inconsistent application between jurisdiction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ented there was no evidence for including all listeds even small listed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guidance on characteristics of SPIEs needed </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emphasis on size</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alignment with IFRS</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1</a:t>
            </a:r>
            <a:endParaRPr b="0" lang="en-US" sz="3200" spc="-1" strike="noStrike">
              <a:solidFill>
                <a:srgbClr val="ffe870"/>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91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row definition</a:t>
            </a:r>
            <a:endParaRPr b="0" lang="en-US" sz="32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which have been designated by a regulator to be subject to the same independence requirements as those applicable to a listed entity</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2</a:t>
            </a:r>
            <a:endParaRPr b="0" lang="en-US" sz="3200" spc="-1" strike="noStrike">
              <a:solidFill>
                <a:srgbClr val="ffe870"/>
              </a:solidFill>
              <a:latin typeface="Times New Roman"/>
            </a:endParaRPr>
          </a:p>
        </p:txBody>
      </p:sp>
      <p:sp>
        <p:nvSpPr>
          <p:cNvPr id="64" name="PlaceHolder 2"/>
          <p:cNvSpPr>
            <a:spLocks noGrp="1"/>
          </p:cNvSpPr>
          <p:nvPr>
            <p:ph/>
          </p:nvPr>
        </p:nvSpPr>
        <p:spPr>
          <a:xfrm>
            <a:off x="685440" y="1523520"/>
            <a:ext cx="7924680" cy="4800600"/>
          </a:xfrm>
          <a:prstGeom prst="rect">
            <a:avLst/>
          </a:prstGeom>
          <a:noFill/>
          <a:ln w="0">
            <a:noFill/>
          </a:ln>
        </p:spPr>
        <p:txBody>
          <a:bodyPr lIns="92160" rIns="92160" tIns="46080" bIns="46080" anchor="t">
            <a:normAutofit fontScale="99000"/>
          </a:bodyPr>
          <a:p>
            <a:pPr marL="2887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r definition</a:t>
            </a:r>
            <a:endParaRPr b="0" lang="en-US" sz="32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designated by a regulator to be subject to same independence requirements as listed entities</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ntities, as determined by the firm, that have public accountability to a large number or wide range of stakeholders. Factors to consider:</a:t>
            </a:r>
            <a:endParaRPr b="0" lang="en-US" sz="28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relative to the economy</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 significance in a particular jurisdiction</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ther the entity holds assets in a fiduciary capacit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Approach</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 definition – listed plus regulator designated P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member bodies and firms to consider whether PIE requirements should be applied to other ent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reference to “significant” and refer only to PIE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dc:language>en-US</dc:language>
  <cp:lastModifiedBy>Jan Munro</cp:lastModifiedBy>
  <cp:lastPrinted>1997-03-19T15:56:24Z</cp:lastPrinted>
  <dcterms:modified xsi:type="dcterms:W3CDTF">2008-02-13T17:35:57Z</dcterms:modified>
  <cp:revision>623</cp:revision>
  <dc:subject/>
  <dc:title>INTERNATIONAL FEDERATION OF ACCOUNTANTS</dc:title>
</cp:coreProperties>
</file>