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2AD1-E17E-4706-9547-72D07CB4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5D5-F35C-4AFE-9603-DABFF314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C62-2980-4947-8F01-FC285356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352-C545-4540-8674-C2883096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0021-AD66-483E-AAF6-271B0A04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49F-65BA-400B-9C30-BFC218BC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D95-08AD-4856-8D53-B697191D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0E8-5C8B-4F65-9B5B-08E5DDE1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6D3-5EDF-486B-A2D6-89C3E34D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EE4-47F2-4BC0-AB90-911A5168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254-5FED-4E79-B2BC-6924EC6C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36E-F171-4312-A1CC-00386161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624B-77B5-49D7-BF8E-54C5F892B4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8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rafting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n Dakddu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Forc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CD6-3D49-4547-81E8-9993B63E1A6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de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2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threats to compliance with the fundamental princip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of the significance of the threats;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reats are no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 safeguards to eliminate them or reduce them to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1DB-35CF-49F9-970C-E38A06382D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lower th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ly insignificant means trivial and inconsequ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finition of “acceptable level”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ree it is slightly higher than clearly insignific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reat is already at an acceptable level (before safeguards applied), no safeguard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ation for independence purposes required only when safeguards are needed to reduce threats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844-0B90-41A1-A44C-8F4FD200CC0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Eliminate Use of “Clearly Insignificant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 accountants shall apply this conceptual framework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threats to compliance with the fundamental principl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the significance of the threats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safeguards, when necessary, to eliminate threats or reduce them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92E-A651-4083-BA04-8CBA5E3FA28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efine “Acceptable Level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evel at which a reasonable and informed third party would be likely to conclude, weighing all the specific facts and circumstances, that compliance with the fundamental principles is not compromi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B01-BEEB-4E7F-9C67-22BD3A2A1B1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 – Other Interac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ete “clearly insignificant” throughout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fts and hospitality – refer to “trivial and inconsequenti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business relationships – may use “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167-125A-4E9A-8163-65F33A48F06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ocumentation Conforming Change (290.29)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cumentation is not by itself a determinant of whether a firm is independen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ternational auditing standards require documentation of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clusions regarding compliance with independence requirements, an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y relevant discussions that support those conclusio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en threats require the application of safeguards, that documentation sha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scrib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nature of those threat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safeguards applied to eliminate them or reduce them to an acceptabl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C5F-F22D-4B8B-A1C8-B18050B44DD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 used frequently in th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be interpreted as less robust than in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 Force propos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= thinking about several ma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= assessing and weig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= concluding and making a d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506-B5F9-4028-9F01-DBDE905B31A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1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nitiating . . . a . . . conflict resolution process, a professional accountan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i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follow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” is used consistent with our drafting convention; no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1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sid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alua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ignificance of any particular mat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ing” to “evaluat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5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a firm accepts an engagement . . . consideration should be given to  i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term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hether providing such a service would create a thr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ation should be given to” to “determine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6576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066680" y="4876560"/>
            <a:ext cx="403884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8A2-19D3-43BE-9723-8E60B500DE3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xamples/Illustrat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“examples/illustrates” might convey that guidance is not mand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1 – This Part of the Co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llustr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w the CF . . .  is to b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d “illustrates” to “demonstra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DA6-05E4-496A-82E7-3C1EF4A4235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” or “may create” a th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does not define “threats”; 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4  Examples of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cre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lf-interest threats…include…undue dependence on total fees from a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29 Threats to independen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 cre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a close family member…is a director…of the client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33F-4275-4C3C-819B-816D7209028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 of IAASB Clarity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ly 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” or “illustrat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threat” or “may create a threa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t 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93D-2C0A-47F4-A51F-A546D0ADB10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escription of Five Categories of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framework approach first set out in independence section of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 later expanded to cover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ptions of threat categories (self review, self interest, advocacy, intimidation, familiarity) were made more gene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E22-5F1F-4C23-89A6-3654639464C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larify when a thre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s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y be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general definition of a “threa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requirement to exercise professional judgment is re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 defining individual thre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review, self interest, advocacy, intimidation, and famili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AA3-35A3-4F8E-AF61-3F3DD7DD52F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.e., the circumstance provides an incentive for the accountant to not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amental principles = integrity, objectivity, professional competence &amp; due care, confidentiality, and professiona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1A5-FB08-4FBC-ACF4-BEAB6F80208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ld compromise” means a threat requires evaluation of the relationship or circumstance to determine whether it would compromise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licit prohibition against the relationship or circumstance makes evaluation unnecess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EA9-47D8-44AB-ACC3-9A2D0C9E429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lationships and circumstances described in the Code would “create” a 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require changing “may create a threat” to “creates a threat” in many parts of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89EB-03C5-4CE3-9AE8-2E61A967BDC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o focus on incentives not to comply; e.g.,  “relationships . . . that could provide an incentive for an accountant to not comply with the fundamental principles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471-5785-4CEA-A39C-C91C1BCD797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he definition should cover perceptions; e.g., “. . . that could compromise, or could be perceived to compromise . . 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917-9CB9-4865-B21F-4EC8148E644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to describe the action required after the definition of “threats” e.g., “Unless the relationship . . . is prohibited by this Code, a threat requires evaluation of the relationship . . . to determine whether it would compromise compliance . . . and, if so, application of safeguards . . 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6F3-34C6-421D-ACC1-159377C3416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Interest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act in his or her own best interest, or in the best interest of a member of his or her immediate or close family member because of a potential benefit from a financial interest in or other relationship with a client of the employ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best interest” should be “interest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member of his or her immediate or close family member” should be “his or her firm, employer, or other person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potential benefit” is necessa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078-0F6E-467B-8EAA-A156C82D8E5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Interest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4 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udit team having a direct financial interest in an audi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ue dependence on total fees from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a significan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relationship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 about the possibility of losing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employment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t fees relating to an assurance eng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covery of a significant error in the performance of a re-evaluation of a professional services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498-C2FE-4F9F-89AF-0F9BC25F606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bjective to be achieved in relation to each I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designed to achieve stated objective will be identified by use of the word “sh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use of present t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A to contain application mater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further explanation and guidance supporting proper application of the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4C4-60B2-41DD-BD80-AAEEA711F6A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Review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not appropriately re-evaluate the results of a previous service that he or she will rely upon in forming a judgment as part of providing a current service or because he or she, or others within his or her firm or organization, performed the previous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“a current service” should be “another servi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9E0-FA04-4D83-AE44-C8BE20CE9D8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Review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5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ing on the operation of financial systems after being involved with their design or implement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prepared the original data used to generate records that are the subject matter of th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a director or officer of tha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employed by the client in a position to exert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ing a service for a client that directly affects the subject matter of the assuranc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AA2-CC15-4C19-9625-CC7664A5B78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Advocac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reat that  a professional accountant who promotes a client’s or employer’s position may do so to the point that his or her objectivity is compromis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83F-0C37-408B-B3FD-6B2D4F9601D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Advocac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6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ing shares in a listed entity when that entity is a financial statement audit cli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ng as an advocate on behalf of an assurance client in litigation or disputes with third par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D4A7-8EEB-4C05-977D-447D13278D1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amiliarit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become too sympathetic to the interests of a client or employer or will not appropriately evaluate the worked performed by the client or employer because the wor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involves issues that are familiar to the professional accountant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was performed by an individual familiar to the professional accountan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involves matters that the professional accountant has been closely associated wi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as performed by an individual with whom the professional accountant has a close relationship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FF9-CF01-4C6E-B7B6-5D1241690F1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Familiarit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7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 director or officer of th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n employee of the client who is in a position to exert direct and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director or officer of the client or an employee in a position to exert direct and significant influence over the subject matter of the engagement was recently a partner of the f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ing gifts or preferential treatment from a client, unless the value is trivial or inconsequentia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association of senior personnel with the assuranc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5DD-67E3-497D-B04B-74DFA8B1E11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imidation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subordinate his or her judgment to that of [an individual associated with] a client or employer because of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reputation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because of their attempts to exercise excessive influence over him or he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[the individual’s] reputation or expertis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ill be deterred from acting objectively because the [individual associated with the] client or employer is aggressive or dominant or attempts to exercise excessive influence over him or he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3E6-216F-49FB-AFC4-3D2BF7D121D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Intimidation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8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dismissal or replacement in relation to a client 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litigation by the cli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ressured to reduce inappropriately the extent of work performed in order to reduce f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ient hires as part of its management team an expert on determining fair values of assets in the client’s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BF5-8048-4C6B-8EB6-DFAC06DC66A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87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F9A-FB88-4FD4-8770-0135DE3F051F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based on a conceptual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:  comply with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ly stating objectives and converting text into application guid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lengthen the Code; might weaken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not work well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other approaches would work requires a longer-term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847-DCC6-4495-9AC5-44DD91E48A0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not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0.2 “accountant should not be associated with . . . information . . . that [is] . . . false or mislead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consider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0.8 “accountants should consider the following point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is required to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0.3 “it is . . . required by this Code . . . that members . . . be independen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512-4018-4D43-AE2D-01573E6B12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is obliged to do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6 “accountant has an obligation to evaluate any threa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can do something if necessary steps are tak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90.132 “the following safeguards are necessa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AC0-F272-4B99-837C-83FC67C0D1E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Not a Requireme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of expec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300.5 “accountant . . . is expected . . . to . . encourage an ethics-based cultur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FDF-3525-4E31-B4CE-99BEF609655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rincipl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h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to be used to de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quirement to comply with specific guidance (e.g., a fundamental princi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room for judgment; cannot “opt o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ear prohib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10.2 “accountant should not be associated wi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5D7-C955-4445-9B62-57DD1136E8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ffect of Approach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result in “shall” being used more often throughout the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to December 2006 ED perceive Code is moving closer to “rules-bas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“shall” could exacerbate this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les can be based on princip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wording retained if requirement is cle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0F0-EAE7-45DF-B898-2AF7EF6B382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Jan Munro</cp:lastModifiedBy>
  <cp:lastPrinted>1997-03-19T15:56:24Z</cp:lastPrinted>
  <dcterms:modified xsi:type="dcterms:W3CDTF">2008-01-25T14:42:35Z</dcterms:modified>
  <cp:revision>632</cp:revision>
  <dc:subject/>
  <dc:title>INTERNATIONAL FEDERATION OF ACCOUNTANTS</dc:title>
</cp:coreProperties>
</file>