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95B1-840D-40CA-868A-F16AA454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C2C-3300-4FA5-BFD7-055FB3E3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C34-217D-489B-AEC2-9CA6E828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642-E0B2-4293-AF79-0674122F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B68-0935-4F82-8636-E78D9F3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F95-ED71-469A-9C4E-B8374411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752-C68E-4963-9D4C-6E792F8A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BB48-BEB2-4004-A383-3A0B19C6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B8A8-80DF-499C-8BEA-3515C300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750-F6E5-4CDA-88EC-3BF6172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267-BEA5-4095-8F4E-E8F30AB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2E5E-9165-45BB-8938-B9DC77A6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6A9-564D-4630-A1FA-ABC4BCC56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rafting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n Dakddu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ask Force Chai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D08-AD12-498C-9971-6597365682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de (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2)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reats to compliance with the fundamental principl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significance of the threats;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reats are no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afeguards to eliminate them or reduce them to 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8E5-754D-4BE8-BE7C-F307220E93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learly insignifica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 lower tha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ly insignificant means trivial and inconsequent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definition of “acceptable level”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gree it is slightly higher than clearly insignific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reat is already at an acceptable level (before safeguards applied), no safeguard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cumentation for independence purposes required only when safeguards are needed to reduce threats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AC8-5ACF-4D75-A6DD-5DE909040C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Eliminate Use of “Clearly Insignificant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fessional accountants shall apply this conceptual framework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y threats to compliance with the fundamental principle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the significance of the threat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y safeguards, when necessary, to eliminate threats or reduce them to an acceptabl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A2A1-6F3D-49F0-8ED7-56DEC97F3C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efine “Acceptable Level”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evel at which a reasonable and informed third party would be likely to conclude, weighing all the specific facts and circumstances, that compliance with the fundamental principles is not compromi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7D8-75C1-45FF-85F4-588B618F59A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early Insignificant – Other Interac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ete “clearly insignificant” throughout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fts and hospitality – refer to “trivial and inconsequential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se business relationships – may use “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0F6-D324-433F-8050-493CD7F16F1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Documentation Conforming Change (290.29)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ocumentation is not by itself a determinant of whether a firm is independent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ternational auditing standards require documentation of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onclusions regarding compliance with independence requirements, an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ny relevant discussions that support those conclusions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When threats require the application of safeguards, that documentation shall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lso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describ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nature of those threat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he safeguards applied to eliminate them or reduce them to an acceptable lev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4E6-B50C-4B7E-B8AE-E27F79E96AE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 used frequently in th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be interpreted as less robust than int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sk Force propos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sider = thinking about several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e = assessing and weig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ermine = concluding and making a dec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B28-C359-4A96-BB58-F9B54779FD8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onsider v. evaluate v. determin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1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initiating . . . a . . . conflict resolution process, a professional accountan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sid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follow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ider” is used consistent with our drafting convention; no chan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1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considering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valua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ignificance of any particular matt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ing” to “evaluat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57 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a firm accepts an engagement . . . consideration should be given to  it shal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term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hether providing such a service would create a thr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nged “consideration should be given to” to “determine”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43200" y="3657600"/>
            <a:ext cx="1295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066680" y="4876560"/>
            <a:ext cx="40388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509-07E9-42AD-8974-5EED09A82F2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xamples/Illustrat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of “examples/illustrates” might convey that guidance is not mand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1 – This Part of the Cod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llustr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w the CF . . .  is to b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d “illustrates” to “demonstrat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EA7D-080F-4899-8B00-140DF9722A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” or “may create” a thr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does not define “threats”; 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00.4  Examples of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cre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lf-interest threats…include…undue dependence on total fees from a cl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290.129 Threats to independen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ay b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hen a close family member…is a director…of the client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D9E-83C5-4833-B985-4D34D51BE7C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ications of IAASB Clarity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early insignifican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ider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s” or “illustrate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s a threat” or “may create a threat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at 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15DA-3138-436E-A0D1-12DF613067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Description of Five Categories of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framework approach first set out in independence section of Co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later expanded to cover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criptions of threat categories (self review, self interest, advocacy, intimidation, familiarity) were made more gener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FF1-3204-43A6-814C-B6909266F2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ask Force Proposal – Threa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larify when a threat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is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y be cre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 general definition of a “threa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requirement to exercise professional judgment is reta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defining individual thre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f review, self interest, advocacy, intimidation, and famili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AC15-50C6-4DDB-A93D-7D0F1E86FDD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.e., the circumstance provides an incentive for the accountant to not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ndamental principles = integrity, objectivity, professional competence &amp; due care, confidentiality, and profession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A78-F18B-490E-A115-7FD5528225D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ld compromise” means a threat requires evaluation of the relationship or circumstance to determine whether it would compromise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licit prohibition against the relationship or circumstance makes evaluation unnecess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9D21-12E8-4D30-A5B8-D7E53FAA47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ationships and circumstances described in the Code would “create” a 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require changing “may create a threat” to “creates a threat” in many parts of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D3B6-F068-468C-9F93-A1311AFC262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o focus on incentives not to comply; e.g.,  “relationships . . . that could provide an incentive for an accountant to not comply with the fundamental principles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B02-40FA-4B1D-811F-D227137F9D3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the definition should cover perceptions; e.g., “. . . that could compromise, or could be perceived to compromise . . 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6F6-25DD-402B-AC10-C310A52792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Threats – Proposed Definition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ats are created by relationships or other circumstances that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mpromise a professional accountant’s ability to comply with the fundamental princi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to describe the action required after the definition of “threats” e.g., “Unless the relationship . . . is prohibited by this Code, a threat requires evaluation of the relationship . . . to determine whether it would compromise compliance . . . and, if so, application of safeguards . . 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4CB-B56A-4FA8-80E1-A085E354CB6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Interest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act in his or her own best interest, or in the best interest of a member of his or her immediate or close family member because of a potential benefit from a financial interest in or other relationship with a client of the employe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best interest” should be “interest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member of his or her immediate or close family member” should be “his or her firm, employer, or other person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hether “a potential benefit” is necessar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6B4-E80B-49F7-8A1F-8D83566DD01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Interest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4 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udit team having a direct financial interest in an audi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due dependence on total fees from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a significant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iness relationship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 about the possibility of losing a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employment with a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gent fees relating to an assurance eng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covery of a significant error in the performance of a re-evaluation of a professional services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48B-ACBE-43B8-BCAC-6071F7DF1C2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e objective to be achieved in relation to each I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ments designed to achieve stated objective will be identified by use of the word “shall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use of present te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174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ISA to contain application materia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further explanation and guidance supporting proper application of the stand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69EE-A0B2-44DC-84B4-256BB7D315B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Self-Review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not appropriately re-evaluate the results of a previous service that he or she will rely upon in forming a judgment as part of providing a current service or because he or she, or others within his or her firm or organization, performed the previous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“a current service” should be “another serv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0A48-CE56-4493-8D0C-2843E05C303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Self-Review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5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ing on the operation of financial systems after being involved with their design or implement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ving prepared the original data used to generate records that are the subject matter of th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a director or officer of that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assurance team being, or having recently been, employed by the client in a position to exert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forming a service for a client that directly affects the subject matter of the assurance engag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4AB8-05BE-40C7-A7EA-CF8F8872BEF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Advocac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threat that  a professional accountant who promotes a client’s or employer’s position may do so to the point that his or her objectivity is compromis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924-1D70-4955-AC46-54C4C78B589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Advocac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6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ing shares in a listed entity when that entity is a financial statement audit cli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ng as an advocate on behalf of an assurance client in litigation or disputes with third par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A631-716F-4987-992C-188084E35CD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Familiarity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become too sympathetic to the interests of a client or employer or will not appropriately evaluate the worked performed by the client or employer because the wor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involves issues that are familiar to the professional accountant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was performed by an individual familiar to the professional accountant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involves matters that the professional accountant has been closely associated with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as performed by an individual with whom the professional accountant has a close relationship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DBF3-48DF-4C33-A5C9-5E252813587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Familiarity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7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 director or officer of th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ember of the engagement team having a close or immediate family relationship with an employee of the client who is in a position to exert direct and significant influence over the subject matter of the engag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 director or officer of the client or an employee in a position to exert direct and significant influence over the subject matter of the engagement was recently a partner of the fi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pting gifts or preferential treatment from a client, unless the value is trivial or inconsequenti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8560" indent="-2685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association of senior personnel with the assurance cli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555-0CB0-4DDF-B17C-646A7CDBA1C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imidation Thre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hreat that a professional accountant will subordinate his or her judgment to that of [an individual associated with] a client or employer because of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) reputation, or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ii) because of their attempts to exercise excessive influence over him or her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s for discu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) should read “[the individual’s] reputation or expertis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ther (ii) should read “will be deterred from acting objectively because the [individual associated with the] client or employer is aggressive or dominant or attempts to exercise excessive influence over him or her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84FE-ADC4-4F14-B6F1-F37C31B41AC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ircumstances That Create Intimidation Threats </a:t>
            </a:r>
            <a:r>
              <a:rPr b="0" lang="en-US" sz="2800" spc="-1" strike="noStrike">
                <a:solidFill>
                  <a:srgbClr val="ffe870"/>
                </a:solidFill>
                <a:latin typeface="Times New Roman"/>
                <a:ea typeface="Times New Roman"/>
              </a:rPr>
              <a:t>¶200.8</a:t>
            </a:r>
            <a:endParaRPr b="0" lang="en-US" sz="28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dismissal or replacement in relation to a client eng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threatened with litigation by the cli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ing pressured to reduce inappropriately the extent of work performed in order to reduce fe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lient hires as part of its management team an expert on determining fair values of assets in the client’s indu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C459-BB91-4412-8B88-2E3B51DC194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870"/>
                </a:solidFill>
                <a:latin typeface="Times New Roman"/>
              </a:rPr>
              <a:t>Discuss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23FA-D166-4E5D-A0C6-693354067C00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AASB Clarity Convention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de based on a conceptual frame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jective:  comply with fundamental princi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arately stating objectives and converting text into application guidan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ld lengthen the Code; might weaken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not work well in the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ther other approaches would work requires a longer-term eff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D167-679E-40FD-ADF6-5D68023E545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not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0.2 “accountant should not be associated with . . . information . . . that [is] . . . false or misleading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should consider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40.8 “accountants should consider the following point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ountant is required to do someth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0.3 “it is . . . required by this Code . . . that members . . . be independen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A0A-67FA-41CD-A7FA-12B79E68CEB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is obliged to do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00.6 “accountant has an obligation to evaluate any threat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untant can do something if necessary steps are take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90.132 “the following safeguards are necessary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BF7-10DC-4EB2-BDF2-7C75274B25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Not a Requiremen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ement of expec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300.5 “accountant . . . is expected . . . to . . encourage an ethics-based cultu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CF35-91DB-4A78-95E0-D1955E53B72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Principl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hal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to be used to deno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quirement to comply with specific guidance (e.g., a fundamental princip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room for judgment; cannot “opt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ear prohibi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¶110.2 “accountant should not be associated wi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C0DF-6BB9-4335-9B8B-909247167E5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Effect of Approach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ll result in “shall” being used more often throughout the entire C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to December 2006 ED perceive Code is moving closer to “rules-base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“shall” could exacerbate this perce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can be based on principl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rrent wording retained if requirement is clea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B98-5B71-4343-B150-9594D115E3C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Jan Munro</cp:lastModifiedBy>
  <cp:lastPrinted>1997-03-19T15:56:24Z</cp:lastPrinted>
  <dcterms:modified xsi:type="dcterms:W3CDTF">2008-01-25T14:42:35Z</dcterms:modified>
  <cp:revision>632</cp:revision>
  <dc:subject/>
  <dc:title>INTERNATIONAL FEDERATION OF ACCOUNTANTS</dc:title>
</cp:coreProperties>
</file>