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894E-E0C6-4D3A-91A9-57A52368C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5318-7A0E-45D4-B175-AA5E9001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BCD7-FCBC-4DEE-BA17-8721DC1E8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C78B-4B5D-49D1-BE7F-71F731F42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3567-8A5B-4BF2-81C8-FB55D0BC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3532-6D9E-4359-82D8-22F1F018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9D77-6012-45B5-BB8E-0DCA393A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156C-0C4F-4A62-9CC5-B2547EFC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BC55-4265-46D5-BBD9-4E1EBBF3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1FE9-6ED0-4977-A22C-B2B80A65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0194-7A5E-44FF-A4A1-74D2079E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19D3-4994-4F29-A829-36546E2F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B890-2D7B-4EB6-9902-61977EA1C9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8877240" cy="177840"/>
          </a:xfrm>
          <a:prstGeom prst="rect">
            <a:avLst/>
          </a:prstGeom>
          <a:gradFill rotWithShape="0">
            <a:gsLst>
              <a:gs pos="0">
                <a:srgbClr val="00859a"/>
              </a:gs>
              <a:gs pos="100000">
                <a:srgbClr val="0027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388200"/>
            <a:ext cx="8877240" cy="457200"/>
          </a:xfrm>
          <a:prstGeom prst="rect">
            <a:avLst/>
          </a:prstGeom>
          <a:gradFill rotWithShape="0">
            <a:gsLst>
              <a:gs pos="0">
                <a:srgbClr val="00859a"/>
              </a:gs>
              <a:gs pos="100000">
                <a:srgbClr val="0027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8720" indent="-28872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8737560" y="0"/>
            <a:ext cx="393840" cy="6845400"/>
            <a:chOff x="8737560" y="0"/>
            <a:chExt cx="393840" cy="6845400"/>
          </a:xfrm>
        </p:grpSpPr>
        <p:sp>
          <p:nvSpPr>
            <p:cNvPr id="8" name=""/>
            <p:cNvSpPr/>
            <p:nvPr/>
          </p:nvSpPr>
          <p:spPr>
            <a:xfrm>
              <a:off x="8737560" y="0"/>
              <a:ext cx="166680" cy="6845400"/>
            </a:xfrm>
            <a:prstGeom prst="rect">
              <a:avLst/>
            </a:prstGeom>
            <a:gradFill rotWithShape="0">
              <a:gsLst>
                <a:gs pos="0">
                  <a:srgbClr val="b1a14d"/>
                </a:gs>
                <a:gs pos="50000">
                  <a:srgbClr val="ffe870"/>
                </a:gs>
                <a:gs pos="100000">
                  <a:srgbClr val="b1a1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964720" y="0"/>
              <a:ext cx="166680" cy="6845400"/>
            </a:xfrm>
            <a:prstGeom prst="rect">
              <a:avLst/>
            </a:prstGeom>
            <a:gradFill rotWithShape="0">
              <a:gsLst>
                <a:gs pos="0">
                  <a:srgbClr val="009b8c"/>
                </a:gs>
                <a:gs pos="50000">
                  <a:srgbClr val="00dfca"/>
                </a:gs>
                <a:gs pos="100000">
                  <a:srgbClr val="009b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125280" y="0"/>
            <a:ext cx="217800" cy="278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25280" y="0"/>
            <a:ext cx="90720" cy="2781360"/>
          </a:xfrm>
          <a:prstGeom prst="rect">
            <a:avLst/>
          </a:prstGeom>
          <a:gradFill rotWithShape="0">
            <a:gsLst>
              <a:gs pos="0">
                <a:srgbClr val="b1a14d"/>
              </a:gs>
              <a:gs pos="50000">
                <a:srgbClr val="ffe870"/>
              </a:gs>
              <a:gs pos="100000">
                <a:srgbClr val="b1a14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52360" y="0"/>
            <a:ext cx="90720" cy="2781360"/>
          </a:xfrm>
          <a:prstGeom prst="rect">
            <a:avLst/>
          </a:prstGeom>
          <a:gradFill rotWithShape="0">
            <a:gsLst>
              <a:gs pos="0">
                <a:srgbClr val="009b8c"/>
              </a:gs>
              <a:gs pos="50000">
                <a:srgbClr val="00dfca"/>
              </a:gs>
              <a:gs pos="100000">
                <a:srgbClr val="009b8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Drafting Convention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n Dakddu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ask Force Chai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261B-38AF-4F89-8EB3-E426E0B375F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learly Insignifican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de 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100.2)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ication of threats to compliance with the fundamental principl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luation of the significance of the threats;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threats are no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learly insignificant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ication of safeguards to eliminate them or reduce them to a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cceptable lev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E69B-B6E6-4F85-AE1F-D6EDE9713B8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learly Insignifican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learly insignifica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lower tha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cceptabl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early insignificant means trivial and inconsequ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definition of “acceptable level” in the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gree it is slightly higher than clearly insignifica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hreat is already at an acceptable level (before safeguards applied), no safeguards requi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cumentation for independence purposes required only when safeguards are needed to reduce threats to an acceptabl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1A20-C0B0-4155-98FD-1FE1B7FC568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ask Force Proposal – Eliminate Use of “Clearly Insignificant”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fessional accountants shall apply this conceptual framework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y threats to compliance with the fundamental principle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luate the significance of the threats,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y safeguards, when necessary, to eliminate threats or reduce them to an acceptabl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30F3-AF8C-457A-9C64-DC14EA47D06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ask Force Proposal – Define “Acceptable Level”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evel at which a reasonable and informed third party would be likely to conclude, weighing all the specific facts and circumstances, that compliance with the fundamental principles is not compromis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0B0A-B5D2-45BB-A7E4-E83BF4198AA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learly Insignificant – Other Interaction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lete “clearly insignificant” throughout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fts and hospitality – refer to “trivial and inconsequential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se business relationships – may use “insignifican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F334-1E4C-4A77-89AD-D6F2CA4FE81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ask Force Proposal – Documentation Conforming Change (290.29)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ocumentation is not by itself a determinant of whether a firm is independent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ternational auditing standards require documentation of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onclusions regarding compliance with independence requirements, and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ny relevant discussions that support those conclusions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When threats require the application of safeguards, that documentation shall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describ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he nature of those threat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he safeguards applied to eliminate them or reduce them to an acceptable leve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1BCA-6E07-4992-B86C-21662C8087C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onsider v. evaluate v. determine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der” used frequently in the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ld be interpreted as less robust than inten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sk Force proposa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ider = thinking about several mat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luate = assessing and weig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e = concluding and making a dec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C090-07DB-4C49-A11B-5E33358A6E5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onsider v. evaluate v. determine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100.17 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initiating . . . a . . . conflict resolution process, a professional accountant shall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sid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follow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ider” is used consistent with our drafting convention; no chan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290.11 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onsidering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valuat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significance of any particular matter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nged “considering” to “evaluating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290.157 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fore a firm accepts an engagement . . . consideration should be given to  it shall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termin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whether providing such a service would create a thr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nged “consideration should be given to” to “determine”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43200" y="3657600"/>
            <a:ext cx="1295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066680" y="4876560"/>
            <a:ext cx="4038840" cy="7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EA09-CA42-408E-8608-13629BBFF29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Examples/Illustrate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f “examples/illustrates” might convey that guidance is not manda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200.1 – This Part of the Cod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llustra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how the CF . . .  is to be appl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d “illustrates” to “demonstrate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0822-5467-4B25-B5DB-6DE2C0FB425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” or “may create” a thr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e does not define “threats”; for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200.4  Examples of circumstance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ay cre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lf-interest threats…include…undue dependence on total fees from a cli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290.129 Threats to independenc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ay be crea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hen a close family member…is a director…of the client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FF6C-D7D9-429E-997A-335AB6DF5B4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ications of IAASB Clarity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early insignifican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der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s” or “illustrate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s a threat” or “may create a threa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at defin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4E76-C1A0-4ACA-8CC5-5D25319A559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Description of Five Categories of Threat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ptual framework approach first set out in independence section of Co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mework later expanded to cover entire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criptions of threat categories (self review, self interest, advocacy, intimidation, familiarity) were made more gener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E51A-9186-4E2D-AC6C-D828FC2127A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ask Force Proposal – Threat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clarify when a threa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s crea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y be crea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 general definition of a “threat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requirement to exercise professional judgment is reta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 defining individual threa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f review, self interest, advocacy, intimidation, and familia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CCFA-3C93-4BB7-B77E-0469216DFBC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.e., the circumstance provides an incentive for the accountant to not comply with the fundamental princi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ndamental principles = integrity, objectivity, professional competence &amp; due care, confidentiality, and professional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030F-AE19-4290-A7BA-A9DFFDCBC5C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ld compromise” means a threat requires evaluation of the relationship or circumstance to determine whether it would compromise compli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plicit prohibition against the relationship or circumstance makes evaluation unnecess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E4E2-3259-437D-96E2-96293AFDB16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relationships and circumstances described in the Code would “create” a thre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ll require changing “may create a threat” to “creates a threat” in many parts of the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C6F5-0B9B-4473-971F-88E7B22D9150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ther to focus on incentives not to comply; e.g.,  “relationships . . . that could provide an incentive for an accountant to not comply with the fundamental principles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07CD-6E46-4996-8F27-D45989F665A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ther the definition should cover perceptions; e.g., “. . . that could compromise, or could be perceived to compromise . . .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0516-3427-43BB-8E9E-4647AA06B26A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ther to describe the action required after the definition of “threats” e.g., “Unless the relationship . . . is prohibited by this Code, a threat requires evaluation of the relationship . . . to determine whether it would compromise compliance . . . and, if so, application of safeguards . . .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544A-EFA8-47F5-B175-905ED6E492F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Self-Interest Thre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hreat that a professional accountant will act in his or her own best interest, or in the best interest of a member of his or her immediate or close family member because of a potential benefit from a financial interest in or other relationship with a client of the employ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hether “best interest” should be “interest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hether “a member of his or her immediate or close family member” should be “his or her firm, employer, or other persons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hether “a potential benefit” is necessar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3973-7B1C-4C08-A346-001607AB6382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ircumstances That Create Self-Interest Threats </a:t>
            </a:r>
            <a:r>
              <a:rPr b="0" lang="en-US" sz="2800" spc="-1" strike="noStrike">
                <a:solidFill>
                  <a:srgbClr val="ffe870"/>
                </a:solidFill>
                <a:latin typeface="Times New Roman"/>
                <a:ea typeface="Times New Roman"/>
              </a:rPr>
              <a:t>¶200.4 </a:t>
            </a:r>
            <a:endParaRPr b="0" lang="en-US" sz="28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mber of the audit team having a direct financial interest in an audit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due dependence on total fees from a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ing a significant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siness relationship with a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cern about the possibility of losing a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tential employment with a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gent fees relating to an assurance eng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scovery of a significant error in the performance of a re-evaluation of a professional services engage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1E2E-FF71-40AD-9B31-022B01E3BA6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IAASB Clarity Convention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17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 objective to be achieved in relation to each I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7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ments designed to achieve stated objective will be identified by use of the word “shall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7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use of present te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7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ISA to contain application materi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vides further explanation and guidance supporting proper application of the stand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030C-D00D-4338-ACAE-A3CD81E29CB5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Self-Review Thre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hreat that a professional accountant will not appropriately re-evaluate the results of a previous service that he or she will rely upon in forming a judgment as part of providing a current service or because he or she, or others within his or her firm or organization, performed the previous servi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ther “a current service” should be “another servic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6442-91E1-4095-820A-00CB8E13CDF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ircumstances That Create Self-Review Threats </a:t>
            </a:r>
            <a:r>
              <a:rPr b="0" lang="en-US" sz="2800" spc="-1" strike="noStrike">
                <a:solidFill>
                  <a:srgbClr val="ffe870"/>
                </a:solidFill>
                <a:latin typeface="Times New Roman"/>
                <a:ea typeface="Times New Roman"/>
              </a:rPr>
              <a:t>¶200.5</a:t>
            </a:r>
            <a:endParaRPr b="0" lang="en-US" sz="28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orting on the operation of financial systems after being involved with their design or implement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ing prepared the original data used to generate records that are the subject matter of the engage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mber of the assurance team being, or having recently been, a director or officer of that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mber of the assurance team being, or having recently been, employed by the client in a position to exert significant influence over the subject matter of the engage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forming a service for a client that directly affects the subject matter of the assurance engage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FF77-B3B7-4948-AA44-FF89A781DB15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Advocacy Thre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hreat that  a professional accountant who promotes a client’s or employer’s position may do so to the point that his or her objectivity is compromis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59C4-1B92-4CE2-BBA0-7D32BE38F583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ircumstances That Create Advocacy Threats </a:t>
            </a:r>
            <a:r>
              <a:rPr b="0" lang="en-US" sz="2800" spc="-1" strike="noStrike">
                <a:solidFill>
                  <a:srgbClr val="ffe870"/>
                </a:solidFill>
                <a:latin typeface="Times New Roman"/>
                <a:ea typeface="Times New Roman"/>
              </a:rPr>
              <a:t>¶200.6</a:t>
            </a:r>
            <a:endParaRPr b="0" lang="en-US" sz="28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moting shares in a listed entity when that entity is a financial statement audit cli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ing as an advocate on behalf of an assurance client in litigation or disputes with third par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2086-0601-42D4-A869-65CB97FF0719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Familiarity Thre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hreat that a professional accountant will become too sympathetic to the interests of a client or employer or will not appropriately evaluate the worked performed by the client or employer because the work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(i) involves issues that are familiar to the professional accountant, or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(ii) was performed by an individual familiar to the professional accountant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ther (i) should read “involves matters that the professional accountant has been closely associated with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ther (ii) should read “was performed by an individual with whom the professional accountant has a close relationship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E6B8-62B7-4CCE-A7D1-3D73D9B5078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ircumstances That Create Familiarity Threats </a:t>
            </a:r>
            <a:r>
              <a:rPr b="0" lang="en-US" sz="2800" spc="-1" strike="noStrike">
                <a:solidFill>
                  <a:srgbClr val="ffe870"/>
                </a:solidFill>
                <a:latin typeface="Times New Roman"/>
                <a:ea typeface="Times New Roman"/>
              </a:rPr>
              <a:t>¶200.7</a:t>
            </a:r>
            <a:endParaRPr b="0" lang="en-US" sz="28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268560" indent="-2685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mber of the engagement team having a close or immediate family relationship with a director or officer of the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mber of the engagement team having a close or immediate family relationship with an employee of the client who is in a position to exert direct and significant influence over the subject matter of the engage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 director or officer of the client or an employee in a position to exert direct and significant influence over the subject matter of the engagement was recently a partner of the fi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epting gifts or preferential treatment from a client, unless the value is trivial or inconsequential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association of senior personnel with the assurance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A7B7-B6CB-45AC-8919-3124C9808EC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Intimidation Thre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hreat that a professional accountant will subordinate his or her judgment to that of [an individual associated with] a client or employer because of the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(i) reputation, or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(ii) because of their attempts to exercise excessive influence over him or her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ther (i) should read “[the individual’s] reputation or expertise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ther (ii) should read “will be deterred from acting objectively because the [individual associated with the] client or employer is aggressive or dominant or attempts to exercise excessive influence over him or her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18E1-9E8E-4991-9365-A0C195402259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ircumstances That Create Intimidation Threats </a:t>
            </a:r>
            <a:r>
              <a:rPr b="0" lang="en-US" sz="2800" spc="-1" strike="noStrike">
                <a:solidFill>
                  <a:srgbClr val="ffe870"/>
                </a:solidFill>
                <a:latin typeface="Times New Roman"/>
                <a:ea typeface="Times New Roman"/>
              </a:rPr>
              <a:t>¶200.8</a:t>
            </a:r>
            <a:endParaRPr b="0" lang="en-US" sz="28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ing threatened with dismissal or replacement in relation to a client eng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ing threatened with litigation by the cli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ing pressured to reduce inappropriately the extent of work performed in order to reduce f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lient hires as part of its management team an expert on determining fair values of assets in the client’s indus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01AA-17D2-495D-9529-89AC2EBF01D4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870"/>
                </a:solidFill>
                <a:latin typeface="Times New Roman"/>
              </a:rPr>
              <a:t>Discussion</a:t>
            </a:r>
            <a:endParaRPr b="0" lang="en-US" sz="44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5786-6042-4DED-8C70-5EDD5CFD790C}" type="slidenum">
              <a:t>38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IAASB Clarity Convention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de based on a conceptual frame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jective:  comply with fundamental princi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arately stating objectives and converting text into application guidan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ld lengthen the Code; might weaken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lus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uld not work well in the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ther other approaches would work requires a longer-term eff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BA6C-5528-48FD-A0F7-0AA4C2EA9C7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Requirement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ountant should not do someth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0.2 “accountant should not be associated with . . . information . . . that [is] . . . false or misleading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ountant should consider someth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40.8 “accountants should consider the following point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ountant is required to do someth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90.3 “it is . . . required by this Code . . . that members . . . be independent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F13D-4B50-4D99-88D4-EFB8DE9DC55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Requirement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untant is obliged to do somet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100.6 “accountant has an obligation to evaluate any threat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untant can do something if necessary steps are tak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90.132 “the following safeguards are necessary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FAF1-0C86-4981-8DAD-46D5C411838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Not a Requiremen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ement of expec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300.5 “accountant . . . is expected . . . to . . encourage an ethics-based cultur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AD45-08D6-4F8D-9032-3CC435D822A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Principle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ha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to be used to deno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requirement to comply with specific guidance (e.g., a fundamental princip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room for judgment; cannot “opt out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lear prohibi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110.2 “accountant should not be associated with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40B5-967C-4ACD-B7E5-1C3B5F416D7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Effect of Approach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ll result in “shall” being used more often throughout the entire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pondents to December 2006 ED perceive Code is moving closer to “rules-based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of “shall” could exacerbate this perce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les can be based on principl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rrent wording retained if requirement is clea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45AA-C0AC-4A9F-AE6A-E3893ED6C0B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0T22:18:34Z</dcterms:created>
  <dc:creator>Steven H. Goldthwaite</dc:creator>
  <dc:description/>
  <cp:keywords/>
  <dc:language>en-US</dc:language>
  <cp:lastModifiedBy>Jan Munro</cp:lastModifiedBy>
  <cp:lastPrinted>1997-03-19T15:56:24Z</cp:lastPrinted>
  <dcterms:modified xsi:type="dcterms:W3CDTF">2008-01-25T14:42:35Z</dcterms:modified>
  <cp:revision>632</cp:revision>
  <dc:subject/>
  <dc:title>INTERNATIONAL FEDERATION OF ACCOUNTANTS</dc:title>
</cp:coreProperties>
</file>