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C954-9763-4674-8E1E-574BE1BC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FB8-CD40-4A66-9AC5-CE2FB0CB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B29C-F004-43EB-9978-948B20EC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88D5-2098-4466-B26C-99D252A1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7FD-F74A-4C66-9125-C7DCF844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5EC-2CD8-4E0F-9645-32B0F841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E202-AA81-4C14-8701-540FA81A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794B-37E0-4EE0-92B5-A51F8C1F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A913-8135-41F6-8D9E-98409926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E1C-62D3-4B0B-A483-DD3C34F9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F161-88B8-428D-AC25-120BFAAC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651-3F62-4E07-B1BC-4973497E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EBD2-7DC6-4EC1-AFFE-E0806D445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8877240" cy="17784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88200"/>
            <a:ext cx="8877240" cy="45720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8720" indent="-28872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8737560" y="0"/>
            <a:ext cx="393840" cy="6845400"/>
            <a:chOff x="8737560" y="0"/>
            <a:chExt cx="393840" cy="6845400"/>
          </a:xfrm>
        </p:grpSpPr>
        <p:sp>
          <p:nvSpPr>
            <p:cNvPr id="8" name=""/>
            <p:cNvSpPr/>
            <p:nvPr/>
          </p:nvSpPr>
          <p:spPr>
            <a:xfrm>
              <a:off x="873756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b1a14d"/>
                </a:gs>
                <a:gs pos="50000">
                  <a:srgbClr val="ffe870"/>
                </a:gs>
                <a:gs pos="100000">
                  <a:srgbClr val="b1a1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96472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009b8c"/>
                </a:gs>
                <a:gs pos="50000">
                  <a:srgbClr val="00dfca"/>
                </a:gs>
                <a:gs pos="100000">
                  <a:srgbClr val="009b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125280" y="0"/>
            <a:ext cx="2178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528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b1a14d"/>
              </a:gs>
              <a:gs pos="50000">
                <a:srgbClr val="ffe870"/>
              </a:gs>
              <a:gs pos="100000">
                <a:srgbClr val="b1a1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5236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rafting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n Dakddu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 Force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46A-53BC-4D4A-9A77-F0B5CC0E3D6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de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2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tion of threats to compliance with the fundamental princip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ion of the significance of the threats;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reats are no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of safeguards to eliminate them or reduce them to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DC8F-DC68-4F91-86B6-FBD9B24A5F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lower th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ly insignificant means trivial and inconsequ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finition of “acceptable level”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ree it is slightly higher than clearly insignific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reat is already at an acceptable level (before safeguards applied), no safeguards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umentation for independence purposes required only when safeguards are needed to reduce threats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A6AC-7D99-4D9C-9498-FD895928735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Eliminate Use of “Clearly Insignificant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essional accountants shall apply this conceptual framework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threats to compliance with the fundamental principl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the significance of the threats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safeguards, when necessary, to eliminate threats or reduce them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C3EE-FDAF-436A-95FF-DF279F8B65F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efine “Acceptable Level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evel at which a reasonable and informed third party would be likely to conclude, weighing all the specific facts and circumstances, that compliance with the fundamental principles is not compromi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8327-71D3-46C4-9CE6-D10215A1F1C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 – Other Interac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ete “clearly insignificant” throughout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fts and hospitality – refer to “trivial and inconsequenti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 business relationships – may use “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1BA4-04A8-4537-B280-B9CA7E4BCD2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ocumentation Conforming Change (290.29)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ocumentation is not by itself a determinant of whether a firm is independent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ternational auditing standards require documentation of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clusions regarding compliance with independence requirements, an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ny relevant discussions that support those conclusion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en threats require the application of safeguards, that documentation shall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escrib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nature of those threat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safeguards applied to eliminate them or reduce them to an acceptabl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B38-2B62-4FCA-813F-CD30D04F345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 used frequently in th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be interpreted as less robust than int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k Force propos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= thinking about several ma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= assessing and weig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= concluding and making a dec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E7E-3053-4442-89FF-4B26BA84D60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1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initiating . . . a . . . conflict resolution process, a professional accountan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i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follow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” is used consistent with our drafting convention; no 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1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nsider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valua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ignificance of any particular matt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ing” to “evaluating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5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a firm accepts an engagement . . . consideration should be given to  i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term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hether providing such a service would create a thr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ation should be given to” to “determine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36576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066680" y="4876560"/>
            <a:ext cx="403884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E17-F8B4-4FA2-B853-5F2D327C773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xamples/Illustrat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“examples/illustrates” might convey that guidance is not mand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1 – This Part of the Co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llustr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w the CF . . .  is to b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d “illustrates” to “demonstra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AC7-75DE-42C4-89B2-D76B840E67B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” or “may create” a thr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does not define “threats”; fo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4  Examples of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cre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lf-interest threats…include…undue dependence on total fees from a c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29 Threats to independenc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be cre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en a close family member…is a director…of the client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0B59-6954-404A-B55E-F4AE1B1574B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ications of IAASB Clarity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rly 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” or “illustrat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a threat” or “may create a threa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at defin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23EE-B1CC-4853-BCF5-CC54FD683B4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escription of Five Categories of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framework approach first set out in independence section of C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work later expanded to cover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ptions of threat categories (self review, self interest, advocacy, intimidation, familiarity) were made more gene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D99-D374-4EB6-932D-614791C6E76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larify when a thre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s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y be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general definition of a “threa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requirement to exercise professional judgment is re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 defining individual thre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 review, self interest, advocacy, intimidation, and famili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2F8-ACFB-4449-9723-ACCFBFBC167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.e., the circumstance provides an incentive for the accountant to not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damental principles = integrity, objectivity, professional competence &amp; due care, confidentiality, and professional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88F-561A-4A27-B9B2-F2B017B4DA0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ld compromise” means a threat requires evaluation of the relationship or circumstance to determine whether it would compromise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licit prohibition against the relationship or circumstance makes evaluation unnecess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8C5-D798-47D3-8E67-732E15BEC80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relationships and circumstances described in the Code would “create” a 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require changing “may create a threat” to “creates a threat” in many parts of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C46-7537-42ED-9D5B-0ED27C36B24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o focus on incentives not to comply; e.g.,  “relationships . . . that could provide an incentive for an accountant to not comply with the fundamental principles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B4D-B0AB-4EA0-BE50-D9BFE23314A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he definition should cover perceptions; e.g., “. . . that could compromise, or could be perceived to compromise . . .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6464-476A-410A-B1C7-04887534463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to describe the action required after the definition of “threats” e.g., “Unless the relationship . . . is prohibited by this Code, a threat requires evaluation of the relationship . . . to determine whether it would compromise compliance . . . and, if so, application of safeguards . . 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47D1-17B3-481C-B97E-B1242F5C55E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Interest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act in his or her own best interest, or in the best interest of a member of his or her immediate or close family member because of a potential benefit from a financial interest in or other relationship with a client of the employ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best interest” should be “interest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member of his or her immediate or close family member” should be “his or her firm, employer, or other persons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potential benefit” is necessa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3944-B9DA-45A9-82F1-07213A76861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Interest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4 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udit team having a direct financial interest in an audi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ue dependence on total fees from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a significan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 relationship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 about the possibility of losing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employment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gent fees relating to an assurance eng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covery of a significant error in the performance of a re-evaluation of a professional services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092-0612-4349-B914-4E8424FB44D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objective to be achieved in relation to each I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designed to achieve stated objective will be identified by use of the word “shal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use of present t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A to contain application materi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further explanation and guidance supporting proper application of the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E8E-48CC-4D86-A581-AE85BC20106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Review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not appropriately re-evaluate the results of a previous service that he or she will rely upon in forming a judgment as part of providing a current service or because he or she, or others within his or her firm or organization, performed the previous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“a current service” should be “another servi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294F-602B-4268-8B76-C4223B858E3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Review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5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ing on the operation of financial systems after being involved with their design or implement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prepared the original data used to generate records that are the subject matter of th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a director or officer of tha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employed by the client in a position to exert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orming a service for a client that directly affects the subject matter of the assuranc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836-BF07-492C-8F47-1D558757686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Advocac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reat that  a professional accountant who promotes a client’s or employer’s position may do so to the point that his or her objectivity is compromis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4A6-6D3D-406A-ABB8-DAC56C1CF83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Advocac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6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ing shares in a listed entity when that entity is a financial statement audit cli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ng as an advocate on behalf of an assurance client in litigation or disputes with third par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28C3-8990-4466-B9BA-2D3EE77B386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amiliarit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become too sympathetic to the interests of a client or employer or will not appropriately evaluate the worked performed by the client or employer because the wor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involves issues that are familiar to the professional accountant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was performed by an individual familiar to the professional accountant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involves matters that the professional accountant has been closely associated with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as performed by an individual with whom the professional accountant has a close relationship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77A-ADF3-44AB-87BF-0AFF1415D02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Familiarit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7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 director or officer of th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n employee of the client who is in a position to exert direct and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director or officer of the client or an employee in a position to exert direct and significant influence over the subject matter of the engagement was recently a partner of the fi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pting gifts or preferential treatment from a client, unless the value is trivial or inconsequential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association of senior personnel with the assuranc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DE7C-8EA3-4C0D-9D2F-18ADACB3153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imidation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subordinate his or her judgment to that of [an individual associated with] a client or employer because of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reputation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because of their attempts to exercise excessive influence over him or her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[the individual’s] reputation or expertis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ill be deterred from acting objectively because the [individual associated with the] client or employer is aggressive or dominant or attempts to exercise excessive influence over him or he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991-46D0-4B47-BCBA-DE80DE98578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Intimidation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8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dismissal or replacement in relation to a client eng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litigation by the cli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pressured to reduce inappropriately the extent of work performed in order to reduce f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lient hires as part of its management team an expert on determining fair values of assets in the client’s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057-A143-4D72-B79D-273675144F5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87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3CCE-64E2-42B8-A1FC-9742A3AA9EFC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based on a conceptual fra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ive:  comply with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ly stating objectives and converting text into application guid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lengthen the Code; might weaken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uld not work well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other approaches would work requires a longer-term ef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E4E6-541D-45B1-BCF0-3AA321B7845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not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0.2 “accountant should not be associated with . . . information . . . that [is] . . . false or misleading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consider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0.8 “accountants should consider the following point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is required to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0.3 “it is . . . required by this Code . . . that members . . . be independen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AF9-D288-4973-9E55-07DE1BC91AF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is obliged to do some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6 “accountant has an obligation to evaluate any threa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can do something if necessary steps are tak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90.132 “the following safeguards are necessar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484-B547-40A7-8AAA-53C4718BEB1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Not a Requireme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ment of expec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300.5 “accountant . . . is expected . . . to . . encourage an ethics-based cultur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14A-AEE4-4E81-A34B-6BB6B16047D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Principl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h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to be used to deno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quirement to comply with specific guidance (e.g., a fundamental princip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room for judgment; cannot “opt ou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ear prohib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10.2 “accountant should not be associated wit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BB7F-79D7-4257-8208-B9E4DC02337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ffect of Approach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result in “shall” being used more often throughout the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nts to December 2006 ED perceive Code is moving closer to “rules-bas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“shall” could exacerbate this per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les can be based on princip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wording retained if requirement is cle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E8D3-2DCD-4BE1-9E99-0E6AC5D7259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0T22:18:34Z</dcterms:created>
  <dc:creator>Steven H. Goldthwaite</dc:creator>
  <dc:description/>
  <cp:keywords/>
  <dc:language>en-US</dc:language>
  <cp:lastModifiedBy>Jan Munro</cp:lastModifiedBy>
  <cp:lastPrinted>1997-03-19T15:56:24Z</cp:lastPrinted>
  <dcterms:modified xsi:type="dcterms:W3CDTF">2008-01-25T14:42:35Z</dcterms:modified>
  <cp:revision>632</cp:revision>
  <dc:subject/>
  <dc:title>INTERNATIONAL FEDERATION OF ACCOUNTANTS</dc:title>
</cp:coreProperties>
</file>